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532BA-A617-4D53-BE29-C26E3A71B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71FB6-2694-4D1A-88A3-A65683C82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E618C-0C4A-4499-924B-80DE56AB6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6AD6F-39D1-4444-A2FB-DEE361631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05C59-1FD1-483D-BE26-225192AB5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244CD-4D76-4B09-947B-0A4470A0B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6383D-1DFE-4BB2-AA77-1F3FAE016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0C70F-DFAE-4BCB-A640-DD3A5603F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1F203-693F-4DF7-A907-955CAD917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E90E8-749A-410C-80A8-40F070D79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7861F-DE06-4AF7-80B6-4C3E7F813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4F237-879B-4F70-A5A8-895A26D74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htfgh fdgh"/>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a94a94"/>
                </a:solidFill>
                <a:latin typeface="Arial"/>
                <a:ea typeface="宋体"/>
              </a:rPr>
              <a:t>Page </a:t>
            </a:r>
            <a:fld id="{4D0A7ED8-4CA6-4852-ABF7-5426A8CE889E}" type="slidenum">
              <a:rPr b="1" lang="fr-FR" sz="1800" spc="-1" strike="noStrike">
                <a:solidFill>
                  <a:srgbClr val="a94a94"/>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8215-FACA-49F2-A792-867FFE8C74F2}"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1CCD-C464-42ED-BE06-6768B0F2CDB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jkuyjfgnvb bcvb"/>
          <p:cNvPicPr/>
          <p:nvPr/>
        </p:nvPicPr>
        <p:blipFill>
          <a:blip r:embed="rId1"/>
          <a:stretch/>
        </p:blipFill>
        <p:spPr>
          <a:xfrm>
            <a:off x="0" y="0"/>
            <a:ext cx="9144000" cy="6858000"/>
          </a:xfrm>
          <a:prstGeom prst="rect">
            <a:avLst/>
          </a:prstGeom>
          <a:ln w="0">
            <a:noFill/>
          </a:ln>
        </p:spPr>
      </p:pic>
      <p:sp>
        <p:nvSpPr>
          <p:cNvPr id="80" name="Text Box 3"/>
          <p:cNvSpPr/>
          <p:nvPr/>
        </p:nvSpPr>
        <p:spPr>
          <a:xfrm>
            <a:off x="1310400" y="5084640"/>
            <a:ext cx="642168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a94a94"/>
                </a:solidFill>
                <a:latin typeface="Verdana"/>
                <a:ea typeface="宋体"/>
              </a:rPr>
              <a:t>Name Of Presentatio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4584960" y="700200"/>
            <a:ext cx="244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Verdana"/>
                <a:ea typeface="宋体"/>
              </a:rPr>
              <a:t>First Page</a:t>
            </a:r>
            <a:endParaRPr b="0" lang="en-US" sz="3600" spc="-1" strike="noStrike">
              <a:solidFill>
                <a:srgbClr val="000000"/>
              </a:solidFill>
              <a:latin typeface="Arial"/>
            </a:endParaRPr>
          </a:p>
        </p:txBody>
      </p:sp>
      <p:sp>
        <p:nvSpPr>
          <p:cNvPr id="82" name="Text Box 3"/>
          <p:cNvSpPr/>
          <p:nvPr/>
        </p:nvSpPr>
        <p:spPr>
          <a:xfrm>
            <a:off x="1835280" y="2131920"/>
            <a:ext cx="568800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94a94"/>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343760" y="700200"/>
            <a:ext cx="305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Verdana"/>
                <a:ea typeface="宋体"/>
              </a:rPr>
              <a:t>Second Page</a:t>
            </a:r>
            <a:endParaRPr b="0" lang="en-US" sz="3600" spc="-1" strike="noStrike">
              <a:solidFill>
                <a:srgbClr val="000000"/>
              </a:solidFill>
              <a:latin typeface="Arial"/>
            </a:endParaRPr>
          </a:p>
        </p:txBody>
      </p:sp>
      <p:sp>
        <p:nvSpPr>
          <p:cNvPr id="84" name="Text Box 3"/>
          <p:cNvSpPr/>
          <p:nvPr/>
        </p:nvSpPr>
        <p:spPr>
          <a:xfrm>
            <a:off x="1835280" y="2131920"/>
            <a:ext cx="568800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94a94"/>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13T04:27:15Z</dcterms:modified>
  <cp:revision>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