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8999538" cy="6011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E1C4-048B-4854-AD62-65F9D774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BF99-1C79-4533-B7BA-0D316E3A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1C7-6401-4BFA-8B6C-64624739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2D61-2C3F-46EE-B897-A0E1776F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7EB3-B4CE-498C-90A5-4A99A4DB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B599-3DE5-4AE8-8532-1E57823D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A999-D62B-462E-A22D-44EA2066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7AE4-E99B-4E28-A8E4-619B8982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F4A5-04E2-4D4C-B461-8BA11C6E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4917-5785-4279-A2C9-2C63CC3A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39FA-527B-4802-B546-200CD3D9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DF72-EF8F-466A-A84B-5665EC04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F1B3-4C2C-4A8D-99D8-120247B4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068C-5481-4D63-BF85-25BCEACD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23B4-C717-401D-9344-83ECA7F4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6419-FD40-450E-9EB1-BD282E4B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124E-3927-4354-B219-AFAB6FA6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25E4D-AF41-4712-9BDC-582CDAEF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3FC53-DD39-4F46-996A-D25EA87C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60CAC-5DFC-4CBF-84C3-C492EF28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DE475-81A8-4F96-8049-0AFBBC47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336DC-23D4-493D-9751-50C0EA6E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B72C-1717-47CA-A548-131411A2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34965-A52A-4318-959A-6E10EEFD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4BA08-468E-4A77-87AC-84F9B82C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99F86-3985-4AC6-961B-8F543E1C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0AD6D-31CC-450A-B087-E09A055B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6A783-BDC2-4AE9-8811-E6A10DF8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CCA70-1A5B-4BAB-AE1D-97C47170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EE542-0F76-4E31-A022-F497E350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68240-5859-4476-922A-958D6061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C66FE-2E34-42B6-B6EF-FFD8062A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BD446-97FE-4391-A8E7-58E01CC7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C7D-E394-4EE2-8158-8DC23C18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9197B-58F2-4D09-BD99-BE1E61C0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24441-DCC6-4B50-8CA0-8269863D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11F02-3EB4-4E1A-9041-78ECB4B3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492FE-5E67-42A2-B01F-2765C9A5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6C06B-6349-45F6-931B-A953CD6C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AC617-427A-4468-AA3A-BB3C76B6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67131-D265-47A6-9D12-28176948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AE1B3-7F88-4128-B3E1-87B3E2A9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780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27040" y="140328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4892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780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27040" y="3475440"/>
            <a:ext cx="2608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940A2-D808-41E5-86FB-7E6E7165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9EB-2D77-4AFB-8949-0533365B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8920" y="240840"/>
            <a:ext cx="810108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A7F7-B9B7-4FD2-80E4-1A7C586A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1684-E55F-45E8-BB5C-45B35B4C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080" y="347544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266B-7958-4113-8E27-F70F2F9C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892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080" y="1403280"/>
            <a:ext cx="395316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8920" y="3475440"/>
            <a:ext cx="810108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3F3-23BD-4C6C-8EF8-BBFF9D02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C71A-7324-490B-A569-DCEB92ACD0D1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2950-4116-4663-8D0D-1C095D1BA8F3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4440" indent="-334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5760" indent="-279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5640" indent="-2228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28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9632-F877-49F2-B616-FDEAB71CB776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FD21-EEE0-4017-8086-079C708D1099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8920" y="240840"/>
            <a:ext cx="810108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48920" y="1403280"/>
            <a:ext cx="810108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0880" indent="-2491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1880" indent="-200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199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4928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D218-2AB8-4EBE-B77D-0BC2042CA0A6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74760" y="5475240"/>
            <a:ext cx="28494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0120" y="5475240"/>
            <a:ext cx="21002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AE40-C04B-4190-B167-0179CEC8247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4440" indent="-334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5760" indent="-279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5640" indent="-2228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28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72B7-C143-4CDF-AC87-49ECC7A9C6C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A8BA-F924-41E1-9A86-5099CCA1BB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wg_blurred_backgrounds_11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4280" y="186660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稳重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49280" y="3406320"/>
            <a:ext cx="63007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29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2520" y="1403280"/>
            <a:ext cx="8099280" cy="311472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wg_blurred_backgrounds_11"/>
          <p:cNvPicPr/>
          <p:nvPr/>
        </p:nvPicPr>
        <p:blipFill>
          <a:blip r:embed="rId1"/>
          <a:srcRect l="0" t="0" r="0" b="76759"/>
          <a:stretch/>
        </p:blipFill>
        <p:spPr>
          <a:xfrm>
            <a:off x="0" y="4618080"/>
            <a:ext cx="899964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7640" y="240840"/>
            <a:ext cx="664236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07640" y="1403280"/>
            <a:ext cx="664236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wg_blurred_backgrounds_11"/>
          <p:cNvPicPr/>
          <p:nvPr/>
        </p:nvPicPr>
        <p:blipFill>
          <a:blip r:embed="rId1"/>
          <a:srcRect l="51741" t="0" r="29311" b="0"/>
          <a:stretch/>
        </p:blipFill>
        <p:spPr>
          <a:xfrm>
            <a:off x="0" y="6480"/>
            <a:ext cx="170352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1262160" y="917640"/>
            <a:ext cx="2093760" cy="3529080"/>
          </a:xfrm>
          <a:custGeom>
            <a:avLst/>
            <a:gdLst>
              <a:gd name="textAreaLeft" fmla="*/ 61200 w 2093760"/>
              <a:gd name="textAreaRight" fmla="*/ 2032560 w 2093760"/>
              <a:gd name="textAreaTop" fmla="*/ 61200 h 3529080"/>
              <a:gd name="textAreaBottom" fmla="*/ 3467880 h 3529080"/>
            </a:gdLst>
            <a:ahLst/>
            <a:rect l="textAreaLeft" t="textAreaTop" r="textAreaRight" b="textAreaBottom"/>
            <a:pathLst>
              <a:path w="21600" h="36405">
                <a:moveTo>
                  <a:pt x="2160" y="0"/>
                </a:moveTo>
                <a:arcTo wR="2160" hR="2160" stAng="16200000" swAng="-5400000"/>
                <a:lnTo>
                  <a:pt x="0" y="34245"/>
                </a:lnTo>
                <a:arcTo wR="2160" hR="2160" stAng="10800000" swAng="-5400000"/>
                <a:lnTo>
                  <a:pt x="19440" y="36405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336699">
                  <a:alpha val="60000"/>
                </a:srgbClr>
              </a:gs>
              <a:gs pos="100000">
                <a:srgbClr val="0099cc">
                  <a:alpha val="91372"/>
                </a:srgbClr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262160" y="2328840"/>
            <a:ext cx="209376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1000" rIns="441000" tIns="441000" bIns="441000" anchor="ctr">
            <a:noAutofit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1720800" y="1128600"/>
            <a:ext cx="1174680" cy="1175040"/>
          </a:xfrm>
          <a:prstGeom prst="ellipse">
            <a:avLst/>
          </a:prstGeom>
          <a:solidFill>
            <a:srgbClr val="c1c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3419640" y="917640"/>
            <a:ext cx="2095200" cy="3529080"/>
          </a:xfrm>
          <a:custGeom>
            <a:avLst/>
            <a:gdLst>
              <a:gd name="textAreaLeft" fmla="*/ 61200 w 2095200"/>
              <a:gd name="textAreaRight" fmla="*/ 2034000 w 2095200"/>
              <a:gd name="textAreaTop" fmla="*/ 61200 h 3529080"/>
              <a:gd name="textAreaBottom" fmla="*/ 3467880 h 3529080"/>
            </a:gdLst>
            <a:ahLst/>
            <a:rect l="textAreaLeft" t="textAreaTop" r="textAreaRight" b="textAreaBottom"/>
            <a:pathLst>
              <a:path w="21600" h="36380">
                <a:moveTo>
                  <a:pt x="2160" y="0"/>
                </a:moveTo>
                <a:arcTo wR="2160" hR="2160" stAng="16200000" swAng="-5400000"/>
                <a:lnTo>
                  <a:pt x="0" y="34220"/>
                </a:lnTo>
                <a:arcTo wR="2160" hR="2160" stAng="10800000" swAng="-5400000"/>
                <a:lnTo>
                  <a:pt x="19440" y="36380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336699">
                  <a:alpha val="60000"/>
                </a:srgbClr>
              </a:gs>
              <a:gs pos="100000">
                <a:srgbClr val="0099cc">
                  <a:alpha val="91372"/>
                </a:srgbClr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419640" y="2328840"/>
            <a:ext cx="209520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1000" rIns="441000" tIns="441000" bIns="441000" anchor="ctr">
            <a:normAutofit fontScale="87000"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3879720" y="1128600"/>
            <a:ext cx="1175040" cy="1175040"/>
          </a:xfrm>
          <a:prstGeom prst="ellipse">
            <a:avLst/>
          </a:prstGeom>
          <a:solidFill>
            <a:srgbClr val="c1c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8"/>
          <p:cNvSpPr/>
          <p:nvPr/>
        </p:nvSpPr>
        <p:spPr>
          <a:xfrm>
            <a:off x="5576760" y="917640"/>
            <a:ext cx="2095560" cy="3529080"/>
          </a:xfrm>
          <a:custGeom>
            <a:avLst/>
            <a:gdLst>
              <a:gd name="textAreaLeft" fmla="*/ 61200 w 2095560"/>
              <a:gd name="textAreaRight" fmla="*/ 2034360 w 2095560"/>
              <a:gd name="textAreaTop" fmla="*/ 61200 h 3529080"/>
              <a:gd name="textAreaBottom" fmla="*/ 3467880 h 3529080"/>
            </a:gdLst>
            <a:ahLst/>
            <a:rect l="textAreaLeft" t="textAreaTop" r="textAreaRight" b="textAreaBottom"/>
            <a:pathLst>
              <a:path w="21600" h="36373">
                <a:moveTo>
                  <a:pt x="2160" y="0"/>
                </a:moveTo>
                <a:arcTo wR="2160" hR="2160" stAng="16200000" swAng="-5400000"/>
                <a:lnTo>
                  <a:pt x="0" y="34213"/>
                </a:lnTo>
                <a:arcTo wR="2160" hR="2160" stAng="10800000" swAng="-5400000"/>
                <a:lnTo>
                  <a:pt x="19440" y="36373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gradFill rotWithShape="0">
            <a:gsLst>
              <a:gs pos="0">
                <a:srgbClr val="336699">
                  <a:alpha val="60000"/>
                </a:srgbClr>
              </a:gs>
              <a:gs pos="100000">
                <a:srgbClr val="0099cc">
                  <a:alpha val="91372"/>
                </a:srgbClr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576760" y="2328840"/>
            <a:ext cx="209556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1000" rIns="441000" tIns="441000" bIns="441000" anchor="ctr">
            <a:normAutofit fontScale="87000"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0"/>
          <p:cNvSpPr/>
          <p:nvPr/>
        </p:nvSpPr>
        <p:spPr>
          <a:xfrm>
            <a:off x="6037200" y="1128600"/>
            <a:ext cx="1174680" cy="1175040"/>
          </a:xfrm>
          <a:prstGeom prst="ellipse">
            <a:avLst/>
          </a:prstGeom>
          <a:solidFill>
            <a:srgbClr val="c1c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1"/>
          <p:cNvSpPr/>
          <p:nvPr/>
        </p:nvSpPr>
        <p:spPr>
          <a:xfrm>
            <a:off x="1515960" y="3740040"/>
            <a:ext cx="5900760" cy="530280"/>
          </a:xfrm>
          <a:prstGeom prst="leftRightArrow">
            <a:avLst>
              <a:gd name="adj1" fmla="val 50000"/>
              <a:gd name="adj2" fmla="val 49868"/>
            </a:avLst>
          </a:prstGeom>
          <a:solidFill>
            <a:srgbClr val="b0bf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770280" y="628560"/>
            <a:ext cx="3005280" cy="1359000"/>
          </a:xfrm>
          <a:prstGeom prst="rect">
            <a:avLst/>
          </a:prstGeom>
          <a:gradFill rotWithShape="0">
            <a:gsLst>
              <a:gs pos="0">
                <a:srgbClr val="336699">
                  <a:alpha val="60000"/>
                </a:srgbClr>
              </a:gs>
              <a:gs pos="100000">
                <a:srgbClr val="0099cc">
                  <a:alpha val="91372"/>
                </a:srgbClr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770280" y="628560"/>
            <a:ext cx="3005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ctr">
            <a:noAutofit/>
          </a:bodyPr>
          <a:p>
            <a:pPr algn="ctr">
              <a:lnSpc>
                <a:spcPct val="9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290680" y="628560"/>
            <a:ext cx="1344600" cy="1359000"/>
          </a:xfrm>
          <a:prstGeom prst="rect">
            <a:avLst/>
          </a:prstGeom>
          <a:gradFill rotWithShape="0">
            <a:gsLst>
              <a:gs pos="0">
                <a:srgbClr val="336699">
                  <a:alpha val="60000"/>
                </a:srgbClr>
              </a:gs>
              <a:gs pos="100000">
                <a:srgbClr val="0099cc">
                  <a:alpha val="91372"/>
                </a:srgbClr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2290680" y="2212920"/>
            <a:ext cx="3005280" cy="1359000"/>
          </a:xfrm>
          <a:prstGeom prst="rect">
            <a:avLst/>
          </a:prstGeom>
          <a:gradFill rotWithShape="0">
            <a:gsLst>
              <a:gs pos="0">
                <a:srgbClr val="336699">
                  <a:alpha val="60000"/>
                </a:srgbClr>
              </a:gs>
              <a:gs pos="100000">
                <a:srgbClr val="0099cc">
                  <a:alpha val="91372"/>
                </a:srgbClr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290680" y="2212920"/>
            <a:ext cx="3005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ctr">
            <a:normAutofit/>
          </a:bodyPr>
          <a:p>
            <a:pPr algn="ctr">
              <a:lnSpc>
                <a:spcPct val="9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5429160" y="2212920"/>
            <a:ext cx="1346400" cy="1359000"/>
          </a:xfrm>
          <a:prstGeom prst="rect">
            <a:avLst/>
          </a:prstGeom>
          <a:gradFill rotWithShape="0">
            <a:gsLst>
              <a:gs pos="0">
                <a:srgbClr val="336699">
                  <a:alpha val="60000"/>
                </a:srgbClr>
              </a:gs>
              <a:gs pos="100000">
                <a:srgbClr val="0099cc">
                  <a:alpha val="91372"/>
                </a:srgbClr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3770280" y="3795840"/>
            <a:ext cx="3005280" cy="1358640"/>
          </a:xfrm>
          <a:prstGeom prst="rect">
            <a:avLst/>
          </a:prstGeom>
          <a:gradFill rotWithShape="0">
            <a:gsLst>
              <a:gs pos="0">
                <a:srgbClr val="336699">
                  <a:alpha val="60000"/>
                </a:srgbClr>
              </a:gs>
              <a:gs pos="100000">
                <a:srgbClr val="0099cc">
                  <a:alpha val="91372"/>
                </a:srgbClr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3770280" y="3795840"/>
            <a:ext cx="300528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ctr">
            <a:normAutofit/>
          </a:bodyPr>
          <a:p>
            <a:pPr algn="ctr">
              <a:lnSpc>
                <a:spcPct val="9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2290680" y="3795840"/>
            <a:ext cx="1344600" cy="1358640"/>
          </a:xfrm>
          <a:prstGeom prst="rect">
            <a:avLst/>
          </a:prstGeom>
          <a:gradFill rotWithShape="0">
            <a:gsLst>
              <a:gs pos="0">
                <a:srgbClr val="336699">
                  <a:alpha val="60000"/>
                </a:srgbClr>
              </a:gs>
              <a:gs pos="100000">
                <a:srgbClr val="0099cc">
                  <a:alpha val="91372"/>
                </a:srgbClr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wg_blurred_backgrounds_11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4280" y="236484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492120" y="0"/>
            <a:ext cx="7421400" cy="6012000"/>
            <a:chOff x="492120" y="0"/>
            <a:chExt cx="7421400" cy="6012000"/>
          </a:xfrm>
        </p:grpSpPr>
        <p:sp>
          <p:nvSpPr>
            <p:cNvPr id="195" name="矩形 4"/>
            <p:cNvSpPr/>
            <p:nvPr/>
          </p:nvSpPr>
          <p:spPr>
            <a:xfrm>
              <a:off x="1030680" y="0"/>
              <a:ext cx="5930640" cy="62748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492120" y="1503000"/>
              <a:ext cx="7421400" cy="450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Box 7"/>
            <p:cNvSpPr/>
            <p:nvPr/>
          </p:nvSpPr>
          <p:spPr>
            <a:xfrm rot="20926800">
              <a:off x="2163600" y="3123000"/>
              <a:ext cx="4091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a</cp:lastModifiedBy>
  <dcterms:modified xsi:type="dcterms:W3CDTF">2014-08-03T07:47:08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