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8E3-36CE-40B7-B8F7-E116175E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0CA-A5B2-48AF-B84E-0C4B8C25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9B2-AB13-4C2A-949B-2FF75F2A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ED9-A776-49D7-B547-21BA86F8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0880-612C-452B-B8B6-79598F94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1AD7-A86C-486D-AFB3-181BD1F0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0E32-1B74-4D16-99EA-4FD8D6F0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603A-4EA5-419A-BD51-BE9C72AE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5D13-BB03-4C19-B667-B1F247E2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B42B-1B8A-428C-8F40-A379B215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B2D3-63F4-47E3-AF8E-F58938F4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1C7-3609-479E-86A5-62A4A372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2445-45C0-4597-A9E8-270ED63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190B-C71F-4423-9470-02BCD2F5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D080-028A-4AD6-9D27-CD58D429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4E9F-515C-40D7-AE56-436235BE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5E28-AB51-4B66-97D1-D224007D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CE7-CB18-447A-ABC0-6A022B65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13B-7D9B-4417-94D8-B6A4745F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9D2-7514-448B-ACCD-438519BC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A6B-10F2-44A5-845A-D40066E8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5A6-CBCB-401B-A7CD-55B9E282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F1F-0D1B-46F2-97B7-3B1F7085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DD8-CBF3-4B20-90D6-4D706CC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30B6-CBDE-4A38-8510-FF8715F111C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E62E-7C5E-4D0F-8E00-C1368F47B2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E2DF-AAD2-4D7E-BF9A-EEC7967BDA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BE89-C2AB-424B-A298-9AAC09E75F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0" y="0"/>
            <a:ext cx="12192120" cy="437508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"/>
          <p:cNvSpPr/>
          <p:nvPr/>
        </p:nvSpPr>
        <p:spPr>
          <a:xfrm>
            <a:off x="3206880" y="1325520"/>
            <a:ext cx="842760" cy="843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5884920" y="511200"/>
            <a:ext cx="2970000" cy="2968560"/>
            <a:chOff x="5884920" y="511200"/>
            <a:chExt cx="2970000" cy="2968560"/>
          </a:xfrm>
        </p:grpSpPr>
        <p:sp>
          <p:nvSpPr>
            <p:cNvPr id="85" name="椭圆 8"/>
            <p:cNvSpPr/>
            <p:nvPr/>
          </p:nvSpPr>
          <p:spPr>
            <a:xfrm>
              <a:off x="5884920" y="511200"/>
              <a:ext cx="2970000" cy="296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9"/>
            <p:cNvSpPr/>
            <p:nvPr/>
          </p:nvSpPr>
          <p:spPr>
            <a:xfrm>
              <a:off x="6120000" y="745920"/>
              <a:ext cx="2499840" cy="2498760"/>
            </a:xfrm>
            <a:prstGeom prst="ellipse">
              <a:avLst/>
            </a:prstGeom>
            <a:solidFill>
              <a:srgbClr val="d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矩形 6"/>
          <p:cNvSpPr/>
          <p:nvPr/>
        </p:nvSpPr>
        <p:spPr>
          <a:xfrm>
            <a:off x="3707640" y="2212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行动标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 rot="18975600">
            <a:off x="8305920" y="2784600"/>
            <a:ext cx="627120" cy="82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627921" h="1212482">
                <a:moveTo>
                  <a:pt x="142188" y="0"/>
                </a:moveTo>
                <a:lnTo>
                  <a:pt x="474533" y="0"/>
                </a:lnTo>
                <a:lnTo>
                  <a:pt x="627921" y="1194992"/>
                </a:lnTo>
                <a:lnTo>
                  <a:pt x="0" y="1212482"/>
                </a:lnTo>
                <a:lnTo>
                  <a:pt x="14218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3495960" y="0"/>
            <a:ext cx="2503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600" spc="-1" strike="noStrike">
                <a:solidFill>
                  <a:srgbClr val="ff0000"/>
                </a:solidFill>
                <a:latin typeface="Impact"/>
                <a:ea typeface="方正正大黑简体"/>
              </a:rPr>
              <a:t>2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3392280" y="1430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7"/>
          <p:cNvSpPr/>
          <p:nvPr/>
        </p:nvSpPr>
        <p:spPr>
          <a:xfrm>
            <a:off x="6657120" y="8445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孝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2962440" y="2989440"/>
            <a:ext cx="3066840" cy="1440"/>
          </a:xfrm>
          <a:prstGeom prst="line">
            <a:avLst/>
          </a:prstGeom>
          <a:ln w="6480">
            <a:solidFill>
              <a:srgbClr val="2d2b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3"/>
          <p:cNvGrpSpPr/>
          <p:nvPr/>
        </p:nvGrpSpPr>
        <p:grpSpPr>
          <a:xfrm>
            <a:off x="3610080" y="3108240"/>
            <a:ext cx="2742840" cy="552600"/>
            <a:chOff x="3610080" y="3108240"/>
            <a:chExt cx="2742840" cy="552600"/>
          </a:xfrm>
        </p:grpSpPr>
        <p:sp>
          <p:nvSpPr>
            <p:cNvPr id="94" name="圆角矩形 19"/>
            <p:cNvSpPr/>
            <p:nvPr/>
          </p:nvSpPr>
          <p:spPr>
            <a:xfrm>
              <a:off x="3610080" y="3108240"/>
              <a:ext cx="2733840" cy="552600"/>
            </a:xfrm>
            <a:prstGeom prst="roundRect">
              <a:avLst>
                <a:gd name="adj" fmla="val 50000"/>
              </a:avLst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20"/>
            <p:cNvSpPr/>
            <p:nvPr/>
          </p:nvSpPr>
          <p:spPr>
            <a:xfrm>
              <a:off x="3632400" y="3205440"/>
              <a:ext cx="184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21"/>
            <p:cNvSpPr/>
            <p:nvPr/>
          </p:nvSpPr>
          <p:spPr>
            <a:xfrm>
              <a:off x="5901480" y="3192120"/>
              <a:ext cx="384840" cy="38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22"/>
            <p:cNvSpPr/>
            <p:nvPr/>
          </p:nvSpPr>
          <p:spPr>
            <a:xfrm>
              <a:off x="5867280" y="3145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23"/>
          <p:cNvSpPr/>
          <p:nvPr/>
        </p:nvSpPr>
        <p:spPr>
          <a:xfrm>
            <a:off x="4066920" y="3697200"/>
            <a:ext cx="21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2013</a:t>
            </a:r>
            <a:r>
              <a:rPr b="0" lang="zh-CN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年</a:t>
            </a:r>
            <a:r>
              <a:rPr b="0" lang="en-US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5</a:t>
            </a:r>
            <a:r>
              <a:rPr b="0" lang="zh-CN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月</a:t>
            </a:r>
            <a:r>
              <a:rPr b="0" lang="en-US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9</a:t>
            </a:r>
            <a:r>
              <a:rPr b="0" lang="zh-CN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4"/>
          <p:cNvSpPr/>
          <p:nvPr/>
        </p:nvSpPr>
        <p:spPr>
          <a:xfrm>
            <a:off x="2768760" y="2146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简洁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6"/>
          <p:cNvSpPr/>
          <p:nvPr/>
        </p:nvSpPr>
        <p:spPr>
          <a:xfrm>
            <a:off x="888840" y="4567320"/>
            <a:ext cx="108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孝是中国古代重要的伦理思想之一，元代郭居敬辑录了亲尝汤药，卖身葬父，怀橘遗亲等古代</a:t>
            </a:r>
            <a:r>
              <a:rPr b="0" lang="en-US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24</a:t>
            </a:r>
            <a:r>
              <a:rPr b="0" lang="zh-CN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个孝子的故事，成为中国古代宣传孝道的通俗读物。今日，全国老龄办等部门发布的新</a:t>
            </a:r>
            <a:r>
              <a:rPr b="0" lang="en-US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24</a:t>
            </a:r>
            <a:r>
              <a:rPr b="0" lang="zh-CN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孝行动标准，包括节假日经常与父母共度、亲自给父母做饭、每周给父母打个电话等等，这些你都做到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25"/>
          <p:cNvSpPr/>
          <p:nvPr/>
        </p:nvSpPr>
        <p:spPr>
          <a:xfrm>
            <a:off x="8693280" y="241200"/>
            <a:ext cx="1752480" cy="130824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308240"/>
              <a:gd name="textAreaBottom" fmla="*/ 1308600 h 1308240"/>
            </a:gdLst>
            <a:ahLst/>
            <a:rect l="textAreaLeft" t="textAreaTop" r="textAreaRight" b="textAreaBottom"/>
            <a:pathLst>
              <a:path w="1752600" h="1308595">
                <a:moveTo>
                  <a:pt x="876300" y="0"/>
                </a:moveTo>
                <a:cubicBezTo>
                  <a:pt x="1360267" y="0"/>
                  <a:pt x="1752600" y="392333"/>
                  <a:pt x="1752600" y="876300"/>
                </a:cubicBezTo>
                <a:cubicBezTo>
                  <a:pt x="1752600" y="997292"/>
                  <a:pt x="1728079" y="1112557"/>
                  <a:pt x="1683736" y="1217396"/>
                </a:cubicBezTo>
                <a:lnTo>
                  <a:pt x="1634235" y="1308595"/>
                </a:lnTo>
                <a:lnTo>
                  <a:pt x="118366" y="1308595"/>
                </a:lnTo>
                <a:lnTo>
                  <a:pt x="68864" y="1217396"/>
                </a:lnTo>
                <a:cubicBezTo>
                  <a:pt x="24521" y="1112557"/>
                  <a:pt x="0" y="997292"/>
                  <a:pt x="0" y="876300"/>
                </a:cubicBezTo>
                <a:cubicBezTo>
                  <a:pt x="0" y="392333"/>
                  <a:pt x="392333" y="0"/>
                  <a:pt x="876300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27"/>
          <p:cNvSpPr/>
          <p:nvPr/>
        </p:nvSpPr>
        <p:spPr>
          <a:xfrm>
            <a:off x="8763120" y="1486080"/>
            <a:ext cx="1616040" cy="53640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1615252" h="535817">
                <a:moveTo>
                  <a:pt x="0" y="0"/>
                </a:moveTo>
                <a:lnTo>
                  <a:pt x="1615252" y="0"/>
                </a:lnTo>
                <a:lnTo>
                  <a:pt x="1615062" y="613"/>
                </a:lnTo>
                <a:cubicBezTo>
                  <a:pt x="1482033" y="315130"/>
                  <a:pt x="1170601" y="535817"/>
                  <a:pt x="807626" y="535817"/>
                </a:cubicBezTo>
                <a:cubicBezTo>
                  <a:pt x="444651" y="535817"/>
                  <a:pt x="133220" y="315130"/>
                  <a:pt x="190" y="613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4659480" y="2583000"/>
            <a:ext cx="625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教父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上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19"/>
          <p:cNvSpPr/>
          <p:nvPr/>
        </p:nvSpPr>
        <p:spPr>
          <a:xfrm>
            <a:off x="1417680" y="2583000"/>
            <a:ext cx="2004840" cy="1271520"/>
          </a:xfrm>
          <a:custGeom>
            <a:avLst/>
            <a:gdLst>
              <a:gd name="textAreaLeft" fmla="*/ 0 w 2004840"/>
              <a:gd name="textAreaRight" fmla="*/ 2005200 w 200484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2678653" h="1699709">
                <a:moveTo>
                  <a:pt x="2242895" y="1274352"/>
                </a:moveTo>
                <a:cubicBezTo>
                  <a:pt x="2200048" y="1274352"/>
                  <a:pt x="2165314" y="1309086"/>
                  <a:pt x="2165314" y="1351933"/>
                </a:cubicBezTo>
                <a:cubicBezTo>
                  <a:pt x="2165314" y="1394780"/>
                  <a:pt x="2200048" y="1429514"/>
                  <a:pt x="2242895" y="1429514"/>
                </a:cubicBezTo>
                <a:cubicBezTo>
                  <a:pt x="2285742" y="1429514"/>
                  <a:pt x="2320476" y="1394780"/>
                  <a:pt x="2320476" y="1351933"/>
                </a:cubicBezTo>
                <a:cubicBezTo>
                  <a:pt x="2320476" y="1309086"/>
                  <a:pt x="2285742" y="1274352"/>
                  <a:pt x="2242895" y="1274352"/>
                </a:cubicBezTo>
                <a:close/>
                <a:moveTo>
                  <a:pt x="1995453" y="581650"/>
                </a:moveTo>
                <a:cubicBezTo>
                  <a:pt x="1973151" y="581650"/>
                  <a:pt x="1954016" y="595209"/>
                  <a:pt x="1945843" y="614534"/>
                </a:cubicBezTo>
                <a:lnTo>
                  <a:pt x="1941612" y="635491"/>
                </a:lnTo>
                <a:lnTo>
                  <a:pt x="1945843" y="656448"/>
                </a:lnTo>
                <a:cubicBezTo>
                  <a:pt x="1954016" y="675772"/>
                  <a:pt x="1973151" y="689331"/>
                  <a:pt x="1995453" y="689331"/>
                </a:cubicBezTo>
                <a:lnTo>
                  <a:pt x="2522674" y="689332"/>
                </a:lnTo>
                <a:cubicBezTo>
                  <a:pt x="2552410" y="689332"/>
                  <a:pt x="2576515" y="665227"/>
                  <a:pt x="2576515" y="635491"/>
                </a:cubicBezTo>
                <a:lnTo>
                  <a:pt x="2576516" y="635491"/>
                </a:lnTo>
                <a:cubicBezTo>
                  <a:pt x="2576516" y="605755"/>
                  <a:pt x="2552411" y="581650"/>
                  <a:pt x="2522675" y="581650"/>
                </a:cubicBezTo>
                <a:lnTo>
                  <a:pt x="1995453" y="581650"/>
                </a:lnTo>
                <a:close/>
                <a:moveTo>
                  <a:pt x="183077" y="398410"/>
                </a:moveTo>
                <a:cubicBezTo>
                  <a:pt x="99627" y="398410"/>
                  <a:pt x="31977" y="466060"/>
                  <a:pt x="31977" y="549510"/>
                </a:cubicBezTo>
                <a:lnTo>
                  <a:pt x="31977" y="1153894"/>
                </a:lnTo>
                <a:cubicBezTo>
                  <a:pt x="31977" y="1237344"/>
                  <a:pt x="99627" y="1304994"/>
                  <a:pt x="183077" y="1304994"/>
                </a:cubicBezTo>
                <a:lnTo>
                  <a:pt x="1559662" y="1304994"/>
                </a:lnTo>
                <a:cubicBezTo>
                  <a:pt x="1643112" y="1304994"/>
                  <a:pt x="1710762" y="1237344"/>
                  <a:pt x="1710762" y="1153894"/>
                </a:cubicBezTo>
                <a:lnTo>
                  <a:pt x="1710762" y="549510"/>
                </a:lnTo>
                <a:cubicBezTo>
                  <a:pt x="1710762" y="466060"/>
                  <a:pt x="1643112" y="398410"/>
                  <a:pt x="1559662" y="398410"/>
                </a:cubicBezTo>
                <a:lnTo>
                  <a:pt x="183077" y="398410"/>
                </a:lnTo>
                <a:close/>
                <a:moveTo>
                  <a:pt x="166747" y="351472"/>
                </a:moveTo>
                <a:lnTo>
                  <a:pt x="1575992" y="351472"/>
                </a:lnTo>
                <a:cubicBezTo>
                  <a:pt x="1668084" y="351472"/>
                  <a:pt x="1742739" y="426127"/>
                  <a:pt x="1742739" y="518219"/>
                </a:cubicBezTo>
                <a:lnTo>
                  <a:pt x="1742739" y="1185186"/>
                </a:lnTo>
                <a:cubicBezTo>
                  <a:pt x="1742739" y="1277278"/>
                  <a:pt x="1668084" y="1351933"/>
                  <a:pt x="1575992" y="1351933"/>
                </a:cubicBezTo>
                <a:lnTo>
                  <a:pt x="1107671" y="1351933"/>
                </a:lnTo>
                <a:lnTo>
                  <a:pt x="1148895" y="1516829"/>
                </a:lnTo>
                <a:lnTo>
                  <a:pt x="1351876" y="1516829"/>
                </a:lnTo>
                <a:cubicBezTo>
                  <a:pt x="1359798" y="1516829"/>
                  <a:pt x="1366220" y="1523251"/>
                  <a:pt x="1366220" y="1531173"/>
                </a:cubicBezTo>
                <a:lnTo>
                  <a:pt x="1366220" y="1602890"/>
                </a:lnTo>
                <a:lnTo>
                  <a:pt x="376517" y="1602890"/>
                </a:lnTo>
                <a:lnTo>
                  <a:pt x="376517" y="1516829"/>
                </a:lnTo>
                <a:lnTo>
                  <a:pt x="549782" y="1516829"/>
                </a:lnTo>
                <a:lnTo>
                  <a:pt x="591006" y="1351933"/>
                </a:lnTo>
                <a:lnTo>
                  <a:pt x="166747" y="1351933"/>
                </a:lnTo>
                <a:cubicBezTo>
                  <a:pt x="74655" y="1351933"/>
                  <a:pt x="0" y="1277278"/>
                  <a:pt x="0" y="1185186"/>
                </a:cubicBezTo>
                <a:lnTo>
                  <a:pt x="0" y="518219"/>
                </a:lnTo>
                <a:cubicBezTo>
                  <a:pt x="0" y="426127"/>
                  <a:pt x="74655" y="351472"/>
                  <a:pt x="166747" y="351472"/>
                </a:cubicBezTo>
                <a:close/>
                <a:moveTo>
                  <a:pt x="1995453" y="313894"/>
                </a:moveTo>
                <a:cubicBezTo>
                  <a:pt x="1973151" y="313894"/>
                  <a:pt x="1954016" y="327453"/>
                  <a:pt x="1945843" y="346778"/>
                </a:cubicBezTo>
                <a:lnTo>
                  <a:pt x="1941612" y="367735"/>
                </a:lnTo>
                <a:lnTo>
                  <a:pt x="1945843" y="388692"/>
                </a:lnTo>
                <a:cubicBezTo>
                  <a:pt x="1954016" y="408016"/>
                  <a:pt x="1973151" y="421575"/>
                  <a:pt x="1995453" y="421575"/>
                </a:cubicBezTo>
                <a:lnTo>
                  <a:pt x="2522674" y="421576"/>
                </a:lnTo>
                <a:cubicBezTo>
                  <a:pt x="2552410" y="421576"/>
                  <a:pt x="2576515" y="397471"/>
                  <a:pt x="2576515" y="367735"/>
                </a:cubicBezTo>
                <a:lnTo>
                  <a:pt x="2576516" y="367735"/>
                </a:lnTo>
                <a:cubicBezTo>
                  <a:pt x="2576516" y="337999"/>
                  <a:pt x="2552411" y="313894"/>
                  <a:pt x="2522675" y="313894"/>
                </a:cubicBezTo>
                <a:lnTo>
                  <a:pt x="1995453" y="313894"/>
                </a:lnTo>
                <a:close/>
                <a:moveTo>
                  <a:pt x="2034991" y="0"/>
                </a:moveTo>
                <a:lnTo>
                  <a:pt x="2472461" y="0"/>
                </a:lnTo>
                <a:cubicBezTo>
                  <a:pt x="2586338" y="0"/>
                  <a:pt x="2678653" y="92315"/>
                  <a:pt x="2678653" y="206192"/>
                </a:cubicBezTo>
                <a:lnTo>
                  <a:pt x="2678653" y="1493517"/>
                </a:lnTo>
                <a:cubicBezTo>
                  <a:pt x="2678653" y="1607394"/>
                  <a:pt x="2586338" y="1699709"/>
                  <a:pt x="2472461" y="1699709"/>
                </a:cubicBezTo>
                <a:lnTo>
                  <a:pt x="2034991" y="1699709"/>
                </a:lnTo>
                <a:cubicBezTo>
                  <a:pt x="1921114" y="1699709"/>
                  <a:pt x="1828799" y="1607394"/>
                  <a:pt x="1828799" y="1493517"/>
                </a:cubicBezTo>
                <a:lnTo>
                  <a:pt x="1828799" y="206192"/>
                </a:lnTo>
                <a:cubicBezTo>
                  <a:pt x="1828799" y="92315"/>
                  <a:pt x="1921114" y="0"/>
                  <a:pt x="2034991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10623960" y="-7632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9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椭圆 10"/>
          <p:cNvSpPr/>
          <p:nvPr/>
        </p:nvSpPr>
        <p:spPr>
          <a:xfrm>
            <a:off x="7334280" y="1825560"/>
            <a:ext cx="315108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5"/>
          <p:cNvSpPr/>
          <p:nvPr/>
        </p:nvSpPr>
        <p:spPr>
          <a:xfrm>
            <a:off x="7583400" y="207504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263520" y="2017800"/>
            <a:ext cx="625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经常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</a:t>
            </a:r>
            <a:r>
              <a:rPr b="0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拍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8"/>
          <p:cNvSpPr/>
          <p:nvPr/>
        </p:nvSpPr>
        <p:spPr>
          <a:xfrm>
            <a:off x="7926480" y="2755800"/>
            <a:ext cx="1973160" cy="117324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1173240"/>
              <a:gd name="textAreaBottom" fmla="*/ 1173600 h 1173240"/>
            </a:gdLst>
            <a:ahLst/>
            <a:rect l="textAreaLeft" t="textAreaTop" r="textAreaRight" b="textAreaBottom"/>
            <a:pathLst>
              <a:path w="3043824" h="1810193">
                <a:moveTo>
                  <a:pt x="449999" y="1205901"/>
                </a:moveTo>
                <a:lnTo>
                  <a:pt x="449999" y="1359437"/>
                </a:lnTo>
                <a:lnTo>
                  <a:pt x="1214087" y="1359437"/>
                </a:lnTo>
                <a:lnTo>
                  <a:pt x="1214087" y="1231491"/>
                </a:lnTo>
                <a:cubicBezTo>
                  <a:pt x="1214087" y="1217358"/>
                  <a:pt x="1202630" y="1205901"/>
                  <a:pt x="1188497" y="1205901"/>
                </a:cubicBezTo>
                <a:lnTo>
                  <a:pt x="449999" y="1205901"/>
                </a:lnTo>
                <a:close/>
                <a:moveTo>
                  <a:pt x="449999" y="895609"/>
                </a:moveTo>
                <a:lnTo>
                  <a:pt x="449999" y="1049145"/>
                </a:lnTo>
                <a:lnTo>
                  <a:pt x="1214087" y="1049145"/>
                </a:lnTo>
                <a:lnTo>
                  <a:pt x="1214087" y="921199"/>
                </a:lnTo>
                <a:cubicBezTo>
                  <a:pt x="1214087" y="907066"/>
                  <a:pt x="1202630" y="895609"/>
                  <a:pt x="1188497" y="895609"/>
                </a:cubicBezTo>
                <a:lnTo>
                  <a:pt x="449999" y="895609"/>
                </a:lnTo>
                <a:close/>
                <a:moveTo>
                  <a:pt x="2079744" y="635604"/>
                </a:moveTo>
                <a:cubicBezTo>
                  <a:pt x="2290791" y="635604"/>
                  <a:pt x="2461879" y="806692"/>
                  <a:pt x="2461879" y="1017739"/>
                </a:cubicBezTo>
                <a:cubicBezTo>
                  <a:pt x="2461879" y="1228786"/>
                  <a:pt x="2290791" y="1399874"/>
                  <a:pt x="2079744" y="1399874"/>
                </a:cubicBezTo>
                <a:cubicBezTo>
                  <a:pt x="1868697" y="1399874"/>
                  <a:pt x="1697609" y="1228786"/>
                  <a:pt x="1697609" y="1017739"/>
                </a:cubicBezTo>
                <a:cubicBezTo>
                  <a:pt x="1697609" y="806692"/>
                  <a:pt x="1868697" y="635604"/>
                  <a:pt x="2079744" y="635604"/>
                </a:cubicBezTo>
                <a:close/>
                <a:moveTo>
                  <a:pt x="449999" y="594802"/>
                </a:moveTo>
                <a:lnTo>
                  <a:pt x="449999" y="748338"/>
                </a:lnTo>
                <a:lnTo>
                  <a:pt x="1214087" y="748338"/>
                </a:lnTo>
                <a:lnTo>
                  <a:pt x="1214087" y="620392"/>
                </a:lnTo>
                <a:cubicBezTo>
                  <a:pt x="1214087" y="606259"/>
                  <a:pt x="1202630" y="594802"/>
                  <a:pt x="1188497" y="594802"/>
                </a:cubicBezTo>
                <a:lnTo>
                  <a:pt x="449999" y="594802"/>
                </a:lnTo>
                <a:close/>
                <a:moveTo>
                  <a:pt x="2086507" y="425885"/>
                </a:moveTo>
                <a:cubicBezTo>
                  <a:pt x="1759635" y="425885"/>
                  <a:pt x="1494652" y="690868"/>
                  <a:pt x="1494652" y="1017740"/>
                </a:cubicBezTo>
                <a:cubicBezTo>
                  <a:pt x="1494652" y="1344612"/>
                  <a:pt x="1759635" y="1609595"/>
                  <a:pt x="2086507" y="1609595"/>
                </a:cubicBezTo>
                <a:cubicBezTo>
                  <a:pt x="2413379" y="1609595"/>
                  <a:pt x="2678362" y="1344612"/>
                  <a:pt x="2678362" y="1017740"/>
                </a:cubicBezTo>
                <a:cubicBezTo>
                  <a:pt x="2678362" y="690868"/>
                  <a:pt x="2413379" y="425885"/>
                  <a:pt x="2086507" y="425885"/>
                </a:cubicBezTo>
                <a:close/>
                <a:moveTo>
                  <a:pt x="237995" y="0"/>
                </a:moveTo>
                <a:lnTo>
                  <a:pt x="592898" y="0"/>
                </a:lnTo>
                <a:cubicBezTo>
                  <a:pt x="632100" y="0"/>
                  <a:pt x="663880" y="31780"/>
                  <a:pt x="663880" y="70982"/>
                </a:cubicBezTo>
                <a:lnTo>
                  <a:pt x="663880" y="119180"/>
                </a:lnTo>
                <a:lnTo>
                  <a:pt x="2761983" y="119180"/>
                </a:lnTo>
                <a:cubicBezTo>
                  <a:pt x="2917639" y="119180"/>
                  <a:pt x="3043824" y="245365"/>
                  <a:pt x="3043824" y="401021"/>
                </a:cubicBezTo>
                <a:lnTo>
                  <a:pt x="3043824" y="1528352"/>
                </a:lnTo>
                <a:cubicBezTo>
                  <a:pt x="3043824" y="1684008"/>
                  <a:pt x="2917639" y="1810193"/>
                  <a:pt x="2761983" y="1810193"/>
                </a:cubicBezTo>
                <a:lnTo>
                  <a:pt x="281841" y="1810193"/>
                </a:lnTo>
                <a:cubicBezTo>
                  <a:pt x="126185" y="1810193"/>
                  <a:pt x="0" y="1684008"/>
                  <a:pt x="0" y="1528352"/>
                </a:cubicBezTo>
                <a:lnTo>
                  <a:pt x="0" y="401021"/>
                </a:lnTo>
                <a:cubicBezTo>
                  <a:pt x="0" y="264822"/>
                  <a:pt x="96610" y="151187"/>
                  <a:pt x="225040" y="124906"/>
                </a:cubicBezTo>
                <a:lnTo>
                  <a:pt x="237995" y="123600"/>
                </a:lnTo>
                <a:lnTo>
                  <a:pt x="23799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9"/>
          <p:cNvSpPr/>
          <p:nvPr/>
        </p:nvSpPr>
        <p:spPr>
          <a:xfrm>
            <a:off x="12024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0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683240" y="206532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对父母的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要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说出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2605320" y="3535200"/>
            <a:ext cx="30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0"/>
          <p:cNvSpPr/>
          <p:nvPr/>
        </p:nvSpPr>
        <p:spPr>
          <a:xfrm>
            <a:off x="2109600" y="3311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爸爸妈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1"/>
          <p:cNvSpPr/>
          <p:nvPr/>
        </p:nvSpPr>
        <p:spPr>
          <a:xfrm>
            <a:off x="1980720" y="3736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2"/>
          <p:cNvSpPr/>
          <p:nvPr/>
        </p:nvSpPr>
        <p:spPr>
          <a:xfrm>
            <a:off x="2216160" y="3508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43"/>
          <p:cNvSpPr/>
          <p:nvPr/>
        </p:nvSpPr>
        <p:spPr>
          <a:xfrm>
            <a:off x="1149480" y="2644920"/>
            <a:ext cx="1241280" cy="124596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245960"/>
              <a:gd name="textAreaBottom" fmla="*/ 1246320 h 1245960"/>
            </a:gdLst>
            <a:ahLst/>
            <a:rect l="textAreaLeft" t="textAreaTop" r="textAreaRight" b="textAreaBottom"/>
            <a:pathLst>
              <a:path w="1341733" h="1314163">
                <a:moveTo>
                  <a:pt x="0" y="721411"/>
                </a:moveTo>
                <a:lnTo>
                  <a:pt x="326243" y="712221"/>
                </a:lnTo>
                <a:lnTo>
                  <a:pt x="376788" y="565182"/>
                </a:lnTo>
                <a:lnTo>
                  <a:pt x="519232" y="840880"/>
                </a:lnTo>
                <a:lnTo>
                  <a:pt x="689246" y="0"/>
                </a:lnTo>
                <a:lnTo>
                  <a:pt x="845475" y="1314163"/>
                </a:lnTo>
                <a:lnTo>
                  <a:pt x="923590" y="680056"/>
                </a:lnTo>
                <a:lnTo>
                  <a:pt x="1341733" y="6754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45"/>
          <p:cNvSpPr/>
          <p:nvPr/>
        </p:nvSpPr>
        <p:spPr>
          <a:xfrm>
            <a:off x="2013120" y="2405160"/>
            <a:ext cx="888840" cy="888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心形 46"/>
          <p:cNvSpPr/>
          <p:nvPr/>
        </p:nvSpPr>
        <p:spPr>
          <a:xfrm>
            <a:off x="2041560" y="3603600"/>
            <a:ext cx="146160" cy="146160"/>
          </a:xfrm>
          <a:custGeom>
            <a:avLst/>
            <a:gdLst>
              <a:gd name="textAreaLeft" fmla="*/ 33840 w 146160"/>
              <a:gd name="textAreaRight" fmla="*/ 111960 w 146160"/>
              <a:gd name="textAreaTop" fmla="*/ 15120 h 146160"/>
              <a:gd name="textAreaBottom" fmla="*/ 92520 h 146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51"/>
          <p:cNvSpPr/>
          <p:nvPr/>
        </p:nvSpPr>
        <p:spPr>
          <a:xfrm>
            <a:off x="2505240" y="2644920"/>
            <a:ext cx="1261800" cy="1250640"/>
          </a:xfrm>
          <a:custGeom>
            <a:avLst/>
            <a:gdLst>
              <a:gd name="textAreaLeft" fmla="*/ 0 w 1261800"/>
              <a:gd name="textAreaRight" fmla="*/ 1261800 w 1261800"/>
              <a:gd name="textAreaTop" fmla="*/ 0 h 1250640"/>
              <a:gd name="textAreaBottom" fmla="*/ 1251000 h 1250640"/>
            </a:gdLst>
            <a:ahLst/>
            <a:rect l="textAreaLeft" t="textAreaTop" r="textAreaRight" b="textAreaBottom"/>
            <a:pathLst>
              <a:path w="1484177" h="1318758">
                <a:moveTo>
                  <a:pt x="1484177" y="712221"/>
                </a:moveTo>
                <a:lnTo>
                  <a:pt x="1047654" y="712221"/>
                </a:lnTo>
                <a:lnTo>
                  <a:pt x="974134" y="565182"/>
                </a:lnTo>
                <a:lnTo>
                  <a:pt x="827095" y="831691"/>
                </a:lnTo>
                <a:lnTo>
                  <a:pt x="661676" y="0"/>
                </a:lnTo>
                <a:lnTo>
                  <a:pt x="510042" y="1318758"/>
                </a:lnTo>
                <a:lnTo>
                  <a:pt x="413547" y="684651"/>
                </a:lnTo>
                <a:lnTo>
                  <a:pt x="0" y="6754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9"/>
          <p:cNvSpPr/>
          <p:nvPr/>
        </p:nvSpPr>
        <p:spPr>
          <a:xfrm>
            <a:off x="9792360" y="-2556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1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椭圆 10"/>
          <p:cNvSpPr/>
          <p:nvPr/>
        </p:nvSpPr>
        <p:spPr>
          <a:xfrm>
            <a:off x="7791480" y="1679400"/>
            <a:ext cx="315108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5"/>
          <p:cNvSpPr/>
          <p:nvPr/>
        </p:nvSpPr>
        <p:spPr>
          <a:xfrm>
            <a:off x="80406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920880" y="1920960"/>
            <a:ext cx="6257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打开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母的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心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心形 2"/>
          <p:cNvSpPr/>
          <p:nvPr/>
        </p:nvSpPr>
        <p:spPr>
          <a:xfrm>
            <a:off x="8467560" y="2446200"/>
            <a:ext cx="1792440" cy="1771920"/>
          </a:xfrm>
          <a:custGeom>
            <a:avLst/>
            <a:gdLst>
              <a:gd name="textAreaLeft" fmla="*/ 0 w 1792440"/>
              <a:gd name="textAreaRight" fmla="*/ 1792800 w 179244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1599782" h="1579847">
                <a:moveTo>
                  <a:pt x="848691" y="267514"/>
                </a:moveTo>
                <a:cubicBezTo>
                  <a:pt x="869857" y="-367485"/>
                  <a:pt x="2561074" y="284447"/>
                  <a:pt x="797891" y="1579847"/>
                </a:cubicBezTo>
                <a:cubicBezTo>
                  <a:pt x="-965292" y="284447"/>
                  <a:pt x="725925" y="-418286"/>
                  <a:pt x="848691" y="267514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5"/>
          <p:cNvSpPr/>
          <p:nvPr/>
        </p:nvSpPr>
        <p:spPr>
          <a:xfrm>
            <a:off x="9024840" y="3301920"/>
            <a:ext cx="635040" cy="501840"/>
          </a:xfrm>
          <a:prstGeom prst="roundRect">
            <a:avLst>
              <a:gd name="adj" fmla="val 0"/>
            </a:avLst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7"/>
          <p:cNvSpPr/>
          <p:nvPr/>
        </p:nvSpPr>
        <p:spPr>
          <a:xfrm>
            <a:off x="9075600" y="2994120"/>
            <a:ext cx="490680" cy="488880"/>
          </a:xfrm>
          <a:custGeom>
            <a:avLst/>
            <a:gdLst>
              <a:gd name="textAreaLeft" fmla="*/ 0 w 490680"/>
              <a:gd name="textAreaRight" fmla="*/ 491040 w 4906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87867" h="338667">
                <a:moveTo>
                  <a:pt x="287867" y="338667"/>
                </a:moveTo>
                <a:lnTo>
                  <a:pt x="287867" y="0"/>
                </a:lnTo>
                <a:lnTo>
                  <a:pt x="0" y="0"/>
                </a:lnTo>
                <a:lnTo>
                  <a:pt x="0" y="135467"/>
                </a:lnTo>
              </a:path>
            </a:pathLst>
          </a:custGeom>
          <a:noFill/>
          <a:ln w="76320">
            <a:solidFill>
              <a:srgbClr val="2d2b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1"/>
          <p:cNvSpPr/>
          <p:nvPr/>
        </p:nvSpPr>
        <p:spPr>
          <a:xfrm>
            <a:off x="9828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2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"/>
          <p:cNvSpPr/>
          <p:nvPr/>
        </p:nvSpPr>
        <p:spPr>
          <a:xfrm>
            <a:off x="4683240" y="206532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支持</a:t>
            </a: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的业余爱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116000" y="2530440"/>
            <a:ext cx="2583000" cy="1582920"/>
            <a:chOff x="1116000" y="2530440"/>
            <a:chExt cx="2583000" cy="1582920"/>
          </a:xfrm>
        </p:grpSpPr>
        <p:sp>
          <p:nvSpPr>
            <p:cNvPr id="215" name="任意多边形 12"/>
            <p:cNvSpPr/>
            <p:nvPr/>
          </p:nvSpPr>
          <p:spPr>
            <a:xfrm>
              <a:off x="1436400" y="2588760"/>
              <a:ext cx="613440" cy="24984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613508" h="250092">
                  <a:moveTo>
                    <a:pt x="0" y="0"/>
                  </a:moveTo>
                  <a:lnTo>
                    <a:pt x="144585" y="74246"/>
                  </a:lnTo>
                  <a:lnTo>
                    <a:pt x="257908" y="121138"/>
                  </a:lnTo>
                  <a:lnTo>
                    <a:pt x="300892" y="168030"/>
                  </a:lnTo>
                  <a:lnTo>
                    <a:pt x="371231" y="211015"/>
                  </a:lnTo>
                  <a:lnTo>
                    <a:pt x="437662" y="250092"/>
                  </a:lnTo>
                  <a:lnTo>
                    <a:pt x="547077" y="250092"/>
                  </a:lnTo>
                  <a:lnTo>
                    <a:pt x="613508" y="23446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13"/>
            <p:cNvSpPr/>
            <p:nvPr/>
          </p:nvSpPr>
          <p:spPr>
            <a:xfrm>
              <a:off x="1116000" y="3296520"/>
              <a:ext cx="590040" cy="37512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590062" h="375138">
                  <a:moveTo>
                    <a:pt x="0" y="0"/>
                  </a:moveTo>
                  <a:lnTo>
                    <a:pt x="187570" y="66431"/>
                  </a:lnTo>
                  <a:lnTo>
                    <a:pt x="234462" y="140677"/>
                  </a:lnTo>
                  <a:lnTo>
                    <a:pt x="363416" y="273538"/>
                  </a:lnTo>
                  <a:lnTo>
                    <a:pt x="472831" y="339969"/>
                  </a:lnTo>
                  <a:lnTo>
                    <a:pt x="550985" y="375138"/>
                  </a:lnTo>
                  <a:lnTo>
                    <a:pt x="590062" y="3673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4"/>
            <p:cNvSpPr/>
            <p:nvPr/>
          </p:nvSpPr>
          <p:spPr>
            <a:xfrm>
              <a:off x="1999080" y="2772720"/>
              <a:ext cx="1383480" cy="1223280"/>
            </a:xfrm>
            <a:custGeom>
              <a:avLst/>
              <a:gdLst>
                <a:gd name="textAreaLeft" fmla="*/ 0 w 1383480"/>
                <a:gd name="textAreaRight" fmla="*/ 1383840 w 138348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1383323" h="1223108">
                  <a:moveTo>
                    <a:pt x="0" y="183662"/>
                  </a:moveTo>
                  <a:lnTo>
                    <a:pt x="35169" y="230554"/>
                  </a:lnTo>
                  <a:lnTo>
                    <a:pt x="105507" y="281354"/>
                  </a:lnTo>
                  <a:lnTo>
                    <a:pt x="207107" y="273539"/>
                  </a:lnTo>
                  <a:lnTo>
                    <a:pt x="296984" y="214923"/>
                  </a:lnTo>
                  <a:lnTo>
                    <a:pt x="347784" y="144585"/>
                  </a:lnTo>
                  <a:lnTo>
                    <a:pt x="406400" y="85969"/>
                  </a:lnTo>
                  <a:lnTo>
                    <a:pt x="406400" y="0"/>
                  </a:lnTo>
                  <a:lnTo>
                    <a:pt x="406400" y="85969"/>
                  </a:lnTo>
                  <a:lnTo>
                    <a:pt x="472831" y="85969"/>
                  </a:lnTo>
                  <a:lnTo>
                    <a:pt x="539261" y="74246"/>
                  </a:lnTo>
                  <a:lnTo>
                    <a:pt x="586154" y="74246"/>
                  </a:lnTo>
                  <a:lnTo>
                    <a:pt x="609600" y="0"/>
                  </a:lnTo>
                  <a:lnTo>
                    <a:pt x="582246" y="89877"/>
                  </a:lnTo>
                  <a:lnTo>
                    <a:pt x="625231" y="121139"/>
                  </a:lnTo>
                  <a:lnTo>
                    <a:pt x="679938" y="148493"/>
                  </a:lnTo>
                  <a:lnTo>
                    <a:pt x="722923" y="160216"/>
                  </a:lnTo>
                  <a:lnTo>
                    <a:pt x="785446" y="207108"/>
                  </a:lnTo>
                  <a:lnTo>
                    <a:pt x="863600" y="254000"/>
                  </a:lnTo>
                  <a:lnTo>
                    <a:pt x="930031" y="296985"/>
                  </a:lnTo>
                  <a:lnTo>
                    <a:pt x="984738" y="367323"/>
                  </a:lnTo>
                  <a:lnTo>
                    <a:pt x="1016000" y="375139"/>
                  </a:lnTo>
                  <a:lnTo>
                    <a:pt x="1125415" y="293077"/>
                  </a:lnTo>
                  <a:lnTo>
                    <a:pt x="1012092" y="375139"/>
                  </a:lnTo>
                  <a:lnTo>
                    <a:pt x="1242646" y="394677"/>
                  </a:lnTo>
                  <a:lnTo>
                    <a:pt x="1004277" y="379046"/>
                  </a:lnTo>
                  <a:lnTo>
                    <a:pt x="1062892" y="425939"/>
                  </a:lnTo>
                  <a:lnTo>
                    <a:pt x="1094154" y="449385"/>
                  </a:lnTo>
                  <a:lnTo>
                    <a:pt x="1121507" y="480646"/>
                  </a:lnTo>
                  <a:lnTo>
                    <a:pt x="1148861" y="492369"/>
                  </a:lnTo>
                  <a:lnTo>
                    <a:pt x="1348154" y="472831"/>
                  </a:lnTo>
                  <a:lnTo>
                    <a:pt x="1141046" y="500185"/>
                  </a:lnTo>
                  <a:lnTo>
                    <a:pt x="1227015" y="547077"/>
                  </a:lnTo>
                  <a:lnTo>
                    <a:pt x="1277815" y="617416"/>
                  </a:lnTo>
                  <a:lnTo>
                    <a:pt x="1340338" y="691662"/>
                  </a:lnTo>
                  <a:lnTo>
                    <a:pt x="1363784" y="762000"/>
                  </a:lnTo>
                  <a:lnTo>
                    <a:pt x="1383323" y="824523"/>
                  </a:lnTo>
                  <a:lnTo>
                    <a:pt x="1379415" y="902677"/>
                  </a:lnTo>
                  <a:lnTo>
                    <a:pt x="1332523" y="933939"/>
                  </a:lnTo>
                  <a:lnTo>
                    <a:pt x="1242646" y="965200"/>
                  </a:lnTo>
                  <a:lnTo>
                    <a:pt x="1141046" y="914400"/>
                  </a:lnTo>
                  <a:lnTo>
                    <a:pt x="1078523" y="832339"/>
                  </a:lnTo>
                  <a:lnTo>
                    <a:pt x="1004277" y="738554"/>
                  </a:lnTo>
                  <a:lnTo>
                    <a:pt x="890954" y="629139"/>
                  </a:lnTo>
                  <a:lnTo>
                    <a:pt x="851877" y="578339"/>
                  </a:lnTo>
                  <a:lnTo>
                    <a:pt x="1152769" y="910493"/>
                  </a:lnTo>
                  <a:lnTo>
                    <a:pt x="1125415" y="988646"/>
                  </a:lnTo>
                  <a:lnTo>
                    <a:pt x="1125415" y="1051169"/>
                  </a:lnTo>
                  <a:lnTo>
                    <a:pt x="1094154" y="1101969"/>
                  </a:lnTo>
                  <a:lnTo>
                    <a:pt x="1043354" y="1133231"/>
                  </a:lnTo>
                  <a:lnTo>
                    <a:pt x="961292" y="1129323"/>
                  </a:lnTo>
                  <a:lnTo>
                    <a:pt x="898769" y="1070708"/>
                  </a:lnTo>
                  <a:lnTo>
                    <a:pt x="840154" y="1012093"/>
                  </a:lnTo>
                  <a:lnTo>
                    <a:pt x="793261" y="941754"/>
                  </a:lnTo>
                  <a:lnTo>
                    <a:pt x="664307" y="789354"/>
                  </a:lnTo>
                  <a:lnTo>
                    <a:pt x="918307" y="1098062"/>
                  </a:lnTo>
                  <a:lnTo>
                    <a:pt x="890954" y="1125416"/>
                  </a:lnTo>
                  <a:lnTo>
                    <a:pt x="851877" y="1191846"/>
                  </a:lnTo>
                  <a:lnTo>
                    <a:pt x="785446" y="1215293"/>
                  </a:lnTo>
                  <a:lnTo>
                    <a:pt x="703384" y="1223108"/>
                  </a:lnTo>
                  <a:lnTo>
                    <a:pt x="636954" y="121138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19"/>
            <p:cNvSpPr/>
            <p:nvPr/>
          </p:nvSpPr>
          <p:spPr>
            <a:xfrm>
              <a:off x="2464200" y="3722760"/>
              <a:ext cx="187560" cy="2617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87569" h="261816">
                  <a:moveTo>
                    <a:pt x="187569" y="261816"/>
                  </a:moveTo>
                  <a:lnTo>
                    <a:pt x="0" y="0"/>
                  </a:lnTo>
                  <a:lnTo>
                    <a:pt x="187569" y="261816"/>
                  </a:ln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20"/>
            <p:cNvSpPr/>
            <p:nvPr/>
          </p:nvSpPr>
          <p:spPr>
            <a:xfrm>
              <a:off x="2120400" y="3702960"/>
              <a:ext cx="546840" cy="41040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547077" h="410308">
                  <a:moveTo>
                    <a:pt x="547077" y="308708"/>
                  </a:moveTo>
                  <a:lnTo>
                    <a:pt x="511908" y="359508"/>
                  </a:lnTo>
                  <a:lnTo>
                    <a:pt x="441569" y="394677"/>
                  </a:lnTo>
                  <a:lnTo>
                    <a:pt x="359508" y="402492"/>
                  </a:lnTo>
                  <a:lnTo>
                    <a:pt x="296985" y="371231"/>
                  </a:lnTo>
                  <a:lnTo>
                    <a:pt x="230554" y="316523"/>
                  </a:lnTo>
                  <a:lnTo>
                    <a:pt x="222739" y="289169"/>
                  </a:lnTo>
                  <a:lnTo>
                    <a:pt x="199293" y="242277"/>
                  </a:lnTo>
                  <a:lnTo>
                    <a:pt x="199293" y="164123"/>
                  </a:lnTo>
                  <a:lnTo>
                    <a:pt x="187569" y="66431"/>
                  </a:lnTo>
                  <a:lnTo>
                    <a:pt x="144585" y="0"/>
                  </a:lnTo>
                  <a:lnTo>
                    <a:pt x="50800" y="0"/>
                  </a:lnTo>
                  <a:lnTo>
                    <a:pt x="7816" y="42985"/>
                  </a:lnTo>
                  <a:lnTo>
                    <a:pt x="0" y="117231"/>
                  </a:lnTo>
                  <a:lnTo>
                    <a:pt x="0" y="191477"/>
                  </a:lnTo>
                  <a:lnTo>
                    <a:pt x="3908" y="277446"/>
                  </a:lnTo>
                  <a:lnTo>
                    <a:pt x="0" y="320431"/>
                  </a:lnTo>
                  <a:lnTo>
                    <a:pt x="3908" y="367323"/>
                  </a:lnTo>
                  <a:lnTo>
                    <a:pt x="66431" y="390769"/>
                  </a:lnTo>
                  <a:lnTo>
                    <a:pt x="128954" y="410308"/>
                  </a:lnTo>
                  <a:lnTo>
                    <a:pt x="183662" y="390769"/>
                  </a:lnTo>
                  <a:lnTo>
                    <a:pt x="222739" y="355600"/>
                  </a:lnTo>
                  <a:lnTo>
                    <a:pt x="242277" y="32433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21"/>
            <p:cNvSpPr/>
            <p:nvPr/>
          </p:nvSpPr>
          <p:spPr>
            <a:xfrm>
              <a:off x="2120400" y="3746160"/>
              <a:ext cx="152280" cy="144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52400" h="144584">
                  <a:moveTo>
                    <a:pt x="0" y="74246"/>
                  </a:moveTo>
                  <a:lnTo>
                    <a:pt x="46893" y="113323"/>
                  </a:lnTo>
                  <a:lnTo>
                    <a:pt x="93785" y="144584"/>
                  </a:lnTo>
                  <a:lnTo>
                    <a:pt x="121139" y="144584"/>
                  </a:lnTo>
                  <a:lnTo>
                    <a:pt x="152400" y="97692"/>
                  </a:lnTo>
                  <a:lnTo>
                    <a:pt x="148493" y="42984"/>
                  </a:lnTo>
                  <a:lnTo>
                    <a:pt x="12113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22"/>
            <p:cNvSpPr/>
            <p:nvPr/>
          </p:nvSpPr>
          <p:spPr>
            <a:xfrm>
              <a:off x="1694160" y="3460680"/>
              <a:ext cx="249840" cy="45720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50092" h="457200">
                  <a:moveTo>
                    <a:pt x="70338" y="175846"/>
                  </a:moveTo>
                  <a:lnTo>
                    <a:pt x="105507" y="218831"/>
                  </a:lnTo>
                  <a:lnTo>
                    <a:pt x="171938" y="238369"/>
                  </a:lnTo>
                  <a:lnTo>
                    <a:pt x="214923" y="195385"/>
                  </a:lnTo>
                  <a:lnTo>
                    <a:pt x="203200" y="125046"/>
                  </a:lnTo>
                  <a:lnTo>
                    <a:pt x="140677" y="74246"/>
                  </a:lnTo>
                  <a:lnTo>
                    <a:pt x="78154" y="54708"/>
                  </a:lnTo>
                  <a:lnTo>
                    <a:pt x="46892" y="70339"/>
                  </a:lnTo>
                  <a:lnTo>
                    <a:pt x="54707" y="39077"/>
                  </a:lnTo>
                  <a:lnTo>
                    <a:pt x="89877" y="11723"/>
                  </a:lnTo>
                  <a:lnTo>
                    <a:pt x="117231" y="0"/>
                  </a:lnTo>
                  <a:lnTo>
                    <a:pt x="168031" y="0"/>
                  </a:lnTo>
                  <a:lnTo>
                    <a:pt x="214923" y="39077"/>
                  </a:lnTo>
                  <a:lnTo>
                    <a:pt x="250092" y="66431"/>
                  </a:lnTo>
                  <a:lnTo>
                    <a:pt x="250092" y="113323"/>
                  </a:lnTo>
                  <a:lnTo>
                    <a:pt x="230554" y="214923"/>
                  </a:lnTo>
                  <a:lnTo>
                    <a:pt x="222738" y="308708"/>
                  </a:lnTo>
                  <a:lnTo>
                    <a:pt x="222738" y="394677"/>
                  </a:lnTo>
                  <a:lnTo>
                    <a:pt x="222738" y="441569"/>
                  </a:lnTo>
                  <a:lnTo>
                    <a:pt x="179754" y="457200"/>
                  </a:lnTo>
                  <a:lnTo>
                    <a:pt x="117231" y="425939"/>
                  </a:lnTo>
                  <a:lnTo>
                    <a:pt x="66431" y="363415"/>
                  </a:lnTo>
                  <a:lnTo>
                    <a:pt x="27354" y="304800"/>
                  </a:lnTo>
                  <a:lnTo>
                    <a:pt x="7815" y="222739"/>
                  </a:lnTo>
                  <a:lnTo>
                    <a:pt x="0" y="175846"/>
                  </a:lnTo>
                  <a:lnTo>
                    <a:pt x="23446" y="105508"/>
                  </a:lnTo>
                  <a:lnTo>
                    <a:pt x="50800" y="5861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23"/>
            <p:cNvSpPr/>
            <p:nvPr/>
          </p:nvSpPr>
          <p:spPr>
            <a:xfrm>
              <a:off x="1967760" y="3562200"/>
              <a:ext cx="156240" cy="17172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56308" h="171939">
                  <a:moveTo>
                    <a:pt x="0" y="113323"/>
                  </a:moveTo>
                  <a:lnTo>
                    <a:pt x="58616" y="171939"/>
                  </a:lnTo>
                  <a:lnTo>
                    <a:pt x="109416" y="164123"/>
                  </a:lnTo>
                  <a:lnTo>
                    <a:pt x="156308" y="132862"/>
                  </a:lnTo>
                  <a:lnTo>
                    <a:pt x="128954" y="62523"/>
                  </a:lnTo>
                  <a:lnTo>
                    <a:pt x="89877" y="15631"/>
                  </a:lnTo>
                  <a:lnTo>
                    <a:pt x="46893" y="0"/>
                  </a:lnTo>
                  <a:lnTo>
                    <a:pt x="3908" y="19539"/>
                  </a:lnTo>
                  <a:lnTo>
                    <a:pt x="0" y="11332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24"/>
            <p:cNvSpPr/>
            <p:nvPr/>
          </p:nvSpPr>
          <p:spPr>
            <a:xfrm>
              <a:off x="1987200" y="3523320"/>
              <a:ext cx="195120" cy="1836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95384" h="183662">
                  <a:moveTo>
                    <a:pt x="0" y="39077"/>
                  </a:moveTo>
                  <a:lnTo>
                    <a:pt x="42984" y="11723"/>
                  </a:lnTo>
                  <a:lnTo>
                    <a:pt x="85969" y="0"/>
                  </a:lnTo>
                  <a:lnTo>
                    <a:pt x="117230" y="15631"/>
                  </a:lnTo>
                  <a:lnTo>
                    <a:pt x="164123" y="46892"/>
                  </a:lnTo>
                  <a:lnTo>
                    <a:pt x="183661" y="78154"/>
                  </a:lnTo>
                  <a:lnTo>
                    <a:pt x="195384" y="140677"/>
                  </a:lnTo>
                  <a:lnTo>
                    <a:pt x="195384" y="18366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25"/>
            <p:cNvSpPr/>
            <p:nvPr/>
          </p:nvSpPr>
          <p:spPr>
            <a:xfrm>
              <a:off x="1909080" y="3886920"/>
              <a:ext cx="230400" cy="14832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30554" h="148492">
                  <a:moveTo>
                    <a:pt x="0" y="0"/>
                  </a:moveTo>
                  <a:lnTo>
                    <a:pt x="78154" y="93784"/>
                  </a:lnTo>
                  <a:lnTo>
                    <a:pt x="117231" y="121138"/>
                  </a:lnTo>
                  <a:lnTo>
                    <a:pt x="179754" y="148492"/>
                  </a:lnTo>
                  <a:lnTo>
                    <a:pt x="230554" y="12504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26"/>
            <p:cNvSpPr/>
            <p:nvPr/>
          </p:nvSpPr>
          <p:spPr>
            <a:xfrm>
              <a:off x="2010960" y="2780280"/>
              <a:ext cx="140400" cy="1875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40677" h="187569">
                  <a:moveTo>
                    <a:pt x="42984" y="27353"/>
                  </a:moveTo>
                  <a:lnTo>
                    <a:pt x="7815" y="121138"/>
                  </a:lnTo>
                  <a:lnTo>
                    <a:pt x="0" y="156307"/>
                  </a:lnTo>
                  <a:lnTo>
                    <a:pt x="7815" y="187569"/>
                  </a:lnTo>
                  <a:lnTo>
                    <a:pt x="27354" y="179753"/>
                  </a:lnTo>
                  <a:lnTo>
                    <a:pt x="62523" y="125046"/>
                  </a:lnTo>
                  <a:lnTo>
                    <a:pt x="101600" y="85969"/>
                  </a:lnTo>
                  <a:lnTo>
                    <a:pt x="140677" y="11723"/>
                  </a:lnTo>
                  <a:lnTo>
                    <a:pt x="125046" y="0"/>
                  </a:lnTo>
                  <a:lnTo>
                    <a:pt x="89877" y="0"/>
                  </a:lnTo>
                  <a:lnTo>
                    <a:pt x="42984" y="2735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27"/>
            <p:cNvSpPr/>
            <p:nvPr/>
          </p:nvSpPr>
          <p:spPr>
            <a:xfrm>
              <a:off x="2073240" y="2530440"/>
              <a:ext cx="1402920" cy="25776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1402861" h="257908">
                  <a:moveTo>
                    <a:pt x="0" y="218831"/>
                  </a:moveTo>
                  <a:lnTo>
                    <a:pt x="23446" y="144585"/>
                  </a:lnTo>
                  <a:lnTo>
                    <a:pt x="85969" y="101600"/>
                  </a:lnTo>
                  <a:lnTo>
                    <a:pt x="148492" y="58616"/>
                  </a:lnTo>
                  <a:lnTo>
                    <a:pt x="242277" y="35170"/>
                  </a:lnTo>
                  <a:lnTo>
                    <a:pt x="347785" y="23446"/>
                  </a:lnTo>
                  <a:lnTo>
                    <a:pt x="429846" y="0"/>
                  </a:lnTo>
                  <a:lnTo>
                    <a:pt x="527538" y="3908"/>
                  </a:lnTo>
                  <a:lnTo>
                    <a:pt x="640861" y="31262"/>
                  </a:lnTo>
                  <a:lnTo>
                    <a:pt x="742461" y="58616"/>
                  </a:lnTo>
                  <a:lnTo>
                    <a:pt x="828431" y="89877"/>
                  </a:lnTo>
                  <a:lnTo>
                    <a:pt x="937846" y="128954"/>
                  </a:lnTo>
                  <a:lnTo>
                    <a:pt x="1027723" y="179754"/>
                  </a:lnTo>
                  <a:lnTo>
                    <a:pt x="1094154" y="230554"/>
                  </a:lnTo>
                  <a:lnTo>
                    <a:pt x="1172308" y="254000"/>
                  </a:lnTo>
                  <a:lnTo>
                    <a:pt x="1195754" y="257908"/>
                  </a:lnTo>
                  <a:lnTo>
                    <a:pt x="1402861" y="12504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任意多边形 28"/>
            <p:cNvSpPr/>
            <p:nvPr/>
          </p:nvSpPr>
          <p:spPr>
            <a:xfrm>
              <a:off x="3515400" y="3081600"/>
              <a:ext cx="160200" cy="74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60216" h="74246">
                  <a:moveTo>
                    <a:pt x="0" y="74246"/>
                  </a:moveTo>
                  <a:lnTo>
                    <a:pt x="78154" y="54708"/>
                  </a:lnTo>
                  <a:lnTo>
                    <a:pt x="160216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29"/>
            <p:cNvSpPr/>
            <p:nvPr/>
          </p:nvSpPr>
          <p:spPr>
            <a:xfrm>
              <a:off x="3367080" y="3382560"/>
              <a:ext cx="331920" cy="13680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32154" h="136769">
                  <a:moveTo>
                    <a:pt x="0" y="136769"/>
                  </a:moveTo>
                  <a:lnTo>
                    <a:pt x="97692" y="89877"/>
                  </a:lnTo>
                  <a:lnTo>
                    <a:pt x="293077" y="15631"/>
                  </a:lnTo>
                  <a:lnTo>
                    <a:pt x="332154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30"/>
            <p:cNvSpPr/>
            <p:nvPr/>
          </p:nvSpPr>
          <p:spPr>
            <a:xfrm>
              <a:off x="2683080" y="3101040"/>
              <a:ext cx="74160" cy="46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74246" h="46893">
                  <a:moveTo>
                    <a:pt x="0" y="46893"/>
                  </a:moveTo>
                  <a:lnTo>
                    <a:pt x="74246" y="0"/>
                  </a:lnTo>
                  <a:lnTo>
                    <a:pt x="70338" y="117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31"/>
            <p:cNvSpPr/>
            <p:nvPr/>
          </p:nvSpPr>
          <p:spPr>
            <a:xfrm>
              <a:off x="2565720" y="3315960"/>
              <a:ext cx="105480" cy="5076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5508" h="50800">
                  <a:moveTo>
                    <a:pt x="0" y="50800"/>
                  </a:moveTo>
                  <a:lnTo>
                    <a:pt x="10550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32"/>
            <p:cNvSpPr/>
            <p:nvPr/>
          </p:nvSpPr>
          <p:spPr>
            <a:xfrm>
              <a:off x="2409480" y="3519360"/>
              <a:ext cx="74160" cy="702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4247" h="70339">
                  <a:moveTo>
                    <a:pt x="0" y="70339"/>
                  </a:moveTo>
                  <a:lnTo>
                    <a:pt x="74247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33"/>
            <p:cNvSpPr/>
            <p:nvPr/>
          </p:nvSpPr>
          <p:spPr>
            <a:xfrm>
              <a:off x="3030840" y="3495960"/>
              <a:ext cx="81720" cy="547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82061" h="54708">
                  <a:moveTo>
                    <a:pt x="0" y="54708"/>
                  </a:moveTo>
                  <a:lnTo>
                    <a:pt x="8206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34"/>
            <p:cNvSpPr/>
            <p:nvPr/>
          </p:nvSpPr>
          <p:spPr>
            <a:xfrm>
              <a:off x="2901960" y="3812400"/>
              <a:ext cx="50760" cy="27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0800" h="27354">
                  <a:moveTo>
                    <a:pt x="0" y="27354"/>
                  </a:moveTo>
                  <a:lnTo>
                    <a:pt x="5080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文本框 35"/>
          <p:cNvSpPr/>
          <p:nvPr/>
        </p:nvSpPr>
        <p:spPr>
          <a:xfrm>
            <a:off x="9760320" y="-324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3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椭圆 10"/>
          <p:cNvSpPr/>
          <p:nvPr/>
        </p:nvSpPr>
        <p:spPr>
          <a:xfrm>
            <a:off x="8040600" y="1679400"/>
            <a:ext cx="31514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5"/>
          <p:cNvSpPr/>
          <p:nvPr/>
        </p:nvSpPr>
        <p:spPr>
          <a:xfrm>
            <a:off x="829008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"/>
          <p:cNvSpPr/>
          <p:nvPr/>
        </p:nvSpPr>
        <p:spPr>
          <a:xfrm>
            <a:off x="2527200" y="1870200"/>
            <a:ext cx="625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支持单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再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"/>
          <p:cNvSpPr/>
          <p:nvPr/>
        </p:nvSpPr>
        <p:spPr>
          <a:xfrm>
            <a:off x="8717760" y="216864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00"/>
                </a:solidFill>
                <a:latin typeface="迷你简汉真广标"/>
                <a:ea typeface="迷你简汉真广标"/>
              </a:rPr>
              <a:t>喜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5"/>
          <p:cNvSpPr/>
          <p:nvPr/>
        </p:nvSpPr>
        <p:spPr>
          <a:xfrm>
            <a:off x="9456120" y="216864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00"/>
                </a:solidFill>
                <a:latin typeface="迷你简汉真广标"/>
                <a:ea typeface="迷你简汉真广标"/>
              </a:rPr>
              <a:t>喜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9"/>
          <p:cNvSpPr/>
          <p:nvPr/>
        </p:nvSpPr>
        <p:spPr>
          <a:xfrm>
            <a:off x="12420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4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"/>
          <p:cNvSpPr/>
          <p:nvPr/>
        </p:nvSpPr>
        <p:spPr>
          <a:xfrm>
            <a:off x="4683240" y="206532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定期带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做体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21"/>
          <p:cNvSpPr/>
          <p:nvPr/>
        </p:nvSpPr>
        <p:spPr>
          <a:xfrm>
            <a:off x="1714680" y="2978280"/>
            <a:ext cx="701640" cy="1136520"/>
          </a:xfrm>
          <a:custGeom>
            <a:avLst/>
            <a:gdLst>
              <a:gd name="textAreaLeft" fmla="*/ 0 w 701640"/>
              <a:gd name="textAreaRight" fmla="*/ 702000 w 7016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722760" h="1054796">
                <a:moveTo>
                  <a:pt x="154858" y="0"/>
                </a:moveTo>
                <a:cubicBezTo>
                  <a:pt x="185583" y="30111"/>
                  <a:pt x="216309" y="60222"/>
                  <a:pt x="213851" y="125361"/>
                </a:cubicBezTo>
                <a:cubicBezTo>
                  <a:pt x="211393" y="190500"/>
                  <a:pt x="168377" y="318319"/>
                  <a:pt x="140109" y="390832"/>
                </a:cubicBezTo>
                <a:cubicBezTo>
                  <a:pt x="111841" y="463345"/>
                  <a:pt x="67597" y="505131"/>
                  <a:pt x="44245" y="560438"/>
                </a:cubicBezTo>
                <a:cubicBezTo>
                  <a:pt x="20893" y="615745"/>
                  <a:pt x="0" y="667365"/>
                  <a:pt x="0" y="722671"/>
                </a:cubicBezTo>
                <a:cubicBezTo>
                  <a:pt x="0" y="777977"/>
                  <a:pt x="3687" y="839429"/>
                  <a:pt x="44245" y="892277"/>
                </a:cubicBezTo>
                <a:cubicBezTo>
                  <a:pt x="84803" y="945125"/>
                  <a:pt x="178209" y="1016409"/>
                  <a:pt x="243348" y="1039761"/>
                </a:cubicBezTo>
                <a:cubicBezTo>
                  <a:pt x="308487" y="1063113"/>
                  <a:pt x="373625" y="1058197"/>
                  <a:pt x="435077" y="1032387"/>
                </a:cubicBezTo>
                <a:cubicBezTo>
                  <a:pt x="496529" y="1006577"/>
                  <a:pt x="569042" y="943897"/>
                  <a:pt x="612058" y="884903"/>
                </a:cubicBezTo>
                <a:cubicBezTo>
                  <a:pt x="655074" y="825909"/>
                  <a:pt x="674739" y="732502"/>
                  <a:pt x="693174" y="678425"/>
                </a:cubicBezTo>
                <a:cubicBezTo>
                  <a:pt x="711609" y="624348"/>
                  <a:pt x="721442" y="620660"/>
                  <a:pt x="722671" y="560438"/>
                </a:cubicBezTo>
                <a:cubicBezTo>
                  <a:pt x="723900" y="500216"/>
                  <a:pt x="712224" y="408653"/>
                  <a:pt x="700548" y="317090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22"/>
          <p:cNvSpPr/>
          <p:nvPr/>
        </p:nvSpPr>
        <p:spPr>
          <a:xfrm>
            <a:off x="2394000" y="3425760"/>
            <a:ext cx="309600" cy="265320"/>
          </a:xfrm>
          <a:custGeom>
            <a:avLst/>
            <a:gdLst>
              <a:gd name="textAreaLeft" fmla="*/ 0 w 309600"/>
              <a:gd name="textAreaRight" fmla="*/ 309960 w 309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309716" h="265471">
                <a:moveTo>
                  <a:pt x="0" y="265471"/>
                </a:moveTo>
                <a:cubicBezTo>
                  <a:pt x="23351" y="214466"/>
                  <a:pt x="46703" y="163462"/>
                  <a:pt x="81116" y="132736"/>
                </a:cubicBezTo>
                <a:cubicBezTo>
                  <a:pt x="115529" y="102010"/>
                  <a:pt x="168378" y="103239"/>
                  <a:pt x="206478" y="81116"/>
                </a:cubicBezTo>
                <a:cubicBezTo>
                  <a:pt x="244578" y="58993"/>
                  <a:pt x="277147" y="29496"/>
                  <a:pt x="309716" y="0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23"/>
          <p:cNvSpPr/>
          <p:nvPr/>
        </p:nvSpPr>
        <p:spPr>
          <a:xfrm>
            <a:off x="2270160" y="2452680"/>
            <a:ext cx="325440" cy="885960"/>
          </a:xfrm>
          <a:custGeom>
            <a:avLst/>
            <a:gdLst>
              <a:gd name="textAreaLeft" fmla="*/ 0 w 325440"/>
              <a:gd name="textAreaRight" fmla="*/ 325800 w 32544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326645" h="885569">
                <a:moveTo>
                  <a:pt x="125104" y="885569"/>
                </a:moveTo>
                <a:cubicBezTo>
                  <a:pt x="115151" y="833317"/>
                  <a:pt x="105198" y="781065"/>
                  <a:pt x="98978" y="743743"/>
                </a:cubicBezTo>
                <a:cubicBezTo>
                  <a:pt x="92758" y="706421"/>
                  <a:pt x="93379" y="689004"/>
                  <a:pt x="87781" y="661634"/>
                </a:cubicBezTo>
                <a:cubicBezTo>
                  <a:pt x="82183" y="634264"/>
                  <a:pt x="72852" y="609382"/>
                  <a:pt x="65388" y="579524"/>
                </a:cubicBezTo>
                <a:cubicBezTo>
                  <a:pt x="57923" y="549666"/>
                  <a:pt x="49214" y="518564"/>
                  <a:pt x="42994" y="482486"/>
                </a:cubicBezTo>
                <a:cubicBezTo>
                  <a:pt x="36774" y="446408"/>
                  <a:pt x="34286" y="407219"/>
                  <a:pt x="28066" y="363054"/>
                </a:cubicBezTo>
                <a:cubicBezTo>
                  <a:pt x="21846" y="318889"/>
                  <a:pt x="10026" y="254819"/>
                  <a:pt x="5672" y="217497"/>
                </a:cubicBezTo>
                <a:cubicBezTo>
                  <a:pt x="1318" y="180175"/>
                  <a:pt x="-2414" y="167112"/>
                  <a:pt x="1940" y="139120"/>
                </a:cubicBezTo>
                <a:cubicBezTo>
                  <a:pt x="6294" y="111128"/>
                  <a:pt x="15003" y="71317"/>
                  <a:pt x="31798" y="49546"/>
                </a:cubicBezTo>
                <a:cubicBezTo>
                  <a:pt x="48593" y="27775"/>
                  <a:pt x="77206" y="16578"/>
                  <a:pt x="102710" y="8491"/>
                </a:cubicBezTo>
                <a:cubicBezTo>
                  <a:pt x="128214" y="404"/>
                  <a:pt x="158694" y="-1462"/>
                  <a:pt x="184820" y="1026"/>
                </a:cubicBezTo>
                <a:cubicBezTo>
                  <a:pt x="210946" y="3514"/>
                  <a:pt x="235828" y="10979"/>
                  <a:pt x="259465" y="23420"/>
                </a:cubicBezTo>
                <a:cubicBezTo>
                  <a:pt x="283103" y="35861"/>
                  <a:pt x="304874" y="55766"/>
                  <a:pt x="326645" y="7567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4"/>
          <p:cNvSpPr/>
          <p:nvPr/>
        </p:nvSpPr>
        <p:spPr>
          <a:xfrm flipH="1" rot="2277000">
            <a:off x="2754360" y="2631960"/>
            <a:ext cx="326880" cy="885600"/>
          </a:xfrm>
          <a:custGeom>
            <a:avLst/>
            <a:gdLst>
              <a:gd name="textAreaLeft" fmla="*/ 360 w 326880"/>
              <a:gd name="textAreaRight" fmla="*/ 327600 w 3268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326645" h="885569">
                <a:moveTo>
                  <a:pt x="125104" y="885569"/>
                </a:moveTo>
                <a:cubicBezTo>
                  <a:pt x="115151" y="833317"/>
                  <a:pt x="105198" y="781065"/>
                  <a:pt x="98978" y="743743"/>
                </a:cubicBezTo>
                <a:cubicBezTo>
                  <a:pt x="92758" y="706421"/>
                  <a:pt x="93379" y="689004"/>
                  <a:pt x="87781" y="661634"/>
                </a:cubicBezTo>
                <a:cubicBezTo>
                  <a:pt x="82183" y="634264"/>
                  <a:pt x="72852" y="609382"/>
                  <a:pt x="65388" y="579524"/>
                </a:cubicBezTo>
                <a:cubicBezTo>
                  <a:pt x="57923" y="549666"/>
                  <a:pt x="49214" y="518564"/>
                  <a:pt x="42994" y="482486"/>
                </a:cubicBezTo>
                <a:cubicBezTo>
                  <a:pt x="36774" y="446408"/>
                  <a:pt x="34286" y="407219"/>
                  <a:pt x="28066" y="363054"/>
                </a:cubicBezTo>
                <a:cubicBezTo>
                  <a:pt x="21846" y="318889"/>
                  <a:pt x="10026" y="254819"/>
                  <a:pt x="5672" y="217497"/>
                </a:cubicBezTo>
                <a:cubicBezTo>
                  <a:pt x="1318" y="180175"/>
                  <a:pt x="-2414" y="167112"/>
                  <a:pt x="1940" y="139120"/>
                </a:cubicBezTo>
                <a:cubicBezTo>
                  <a:pt x="6294" y="111128"/>
                  <a:pt x="15003" y="71317"/>
                  <a:pt x="31798" y="49546"/>
                </a:cubicBezTo>
                <a:cubicBezTo>
                  <a:pt x="48593" y="27775"/>
                  <a:pt x="77206" y="16578"/>
                  <a:pt x="102710" y="8491"/>
                </a:cubicBezTo>
                <a:cubicBezTo>
                  <a:pt x="128214" y="404"/>
                  <a:pt x="158694" y="-1462"/>
                  <a:pt x="184820" y="1026"/>
                </a:cubicBezTo>
                <a:cubicBezTo>
                  <a:pt x="210946" y="3514"/>
                  <a:pt x="235828" y="10979"/>
                  <a:pt x="259465" y="23420"/>
                </a:cubicBezTo>
                <a:cubicBezTo>
                  <a:pt x="283103" y="35861"/>
                  <a:pt x="304874" y="55766"/>
                  <a:pt x="326645" y="7567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27"/>
          <p:cNvSpPr/>
          <p:nvPr/>
        </p:nvSpPr>
        <p:spPr>
          <a:xfrm>
            <a:off x="1673280" y="2735280"/>
            <a:ext cx="465120" cy="46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单圆角矩形 287"/>
          <p:cNvSpPr/>
          <p:nvPr/>
        </p:nvSpPr>
        <p:spPr>
          <a:xfrm rot="966000">
            <a:off x="2416320" y="3377880"/>
            <a:ext cx="253800" cy="69840"/>
          </a:xfrm>
          <a:custGeom>
            <a:avLst/>
            <a:gdLst>
              <a:gd name="textAreaLeft" fmla="*/ 0 w 253800"/>
              <a:gd name="textAreaRight" fmla="*/ 254160 w 2538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55343" h="70265">
                <a:moveTo>
                  <a:pt x="0" y="0"/>
                </a:moveTo>
                <a:lnTo>
                  <a:pt x="254505" y="6060"/>
                </a:lnTo>
                <a:cubicBezTo>
                  <a:pt x="258713" y="6060"/>
                  <a:pt x="245712" y="6442"/>
                  <a:pt x="245712" y="10650"/>
                </a:cubicBezTo>
                <a:lnTo>
                  <a:pt x="211925" y="66275"/>
                </a:lnTo>
                <a:lnTo>
                  <a:pt x="22625" y="7026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9"/>
          <p:cNvSpPr/>
          <p:nvPr/>
        </p:nvSpPr>
        <p:spPr>
          <a:xfrm>
            <a:off x="9735120" y="-2556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5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椭圆 10"/>
          <p:cNvSpPr/>
          <p:nvPr/>
        </p:nvSpPr>
        <p:spPr>
          <a:xfrm>
            <a:off x="7386480" y="1668600"/>
            <a:ext cx="3151440" cy="315108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5"/>
          <p:cNvSpPr/>
          <p:nvPr/>
        </p:nvSpPr>
        <p:spPr>
          <a:xfrm>
            <a:off x="7635960" y="191772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"/>
          <p:cNvSpPr/>
          <p:nvPr/>
        </p:nvSpPr>
        <p:spPr>
          <a:xfrm>
            <a:off x="1378080" y="1928880"/>
            <a:ext cx="6257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为父母购买合适的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保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19"/>
          <p:cNvSpPr/>
          <p:nvPr/>
        </p:nvSpPr>
        <p:spPr>
          <a:xfrm>
            <a:off x="8169120" y="2532240"/>
            <a:ext cx="1495440" cy="152388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495425" h="1524000">
                <a:moveTo>
                  <a:pt x="238973" y="111100"/>
                </a:moveTo>
                <a:cubicBezTo>
                  <a:pt x="175313" y="111100"/>
                  <a:pt x="123707" y="162706"/>
                  <a:pt x="123707" y="226366"/>
                </a:cubicBezTo>
                <a:lnTo>
                  <a:pt x="123707" y="1116658"/>
                </a:lnTo>
                <a:cubicBezTo>
                  <a:pt x="123707" y="1180318"/>
                  <a:pt x="175313" y="1231924"/>
                  <a:pt x="238973" y="1231924"/>
                </a:cubicBezTo>
                <a:lnTo>
                  <a:pt x="1256451" y="1231924"/>
                </a:lnTo>
                <a:cubicBezTo>
                  <a:pt x="1320111" y="1231924"/>
                  <a:pt x="1371717" y="1180318"/>
                  <a:pt x="1371717" y="1116658"/>
                </a:cubicBezTo>
                <a:lnTo>
                  <a:pt x="1371717" y="226366"/>
                </a:lnTo>
                <a:cubicBezTo>
                  <a:pt x="1371717" y="162706"/>
                  <a:pt x="1320111" y="111100"/>
                  <a:pt x="1256451" y="111100"/>
                </a:cubicBezTo>
                <a:lnTo>
                  <a:pt x="238973" y="111100"/>
                </a:lnTo>
                <a:close/>
                <a:moveTo>
                  <a:pt x="138117" y="0"/>
                </a:moveTo>
                <a:lnTo>
                  <a:pt x="1357308" y="0"/>
                </a:lnTo>
                <a:cubicBezTo>
                  <a:pt x="1433588" y="0"/>
                  <a:pt x="1495425" y="61837"/>
                  <a:pt x="1495425" y="138117"/>
                </a:cubicBezTo>
                <a:lnTo>
                  <a:pt x="1495425" y="1204908"/>
                </a:lnTo>
                <a:cubicBezTo>
                  <a:pt x="1495425" y="1281188"/>
                  <a:pt x="1433588" y="1343025"/>
                  <a:pt x="1357308" y="1343025"/>
                </a:cubicBezTo>
                <a:lnTo>
                  <a:pt x="1252537" y="1343025"/>
                </a:lnTo>
                <a:lnTo>
                  <a:pt x="1215628" y="1523999"/>
                </a:lnTo>
                <a:lnTo>
                  <a:pt x="1141809" y="1523999"/>
                </a:lnTo>
                <a:lnTo>
                  <a:pt x="1104900" y="1343025"/>
                </a:lnTo>
                <a:lnTo>
                  <a:pt x="338137" y="1343025"/>
                </a:lnTo>
                <a:lnTo>
                  <a:pt x="301228" y="1524000"/>
                </a:lnTo>
                <a:lnTo>
                  <a:pt x="227409" y="1524000"/>
                </a:lnTo>
                <a:lnTo>
                  <a:pt x="190500" y="1343025"/>
                </a:lnTo>
                <a:lnTo>
                  <a:pt x="138117" y="1343025"/>
                </a:lnTo>
                <a:cubicBezTo>
                  <a:pt x="61837" y="1343025"/>
                  <a:pt x="0" y="1281188"/>
                  <a:pt x="0" y="1204908"/>
                </a:cubicBezTo>
                <a:lnTo>
                  <a:pt x="0" y="138117"/>
                </a:lnTo>
                <a:cubicBezTo>
                  <a:pt x="0" y="61837"/>
                  <a:pt x="61837" y="0"/>
                  <a:pt x="138117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0"/>
          <p:cNvSpPr/>
          <p:nvPr/>
        </p:nvSpPr>
        <p:spPr>
          <a:xfrm rot="21195000">
            <a:off x="8510040" y="2553840"/>
            <a:ext cx="4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 PShinChanPOP"/>
                <a:ea typeface="AR PShinChanPOP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29"/>
          <p:cNvSpPr/>
          <p:nvPr/>
        </p:nvSpPr>
        <p:spPr>
          <a:xfrm>
            <a:off x="8775720" y="2822400"/>
            <a:ext cx="260280" cy="7639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1"/>
          <p:cNvSpPr/>
          <p:nvPr/>
        </p:nvSpPr>
        <p:spPr>
          <a:xfrm>
            <a:off x="11412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6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"/>
          <p:cNvSpPr/>
          <p:nvPr/>
        </p:nvSpPr>
        <p:spPr>
          <a:xfrm>
            <a:off x="4683240" y="206532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常和父母做交心的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沟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形标注 2"/>
          <p:cNvSpPr/>
          <p:nvPr/>
        </p:nvSpPr>
        <p:spPr>
          <a:xfrm>
            <a:off x="1292400" y="2470320"/>
            <a:ext cx="1380960" cy="1380960"/>
          </a:xfrm>
          <a:prstGeom prst="wedgeEllipseCallout">
            <a:avLst>
              <a:gd name="adj1" fmla="val -42000"/>
              <a:gd name="adj2" fmla="val 5237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形标注 11"/>
          <p:cNvSpPr/>
          <p:nvPr/>
        </p:nvSpPr>
        <p:spPr>
          <a:xfrm rot="17620200">
            <a:off x="2782080" y="2870640"/>
            <a:ext cx="932040" cy="933480"/>
          </a:xfrm>
          <a:prstGeom prst="wedgeEllipseCallout">
            <a:avLst>
              <a:gd name="adj1" fmla="val -42000"/>
              <a:gd name="adj2" fmla="val 5237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心形 2"/>
          <p:cNvSpPr/>
          <p:nvPr/>
        </p:nvSpPr>
        <p:spPr>
          <a:xfrm rot="670200">
            <a:off x="2622600" y="2502000"/>
            <a:ext cx="412560" cy="407880"/>
          </a:xfrm>
          <a:custGeom>
            <a:avLst/>
            <a:gdLst>
              <a:gd name="textAreaLeft" fmla="*/ 0 w 412560"/>
              <a:gd name="textAreaRight" fmla="*/ 412920 w 41256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1599782" h="1579847">
                <a:moveTo>
                  <a:pt x="848691" y="267514"/>
                </a:moveTo>
                <a:cubicBezTo>
                  <a:pt x="869857" y="-367485"/>
                  <a:pt x="2561074" y="284447"/>
                  <a:pt x="797891" y="1579847"/>
                </a:cubicBezTo>
                <a:cubicBezTo>
                  <a:pt x="-965292" y="284447"/>
                  <a:pt x="725925" y="-418286"/>
                  <a:pt x="848691" y="267514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3"/>
          <p:cNvSpPr/>
          <p:nvPr/>
        </p:nvSpPr>
        <p:spPr>
          <a:xfrm>
            <a:off x="1500120" y="2603520"/>
            <a:ext cx="1052640" cy="1054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3"/>
          <p:cNvSpPr/>
          <p:nvPr/>
        </p:nvSpPr>
        <p:spPr>
          <a:xfrm>
            <a:off x="9681840" y="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7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椭圆 10"/>
          <p:cNvSpPr/>
          <p:nvPr/>
        </p:nvSpPr>
        <p:spPr>
          <a:xfrm>
            <a:off x="7923240" y="1778040"/>
            <a:ext cx="315108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15"/>
          <p:cNvSpPr/>
          <p:nvPr/>
        </p:nvSpPr>
        <p:spPr>
          <a:xfrm>
            <a:off x="8172360" y="202716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"/>
          <p:cNvSpPr/>
          <p:nvPr/>
        </p:nvSpPr>
        <p:spPr>
          <a:xfrm>
            <a:off x="1003320" y="1909800"/>
            <a:ext cx="704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带父母</a:t>
            </a: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一起出席重要的活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7"/>
          <p:cNvGrpSpPr/>
          <p:nvPr/>
        </p:nvGrpSpPr>
        <p:grpSpPr>
          <a:xfrm>
            <a:off x="8364960" y="2428560"/>
            <a:ext cx="2310120" cy="1929600"/>
            <a:chOff x="8364960" y="2428560"/>
            <a:chExt cx="2310120" cy="1929600"/>
          </a:xfrm>
        </p:grpSpPr>
        <p:sp>
          <p:nvSpPr>
            <p:cNvPr id="280" name="椭圆 36"/>
            <p:cNvSpPr/>
            <p:nvPr/>
          </p:nvSpPr>
          <p:spPr>
            <a:xfrm>
              <a:off x="9013680" y="2667240"/>
              <a:ext cx="240480" cy="24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37"/>
            <p:cNvSpPr/>
            <p:nvPr/>
          </p:nvSpPr>
          <p:spPr>
            <a:xfrm>
              <a:off x="9694440" y="2633760"/>
              <a:ext cx="240480" cy="24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40"/>
            <p:cNvSpPr/>
            <p:nvPr/>
          </p:nvSpPr>
          <p:spPr>
            <a:xfrm>
              <a:off x="8440560" y="2841120"/>
              <a:ext cx="212400" cy="21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41"/>
            <p:cNvSpPr/>
            <p:nvPr/>
          </p:nvSpPr>
          <p:spPr>
            <a:xfrm>
              <a:off x="10385640" y="2841120"/>
              <a:ext cx="212400" cy="21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2"/>
            <p:cNvSpPr/>
            <p:nvPr/>
          </p:nvSpPr>
          <p:spPr>
            <a:xfrm>
              <a:off x="8627040" y="2947320"/>
              <a:ext cx="114840" cy="61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43"/>
            <p:cNvSpPr/>
            <p:nvPr/>
          </p:nvSpPr>
          <p:spPr>
            <a:xfrm>
              <a:off x="10328400" y="2947320"/>
              <a:ext cx="57240" cy="61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44"/>
            <p:cNvSpPr/>
            <p:nvPr/>
          </p:nvSpPr>
          <p:spPr>
            <a:xfrm rot="6683400">
              <a:off x="8870040" y="2407320"/>
              <a:ext cx="1299960" cy="197172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971720"/>
                <a:gd name="textAreaBottom" fmla="*/ 1972080 h 1971720"/>
              </a:gdLst>
              <a:ahLst/>
              <a:rect l="textAreaLeft" t="textAreaTop" r="textAreaRight" b="textAreaBottom"/>
              <a:pathLst>
                <a:path w="2419698" h="3669637">
                  <a:moveTo>
                    <a:pt x="116267" y="2337790"/>
                  </a:moveTo>
                  <a:cubicBezTo>
                    <a:pt x="-72429" y="1839485"/>
                    <a:pt x="-27147" y="1292870"/>
                    <a:pt x="220892" y="840456"/>
                  </a:cubicBezTo>
                  <a:lnTo>
                    <a:pt x="314369" y="695899"/>
                  </a:lnTo>
                  <a:lnTo>
                    <a:pt x="186023" y="368365"/>
                  </a:lnTo>
                  <a:lnTo>
                    <a:pt x="1126078" y="0"/>
                  </a:lnTo>
                  <a:lnTo>
                    <a:pt x="2419698" y="3301272"/>
                  </a:lnTo>
                  <a:lnTo>
                    <a:pt x="1479644" y="3669637"/>
                  </a:lnTo>
                  <a:lnTo>
                    <a:pt x="1392790" y="3447991"/>
                  </a:lnTo>
                  <a:lnTo>
                    <a:pt x="1186439" y="3390257"/>
                  </a:lnTo>
                  <a:cubicBezTo>
                    <a:pt x="700948" y="3215613"/>
                    <a:pt x="304963" y="2836095"/>
                    <a:pt x="116267" y="233779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319"/>
            <p:cNvSpPr/>
            <p:nvPr/>
          </p:nvSpPr>
          <p:spPr>
            <a:xfrm>
              <a:off x="8552880" y="3774960"/>
              <a:ext cx="473400" cy="23004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881063" h="428625">
                  <a:moveTo>
                    <a:pt x="66675" y="0"/>
                  </a:moveTo>
                  <a:lnTo>
                    <a:pt x="881063" y="0"/>
                  </a:lnTo>
                  <a:lnTo>
                    <a:pt x="795338" y="409575"/>
                  </a:lnTo>
                  <a:lnTo>
                    <a:pt x="0" y="428625"/>
                  </a:lnTo>
                  <a:lnTo>
                    <a:pt x="6667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319"/>
            <p:cNvSpPr/>
            <p:nvPr/>
          </p:nvSpPr>
          <p:spPr>
            <a:xfrm flipH="1">
              <a:off x="9983880" y="3797280"/>
              <a:ext cx="473400" cy="230040"/>
            </a:xfrm>
            <a:custGeom>
              <a:avLst/>
              <a:gdLst>
                <a:gd name="textAreaLeft" fmla="*/ -360 w 473400"/>
                <a:gd name="textAreaRight" fmla="*/ 473400 w 4734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881063" h="428625">
                  <a:moveTo>
                    <a:pt x="66675" y="0"/>
                  </a:moveTo>
                  <a:lnTo>
                    <a:pt x="881063" y="0"/>
                  </a:lnTo>
                  <a:lnTo>
                    <a:pt x="795338" y="409575"/>
                  </a:lnTo>
                  <a:lnTo>
                    <a:pt x="0" y="428625"/>
                  </a:lnTo>
                  <a:lnTo>
                    <a:pt x="6667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圆角矩形 51"/>
            <p:cNvSpPr/>
            <p:nvPr/>
          </p:nvSpPr>
          <p:spPr>
            <a:xfrm>
              <a:off x="8729640" y="2523960"/>
              <a:ext cx="1568520" cy="1192320"/>
            </a:xfrm>
            <a:prstGeom prst="roundRect">
              <a:avLst>
                <a:gd name="adj" fmla="val 25444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52"/>
            <p:cNvSpPr/>
            <p:nvPr/>
          </p:nvSpPr>
          <p:spPr>
            <a:xfrm>
              <a:off x="9991080" y="3199320"/>
              <a:ext cx="460440" cy="388800"/>
            </a:xfrm>
            <a:prstGeom prst="ellipse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53"/>
            <p:cNvSpPr/>
            <p:nvPr/>
          </p:nvSpPr>
          <p:spPr>
            <a:xfrm>
              <a:off x="8552880" y="3245400"/>
              <a:ext cx="460440" cy="388800"/>
            </a:xfrm>
            <a:prstGeom prst="ellipse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26"/>
          <p:cNvSpPr/>
          <p:nvPr/>
        </p:nvSpPr>
        <p:spPr>
          <a:xfrm>
            <a:off x="11736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8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椭圆 10"/>
          <p:cNvSpPr/>
          <p:nvPr/>
        </p:nvSpPr>
        <p:spPr>
          <a:xfrm>
            <a:off x="1065240" y="1679400"/>
            <a:ext cx="315108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5"/>
          <p:cNvSpPr/>
          <p:nvPr/>
        </p:nvSpPr>
        <p:spPr>
          <a:xfrm>
            <a:off x="131436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4594320" y="1949400"/>
            <a:ext cx="6551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经常带着爱人子女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回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8"/>
          <p:cNvSpPr/>
          <p:nvPr/>
        </p:nvSpPr>
        <p:spPr>
          <a:xfrm>
            <a:off x="1514520" y="2279520"/>
            <a:ext cx="2266920" cy="157824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1578240"/>
              <a:gd name="textAreaBottom" fmla="*/ 1578600 h 1578240"/>
            </a:gdLst>
            <a:ahLst/>
            <a:rect l="textAreaLeft" t="textAreaTop" r="textAreaRight" b="textAreaBottom"/>
            <a:pathLst>
              <a:path w="2268187" h="1579418">
                <a:moveTo>
                  <a:pt x="154380" y="1555667"/>
                </a:moveTo>
                <a:lnTo>
                  <a:pt x="154380" y="819398"/>
                </a:lnTo>
                <a:lnTo>
                  <a:pt x="0" y="819398"/>
                </a:lnTo>
                <a:lnTo>
                  <a:pt x="819398" y="0"/>
                </a:lnTo>
                <a:lnTo>
                  <a:pt x="1413164" y="593766"/>
                </a:lnTo>
                <a:lnTo>
                  <a:pt x="1603169" y="403761"/>
                </a:lnTo>
                <a:lnTo>
                  <a:pt x="2268187" y="1068779"/>
                </a:lnTo>
                <a:lnTo>
                  <a:pt x="2244437" y="1116281"/>
                </a:lnTo>
                <a:lnTo>
                  <a:pt x="2137559" y="1116281"/>
                </a:lnTo>
                <a:lnTo>
                  <a:pt x="2137559" y="1579418"/>
                </a:lnTo>
                <a:lnTo>
                  <a:pt x="1805050" y="1579418"/>
                </a:lnTo>
                <a:lnTo>
                  <a:pt x="1805050" y="1151907"/>
                </a:lnTo>
                <a:lnTo>
                  <a:pt x="1567543" y="1151907"/>
                </a:lnTo>
                <a:lnTo>
                  <a:pt x="1567543" y="1567543"/>
                </a:lnTo>
                <a:lnTo>
                  <a:pt x="973777" y="1567543"/>
                </a:lnTo>
                <a:lnTo>
                  <a:pt x="973777" y="938151"/>
                </a:lnTo>
                <a:lnTo>
                  <a:pt x="712520" y="938151"/>
                </a:lnTo>
                <a:lnTo>
                  <a:pt x="712520" y="1543792"/>
                </a:lnTo>
                <a:lnTo>
                  <a:pt x="154380" y="15556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9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0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3"/>
          <p:cNvSpPr/>
          <p:nvPr/>
        </p:nvSpPr>
        <p:spPr>
          <a:xfrm>
            <a:off x="10423080" y="-9216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4537080" y="1884240"/>
            <a:ext cx="704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带父母参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你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工作</a:t>
            </a: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的地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1398600" y="2763720"/>
            <a:ext cx="911160" cy="1152720"/>
            <a:chOff x="1398600" y="2763720"/>
            <a:chExt cx="911160" cy="1152720"/>
          </a:xfrm>
        </p:grpSpPr>
        <p:sp>
          <p:nvSpPr>
            <p:cNvPr id="299" name="矩形 337"/>
            <p:cNvSpPr/>
            <p:nvPr/>
          </p:nvSpPr>
          <p:spPr>
            <a:xfrm>
              <a:off x="1431360" y="2763720"/>
              <a:ext cx="571680" cy="11527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571500" h="1152525">
                  <a:moveTo>
                    <a:pt x="9525" y="200025"/>
                  </a:moveTo>
                  <a:lnTo>
                    <a:pt x="571500" y="0"/>
                  </a:lnTo>
                  <a:lnTo>
                    <a:pt x="571500" y="1152525"/>
                  </a:lnTo>
                  <a:lnTo>
                    <a:pt x="0" y="1152525"/>
                  </a:lnTo>
                  <a:lnTo>
                    <a:pt x="9525" y="2000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337"/>
            <p:cNvSpPr/>
            <p:nvPr/>
          </p:nvSpPr>
          <p:spPr>
            <a:xfrm>
              <a:off x="1976400" y="2763720"/>
              <a:ext cx="333360" cy="11527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333375" h="1162050">
                  <a:moveTo>
                    <a:pt x="9525" y="0"/>
                  </a:moveTo>
                  <a:lnTo>
                    <a:pt x="333375" y="95250"/>
                  </a:lnTo>
                  <a:lnTo>
                    <a:pt x="314325" y="1152525"/>
                  </a:lnTo>
                  <a:lnTo>
                    <a:pt x="0" y="1162050"/>
                  </a:lnTo>
                  <a:lnTo>
                    <a:pt x="9525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2d2b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28"/>
            <p:cNvSpPr/>
            <p:nvPr/>
          </p:nvSpPr>
          <p:spPr>
            <a:xfrm rot="20952000">
              <a:off x="1405080" y="302256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28"/>
            <p:cNvSpPr/>
            <p:nvPr/>
          </p:nvSpPr>
          <p:spPr>
            <a:xfrm rot="20952000">
              <a:off x="1405080" y="318060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28"/>
            <p:cNvSpPr/>
            <p:nvPr/>
          </p:nvSpPr>
          <p:spPr>
            <a:xfrm rot="20952000">
              <a:off x="1405080" y="333864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28"/>
            <p:cNvSpPr/>
            <p:nvPr/>
          </p:nvSpPr>
          <p:spPr>
            <a:xfrm rot="20952000">
              <a:off x="1402920" y="348552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28"/>
            <p:cNvSpPr/>
            <p:nvPr/>
          </p:nvSpPr>
          <p:spPr>
            <a:xfrm rot="20952000">
              <a:off x="1402920" y="362664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28"/>
            <p:cNvSpPr/>
            <p:nvPr/>
          </p:nvSpPr>
          <p:spPr>
            <a:xfrm rot="20952000">
              <a:off x="1405080" y="375696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6"/>
          <p:cNvGrpSpPr/>
          <p:nvPr/>
        </p:nvGrpSpPr>
        <p:grpSpPr>
          <a:xfrm>
            <a:off x="2054160" y="2287440"/>
            <a:ext cx="1289160" cy="1629360"/>
            <a:chOff x="2054160" y="2287440"/>
            <a:chExt cx="1289160" cy="1629360"/>
          </a:xfrm>
        </p:grpSpPr>
        <p:sp>
          <p:nvSpPr>
            <p:cNvPr id="308" name="矩形 337"/>
            <p:cNvSpPr/>
            <p:nvPr/>
          </p:nvSpPr>
          <p:spPr>
            <a:xfrm>
              <a:off x="2100600" y="2287440"/>
              <a:ext cx="808920" cy="1629000"/>
            </a:xfrm>
            <a:custGeom>
              <a:avLst/>
              <a:gdLst>
                <a:gd name="textAreaLeft" fmla="*/ 0 w 808920"/>
                <a:gd name="textAreaRight" fmla="*/ 809280 w 808920"/>
                <a:gd name="textAreaTop" fmla="*/ 0 h 1629000"/>
                <a:gd name="textAreaBottom" fmla="*/ 1629360 h 1629000"/>
              </a:gdLst>
              <a:ahLst/>
              <a:rect l="textAreaLeft" t="textAreaTop" r="textAreaRight" b="textAreaBottom"/>
              <a:pathLst>
                <a:path w="571500" h="1152525">
                  <a:moveTo>
                    <a:pt x="9525" y="200025"/>
                  </a:moveTo>
                  <a:lnTo>
                    <a:pt x="571500" y="0"/>
                  </a:lnTo>
                  <a:lnTo>
                    <a:pt x="571500" y="1152525"/>
                  </a:lnTo>
                  <a:lnTo>
                    <a:pt x="0" y="1152525"/>
                  </a:lnTo>
                  <a:lnTo>
                    <a:pt x="9525" y="2000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337"/>
            <p:cNvSpPr/>
            <p:nvPr/>
          </p:nvSpPr>
          <p:spPr>
            <a:xfrm>
              <a:off x="2871720" y="2287440"/>
              <a:ext cx="471600" cy="162900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1629000"/>
                <a:gd name="textAreaBottom" fmla="*/ 1629360 h 1629000"/>
              </a:gdLst>
              <a:ahLst/>
              <a:rect l="textAreaLeft" t="textAreaTop" r="textAreaRight" b="textAreaBottom"/>
              <a:pathLst>
                <a:path w="333375" h="1162050">
                  <a:moveTo>
                    <a:pt x="9525" y="0"/>
                  </a:moveTo>
                  <a:lnTo>
                    <a:pt x="333375" y="95250"/>
                  </a:lnTo>
                  <a:lnTo>
                    <a:pt x="314325" y="1152525"/>
                  </a:lnTo>
                  <a:lnTo>
                    <a:pt x="0" y="1162050"/>
                  </a:lnTo>
                  <a:lnTo>
                    <a:pt x="9525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2d2b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28"/>
            <p:cNvSpPr/>
            <p:nvPr/>
          </p:nvSpPr>
          <p:spPr>
            <a:xfrm rot="20952000">
              <a:off x="2063520" y="265320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28"/>
            <p:cNvSpPr/>
            <p:nvPr/>
          </p:nvSpPr>
          <p:spPr>
            <a:xfrm rot="20952000">
              <a:off x="2063520" y="287676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28"/>
            <p:cNvSpPr/>
            <p:nvPr/>
          </p:nvSpPr>
          <p:spPr>
            <a:xfrm rot="20952000">
              <a:off x="2063520" y="309996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28"/>
            <p:cNvSpPr/>
            <p:nvPr/>
          </p:nvSpPr>
          <p:spPr>
            <a:xfrm rot="20952000">
              <a:off x="2060280" y="330768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8"/>
            <p:cNvSpPr/>
            <p:nvPr/>
          </p:nvSpPr>
          <p:spPr>
            <a:xfrm rot="20952000">
              <a:off x="2060280" y="350712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28"/>
            <p:cNvSpPr/>
            <p:nvPr/>
          </p:nvSpPr>
          <p:spPr>
            <a:xfrm rot="20952000">
              <a:off x="2063520" y="369144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25"/>
          <p:cNvSpPr/>
          <p:nvPr/>
        </p:nvSpPr>
        <p:spPr>
          <a:xfrm>
            <a:off x="9706680" y="-2556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9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椭圆 10"/>
          <p:cNvSpPr/>
          <p:nvPr/>
        </p:nvSpPr>
        <p:spPr>
          <a:xfrm>
            <a:off x="7781760" y="164628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5"/>
          <p:cNvSpPr/>
          <p:nvPr/>
        </p:nvSpPr>
        <p:spPr>
          <a:xfrm>
            <a:off x="8031240" y="189540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620640" y="1914480"/>
            <a:ext cx="704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带父母去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行</a:t>
            </a: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或故地重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130"/>
          <p:cNvSpPr/>
          <p:nvPr/>
        </p:nvSpPr>
        <p:spPr>
          <a:xfrm>
            <a:off x="8238960" y="2577960"/>
            <a:ext cx="1927440" cy="451080"/>
          </a:xfrm>
          <a:prstGeom prst="roundRect">
            <a:avLst>
              <a:gd name="adj" fmla="val 112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8"/>
          <p:cNvGrpSpPr/>
          <p:nvPr/>
        </p:nvGrpSpPr>
        <p:grpSpPr>
          <a:xfrm>
            <a:off x="8238960" y="2608200"/>
            <a:ext cx="2349720" cy="1292400"/>
            <a:chOff x="8238960" y="2608200"/>
            <a:chExt cx="2349720" cy="1292400"/>
          </a:xfrm>
        </p:grpSpPr>
        <p:sp>
          <p:nvSpPr>
            <p:cNvPr id="324" name="矩形 132"/>
            <p:cNvSpPr/>
            <p:nvPr/>
          </p:nvSpPr>
          <p:spPr>
            <a:xfrm>
              <a:off x="8238960" y="2608200"/>
              <a:ext cx="2349720" cy="43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133"/>
            <p:cNvSpPr/>
            <p:nvPr/>
          </p:nvSpPr>
          <p:spPr>
            <a:xfrm>
              <a:off x="8305920" y="2638440"/>
              <a:ext cx="446400" cy="370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34"/>
            <p:cNvSpPr/>
            <p:nvPr/>
          </p:nvSpPr>
          <p:spPr>
            <a:xfrm>
              <a:off x="8819640" y="2638440"/>
              <a:ext cx="446400" cy="370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135"/>
            <p:cNvSpPr/>
            <p:nvPr/>
          </p:nvSpPr>
          <p:spPr>
            <a:xfrm>
              <a:off x="9302400" y="2638440"/>
              <a:ext cx="446400" cy="370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136"/>
            <p:cNvSpPr/>
            <p:nvPr/>
          </p:nvSpPr>
          <p:spPr>
            <a:xfrm>
              <a:off x="10045440" y="2638440"/>
              <a:ext cx="446400" cy="370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139"/>
            <p:cNvSpPr/>
            <p:nvPr/>
          </p:nvSpPr>
          <p:spPr>
            <a:xfrm>
              <a:off x="9302400" y="3097440"/>
              <a:ext cx="51120" cy="289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40"/>
            <p:cNvSpPr/>
            <p:nvPr/>
          </p:nvSpPr>
          <p:spPr>
            <a:xfrm>
              <a:off x="9406440" y="3077640"/>
              <a:ext cx="51120" cy="289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141"/>
            <p:cNvSpPr/>
            <p:nvPr/>
          </p:nvSpPr>
          <p:spPr>
            <a:xfrm>
              <a:off x="8475120" y="3355560"/>
              <a:ext cx="688680" cy="545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142"/>
            <p:cNvSpPr/>
            <p:nvPr/>
          </p:nvSpPr>
          <p:spPr>
            <a:xfrm>
              <a:off x="9893520" y="3340800"/>
              <a:ext cx="688680" cy="545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143"/>
            <p:cNvSpPr/>
            <p:nvPr/>
          </p:nvSpPr>
          <p:spPr>
            <a:xfrm>
              <a:off x="8597160" y="3465360"/>
              <a:ext cx="411480" cy="325800"/>
            </a:xfrm>
            <a:prstGeom prst="ellipse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144"/>
            <p:cNvSpPr/>
            <p:nvPr/>
          </p:nvSpPr>
          <p:spPr>
            <a:xfrm>
              <a:off x="10032120" y="3444840"/>
              <a:ext cx="411480" cy="325800"/>
            </a:xfrm>
            <a:prstGeom prst="ellipse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145"/>
            <p:cNvSpPr/>
            <p:nvPr/>
          </p:nvSpPr>
          <p:spPr>
            <a:xfrm>
              <a:off x="8313480" y="274536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梯形 359"/>
            <p:cNvSpPr/>
            <p:nvPr/>
          </p:nvSpPr>
          <p:spPr>
            <a:xfrm>
              <a:off x="8344440" y="284544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147"/>
            <p:cNvSpPr/>
            <p:nvPr/>
          </p:nvSpPr>
          <p:spPr>
            <a:xfrm>
              <a:off x="8521200" y="274536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梯形 359"/>
            <p:cNvSpPr/>
            <p:nvPr/>
          </p:nvSpPr>
          <p:spPr>
            <a:xfrm>
              <a:off x="8552160" y="284544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149"/>
            <p:cNvSpPr/>
            <p:nvPr/>
          </p:nvSpPr>
          <p:spPr>
            <a:xfrm>
              <a:off x="8859600" y="274536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梯形 359"/>
            <p:cNvSpPr/>
            <p:nvPr/>
          </p:nvSpPr>
          <p:spPr>
            <a:xfrm>
              <a:off x="8890920" y="284544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151"/>
            <p:cNvSpPr/>
            <p:nvPr/>
          </p:nvSpPr>
          <p:spPr>
            <a:xfrm>
              <a:off x="9071640" y="274536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梯形 359"/>
            <p:cNvSpPr/>
            <p:nvPr/>
          </p:nvSpPr>
          <p:spPr>
            <a:xfrm>
              <a:off x="9102960" y="284544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53"/>
            <p:cNvSpPr/>
            <p:nvPr/>
          </p:nvSpPr>
          <p:spPr>
            <a:xfrm>
              <a:off x="9349560" y="275004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梯形 359"/>
            <p:cNvSpPr/>
            <p:nvPr/>
          </p:nvSpPr>
          <p:spPr>
            <a:xfrm>
              <a:off x="9380880" y="285012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155"/>
            <p:cNvSpPr/>
            <p:nvPr/>
          </p:nvSpPr>
          <p:spPr>
            <a:xfrm>
              <a:off x="9529560" y="275436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梯形 359"/>
            <p:cNvSpPr/>
            <p:nvPr/>
          </p:nvSpPr>
          <p:spPr>
            <a:xfrm>
              <a:off x="9560520" y="285444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157"/>
            <p:cNvSpPr/>
            <p:nvPr/>
          </p:nvSpPr>
          <p:spPr>
            <a:xfrm>
              <a:off x="10128600" y="2669040"/>
              <a:ext cx="218520" cy="173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梯形 359"/>
            <p:cNvSpPr/>
            <p:nvPr/>
          </p:nvSpPr>
          <p:spPr>
            <a:xfrm>
              <a:off x="10161360" y="2755800"/>
              <a:ext cx="227520" cy="38772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36"/>
          <p:cNvSpPr/>
          <p:nvPr/>
        </p:nvSpPr>
        <p:spPr>
          <a:xfrm>
            <a:off x="22284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0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"/>
          <p:cNvSpPr/>
          <p:nvPr/>
        </p:nvSpPr>
        <p:spPr>
          <a:xfrm>
            <a:off x="4683240" y="2065320"/>
            <a:ext cx="704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和父母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起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锻炼身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7"/>
          <p:cNvGrpSpPr/>
          <p:nvPr/>
        </p:nvGrpSpPr>
        <p:grpSpPr>
          <a:xfrm>
            <a:off x="1220760" y="2415960"/>
            <a:ext cx="2077920" cy="1659240"/>
            <a:chOff x="1220760" y="2415960"/>
            <a:chExt cx="2077920" cy="1659240"/>
          </a:xfrm>
        </p:grpSpPr>
        <p:sp>
          <p:nvSpPr>
            <p:cNvPr id="356" name="矩形 439"/>
            <p:cNvSpPr/>
            <p:nvPr/>
          </p:nvSpPr>
          <p:spPr>
            <a:xfrm rot="18508200">
              <a:off x="1739880" y="2432160"/>
              <a:ext cx="220320" cy="8020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435"/>
            <p:cNvSpPr/>
            <p:nvPr/>
          </p:nvSpPr>
          <p:spPr>
            <a:xfrm>
              <a:off x="1334520" y="3570840"/>
              <a:ext cx="1964160" cy="504360"/>
            </a:xfrm>
            <a:custGeom>
              <a:avLst/>
              <a:gdLst>
                <a:gd name="textAreaLeft" fmla="*/ 0 w 1964160"/>
                <a:gd name="textAreaRight" fmla="*/ 1964520 w 19641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2409713" h="618565">
                  <a:moveTo>
                    <a:pt x="414169" y="0"/>
                  </a:moveTo>
                  <a:lnTo>
                    <a:pt x="2409713" y="381897"/>
                  </a:lnTo>
                  <a:lnTo>
                    <a:pt x="2108499" y="618565"/>
                  </a:lnTo>
                  <a:lnTo>
                    <a:pt x="0" y="199016"/>
                  </a:lnTo>
                  <a:lnTo>
                    <a:pt x="41416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435"/>
            <p:cNvSpPr/>
            <p:nvPr/>
          </p:nvSpPr>
          <p:spPr>
            <a:xfrm>
              <a:off x="1220760" y="3739320"/>
              <a:ext cx="653040" cy="203760"/>
            </a:xfrm>
            <a:custGeom>
              <a:avLst/>
              <a:gdLst>
                <a:gd name="textAreaLeft" fmla="*/ 0 w 653040"/>
                <a:gd name="textAreaRight" fmla="*/ 653040 w 653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801446" h="357307">
                  <a:moveTo>
                    <a:pt x="161365" y="0"/>
                  </a:moveTo>
                  <a:lnTo>
                    <a:pt x="801446" y="197481"/>
                  </a:lnTo>
                  <a:lnTo>
                    <a:pt x="715384" y="357307"/>
                  </a:lnTo>
                  <a:lnTo>
                    <a:pt x="0" y="114490"/>
                  </a:lnTo>
                  <a:lnTo>
                    <a:pt x="16136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435"/>
            <p:cNvSpPr/>
            <p:nvPr/>
          </p:nvSpPr>
          <p:spPr>
            <a:xfrm>
              <a:off x="1676520" y="3501720"/>
              <a:ext cx="701280" cy="180720"/>
            </a:xfrm>
            <a:custGeom>
              <a:avLst/>
              <a:gdLst>
                <a:gd name="textAreaLeft" fmla="*/ 0 w 701280"/>
                <a:gd name="textAreaRight" fmla="*/ 701280 w 701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96067" h="357307">
                  <a:moveTo>
                    <a:pt x="155986" y="0"/>
                  </a:moveTo>
                  <a:lnTo>
                    <a:pt x="796067" y="197481"/>
                  </a:lnTo>
                  <a:lnTo>
                    <a:pt x="710005" y="357307"/>
                  </a:lnTo>
                  <a:lnTo>
                    <a:pt x="0" y="137543"/>
                  </a:lnTo>
                  <a:lnTo>
                    <a:pt x="15598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438"/>
            <p:cNvSpPr/>
            <p:nvPr/>
          </p:nvSpPr>
          <p:spPr>
            <a:xfrm>
              <a:off x="1233720" y="2641320"/>
              <a:ext cx="623520" cy="11545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1154520"/>
                <a:gd name="textAreaBottom" fmla="*/ 1154880 h 1154520"/>
              </a:gdLst>
              <a:ahLst/>
              <a:rect l="textAreaLeft" t="textAreaTop" r="textAreaRight" b="textAreaBottom"/>
              <a:pathLst>
                <a:path w="765147" h="1415983">
                  <a:moveTo>
                    <a:pt x="649484" y="0"/>
                  </a:moveTo>
                  <a:lnTo>
                    <a:pt x="765147" y="116833"/>
                  </a:lnTo>
                  <a:lnTo>
                    <a:pt x="139850" y="1351438"/>
                  </a:lnTo>
                  <a:lnTo>
                    <a:pt x="0" y="1415983"/>
                  </a:lnTo>
                  <a:lnTo>
                    <a:pt x="64948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440"/>
            <p:cNvSpPr/>
            <p:nvPr/>
          </p:nvSpPr>
          <p:spPr>
            <a:xfrm>
              <a:off x="1546200" y="2432160"/>
              <a:ext cx="491040" cy="111960"/>
            </a:xfrm>
            <a:custGeom>
              <a:avLst/>
              <a:gdLst>
                <a:gd name="textAreaLeft" fmla="*/ 0 w 491040"/>
                <a:gd name="textAreaRight" fmla="*/ 491400 w 4910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602610" h="137500">
                  <a:moveTo>
                    <a:pt x="0" y="96819"/>
                  </a:moveTo>
                  <a:lnTo>
                    <a:pt x="602610" y="0"/>
                  </a:lnTo>
                  <a:lnTo>
                    <a:pt x="602610" y="72954"/>
                  </a:lnTo>
                  <a:lnTo>
                    <a:pt x="53789" y="137500"/>
                  </a:lnTo>
                  <a:lnTo>
                    <a:pt x="0" y="968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441"/>
            <p:cNvSpPr/>
            <p:nvPr/>
          </p:nvSpPr>
          <p:spPr>
            <a:xfrm>
              <a:off x="1703160" y="2567160"/>
              <a:ext cx="486720" cy="9864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597230" h="121363">
                  <a:moveTo>
                    <a:pt x="0" y="69924"/>
                  </a:moveTo>
                  <a:lnTo>
                    <a:pt x="597230" y="0"/>
                  </a:lnTo>
                  <a:lnTo>
                    <a:pt x="597230" y="72954"/>
                  </a:lnTo>
                  <a:lnTo>
                    <a:pt x="21515" y="121363"/>
                  </a:lnTo>
                  <a:lnTo>
                    <a:pt x="0" y="699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442"/>
            <p:cNvSpPr/>
            <p:nvPr/>
          </p:nvSpPr>
          <p:spPr>
            <a:xfrm>
              <a:off x="1832040" y="2703960"/>
              <a:ext cx="499680" cy="97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597289" h="94359">
                  <a:moveTo>
                    <a:pt x="0" y="43029"/>
                  </a:moveTo>
                  <a:lnTo>
                    <a:pt x="532743" y="0"/>
                  </a:lnTo>
                  <a:lnTo>
                    <a:pt x="597289" y="56708"/>
                  </a:lnTo>
                  <a:lnTo>
                    <a:pt x="48409" y="94359"/>
                  </a:lnTo>
                  <a:lnTo>
                    <a:pt x="0" y="43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438"/>
            <p:cNvSpPr/>
            <p:nvPr/>
          </p:nvSpPr>
          <p:spPr>
            <a:xfrm>
              <a:off x="1768680" y="2714400"/>
              <a:ext cx="533520" cy="8708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654716" h="1068188">
                  <a:moveTo>
                    <a:pt x="594707" y="0"/>
                  </a:moveTo>
                  <a:lnTo>
                    <a:pt x="654716" y="9915"/>
                  </a:lnTo>
                  <a:lnTo>
                    <a:pt x="139850" y="1003643"/>
                  </a:lnTo>
                  <a:lnTo>
                    <a:pt x="0" y="1068188"/>
                  </a:lnTo>
                  <a:lnTo>
                    <a:pt x="59470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439"/>
            <p:cNvSpPr/>
            <p:nvPr/>
          </p:nvSpPr>
          <p:spPr>
            <a:xfrm rot="18641400">
              <a:off x="2129400" y="2359800"/>
              <a:ext cx="220320" cy="8020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1984320" y="2361240"/>
            <a:ext cx="1542960" cy="1233000"/>
            <a:chOff x="1984320" y="2361240"/>
            <a:chExt cx="1542960" cy="1233000"/>
          </a:xfrm>
        </p:grpSpPr>
        <p:sp>
          <p:nvSpPr>
            <p:cNvPr id="367" name="矩形 439"/>
            <p:cNvSpPr/>
            <p:nvPr/>
          </p:nvSpPr>
          <p:spPr>
            <a:xfrm rot="18508200">
              <a:off x="2369880" y="2373120"/>
              <a:ext cx="163800" cy="5954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435"/>
            <p:cNvSpPr/>
            <p:nvPr/>
          </p:nvSpPr>
          <p:spPr>
            <a:xfrm>
              <a:off x="2068920" y="3219480"/>
              <a:ext cx="1458360" cy="374760"/>
            </a:xfrm>
            <a:custGeom>
              <a:avLst/>
              <a:gdLst>
                <a:gd name="textAreaLeft" fmla="*/ 0 w 1458360"/>
                <a:gd name="textAreaRight" fmla="*/ 1458720 w 14583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409713" h="618565">
                  <a:moveTo>
                    <a:pt x="414169" y="0"/>
                  </a:moveTo>
                  <a:lnTo>
                    <a:pt x="2409713" y="381897"/>
                  </a:lnTo>
                  <a:lnTo>
                    <a:pt x="2108499" y="618565"/>
                  </a:lnTo>
                  <a:lnTo>
                    <a:pt x="0" y="199016"/>
                  </a:lnTo>
                  <a:lnTo>
                    <a:pt x="41416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435"/>
            <p:cNvSpPr/>
            <p:nvPr/>
          </p:nvSpPr>
          <p:spPr>
            <a:xfrm>
              <a:off x="1984320" y="3344760"/>
              <a:ext cx="484920" cy="15156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801446" h="357307">
                  <a:moveTo>
                    <a:pt x="161365" y="0"/>
                  </a:moveTo>
                  <a:lnTo>
                    <a:pt x="801446" y="197481"/>
                  </a:lnTo>
                  <a:lnTo>
                    <a:pt x="715384" y="357307"/>
                  </a:lnTo>
                  <a:lnTo>
                    <a:pt x="0" y="114490"/>
                  </a:lnTo>
                  <a:lnTo>
                    <a:pt x="16136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435"/>
            <p:cNvSpPr/>
            <p:nvPr/>
          </p:nvSpPr>
          <p:spPr>
            <a:xfrm>
              <a:off x="2322720" y="3168360"/>
              <a:ext cx="520920" cy="13428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134280"/>
                <a:gd name="textAreaBottom" fmla="*/ 134280 h 134280"/>
              </a:gdLst>
              <a:ahLst/>
              <a:rect l="textAreaLeft" t="textAreaTop" r="textAreaRight" b="textAreaBottom"/>
              <a:pathLst>
                <a:path w="796067" h="357307">
                  <a:moveTo>
                    <a:pt x="155986" y="0"/>
                  </a:moveTo>
                  <a:lnTo>
                    <a:pt x="796067" y="197481"/>
                  </a:lnTo>
                  <a:lnTo>
                    <a:pt x="710005" y="357307"/>
                  </a:lnTo>
                  <a:lnTo>
                    <a:pt x="0" y="137543"/>
                  </a:lnTo>
                  <a:lnTo>
                    <a:pt x="15598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438"/>
            <p:cNvSpPr/>
            <p:nvPr/>
          </p:nvSpPr>
          <p:spPr>
            <a:xfrm>
              <a:off x="1994040" y="2529000"/>
              <a:ext cx="462960" cy="85788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857880"/>
                <a:gd name="textAreaBottom" fmla="*/ 858240 h 857880"/>
              </a:gdLst>
              <a:ahLst/>
              <a:rect l="textAreaLeft" t="textAreaTop" r="textAreaRight" b="textAreaBottom"/>
              <a:pathLst>
                <a:path w="765147" h="1415983">
                  <a:moveTo>
                    <a:pt x="649484" y="0"/>
                  </a:moveTo>
                  <a:lnTo>
                    <a:pt x="765147" y="116833"/>
                  </a:lnTo>
                  <a:lnTo>
                    <a:pt x="139850" y="1351438"/>
                  </a:lnTo>
                  <a:lnTo>
                    <a:pt x="0" y="1415983"/>
                  </a:lnTo>
                  <a:lnTo>
                    <a:pt x="64948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440"/>
            <p:cNvSpPr/>
            <p:nvPr/>
          </p:nvSpPr>
          <p:spPr>
            <a:xfrm>
              <a:off x="2226240" y="2373480"/>
              <a:ext cx="364680" cy="8316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602610" h="137500">
                  <a:moveTo>
                    <a:pt x="0" y="96819"/>
                  </a:moveTo>
                  <a:lnTo>
                    <a:pt x="602610" y="0"/>
                  </a:lnTo>
                  <a:lnTo>
                    <a:pt x="602610" y="72954"/>
                  </a:lnTo>
                  <a:lnTo>
                    <a:pt x="53789" y="137500"/>
                  </a:lnTo>
                  <a:lnTo>
                    <a:pt x="0" y="968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41"/>
            <p:cNvSpPr/>
            <p:nvPr/>
          </p:nvSpPr>
          <p:spPr>
            <a:xfrm>
              <a:off x="2342520" y="2473560"/>
              <a:ext cx="361440" cy="73440"/>
            </a:xfrm>
            <a:custGeom>
              <a:avLst/>
              <a:gdLst>
                <a:gd name="textAreaLeft" fmla="*/ 0 w 361440"/>
                <a:gd name="textAreaRight" fmla="*/ 361440 w 3614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97230" h="121363">
                  <a:moveTo>
                    <a:pt x="0" y="69924"/>
                  </a:moveTo>
                  <a:lnTo>
                    <a:pt x="597230" y="0"/>
                  </a:lnTo>
                  <a:lnTo>
                    <a:pt x="597230" y="72954"/>
                  </a:lnTo>
                  <a:lnTo>
                    <a:pt x="21515" y="121363"/>
                  </a:lnTo>
                  <a:lnTo>
                    <a:pt x="0" y="699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42"/>
            <p:cNvSpPr/>
            <p:nvPr/>
          </p:nvSpPr>
          <p:spPr>
            <a:xfrm>
              <a:off x="2438280" y="2575440"/>
              <a:ext cx="371160" cy="7272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97289" h="94359">
                  <a:moveTo>
                    <a:pt x="0" y="43029"/>
                  </a:moveTo>
                  <a:lnTo>
                    <a:pt x="532743" y="0"/>
                  </a:lnTo>
                  <a:lnTo>
                    <a:pt x="597289" y="56708"/>
                  </a:lnTo>
                  <a:lnTo>
                    <a:pt x="48409" y="94359"/>
                  </a:lnTo>
                  <a:lnTo>
                    <a:pt x="0" y="43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438"/>
            <p:cNvSpPr/>
            <p:nvPr/>
          </p:nvSpPr>
          <p:spPr>
            <a:xfrm>
              <a:off x="2391120" y="2583000"/>
              <a:ext cx="396000" cy="64728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654716" h="1068188">
                  <a:moveTo>
                    <a:pt x="594707" y="0"/>
                  </a:moveTo>
                  <a:lnTo>
                    <a:pt x="654716" y="9915"/>
                  </a:lnTo>
                  <a:lnTo>
                    <a:pt x="139850" y="1003643"/>
                  </a:lnTo>
                  <a:lnTo>
                    <a:pt x="0" y="1068188"/>
                  </a:lnTo>
                  <a:lnTo>
                    <a:pt x="59470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439"/>
            <p:cNvSpPr/>
            <p:nvPr/>
          </p:nvSpPr>
          <p:spPr>
            <a:xfrm rot="18641400">
              <a:off x="2658600" y="2319480"/>
              <a:ext cx="163800" cy="5954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29"/>
          <p:cNvGrpSpPr/>
          <p:nvPr/>
        </p:nvGrpSpPr>
        <p:grpSpPr>
          <a:xfrm>
            <a:off x="2571840" y="2286000"/>
            <a:ext cx="1195200" cy="955800"/>
            <a:chOff x="2571840" y="2286000"/>
            <a:chExt cx="1195200" cy="955800"/>
          </a:xfrm>
        </p:grpSpPr>
        <p:sp>
          <p:nvSpPr>
            <p:cNvPr id="378" name="矩形 439"/>
            <p:cNvSpPr/>
            <p:nvPr/>
          </p:nvSpPr>
          <p:spPr>
            <a:xfrm rot="18508200">
              <a:off x="2869920" y="2295720"/>
              <a:ext cx="126720" cy="4611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435"/>
            <p:cNvSpPr/>
            <p:nvPr/>
          </p:nvSpPr>
          <p:spPr>
            <a:xfrm>
              <a:off x="2637360" y="2951280"/>
              <a:ext cx="1129680" cy="290520"/>
            </a:xfrm>
            <a:custGeom>
              <a:avLst/>
              <a:gdLst>
                <a:gd name="textAreaLeft" fmla="*/ 0 w 1129680"/>
                <a:gd name="textAreaRight" fmla="*/ 1130040 w 11296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2409713" h="618565">
                  <a:moveTo>
                    <a:pt x="414169" y="0"/>
                  </a:moveTo>
                  <a:lnTo>
                    <a:pt x="2409713" y="381897"/>
                  </a:lnTo>
                  <a:lnTo>
                    <a:pt x="2108499" y="618565"/>
                  </a:lnTo>
                  <a:lnTo>
                    <a:pt x="0" y="199016"/>
                  </a:lnTo>
                  <a:lnTo>
                    <a:pt x="41416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35"/>
            <p:cNvSpPr/>
            <p:nvPr/>
          </p:nvSpPr>
          <p:spPr>
            <a:xfrm>
              <a:off x="2571840" y="3048480"/>
              <a:ext cx="375480" cy="11736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01446" h="357307">
                  <a:moveTo>
                    <a:pt x="161365" y="0"/>
                  </a:moveTo>
                  <a:lnTo>
                    <a:pt x="801446" y="197481"/>
                  </a:lnTo>
                  <a:lnTo>
                    <a:pt x="715384" y="357307"/>
                  </a:lnTo>
                  <a:lnTo>
                    <a:pt x="0" y="114490"/>
                  </a:lnTo>
                  <a:lnTo>
                    <a:pt x="16136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35"/>
            <p:cNvSpPr/>
            <p:nvPr/>
          </p:nvSpPr>
          <p:spPr>
            <a:xfrm>
              <a:off x="2833920" y="2911680"/>
              <a:ext cx="403560" cy="10404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796067" h="357307">
                  <a:moveTo>
                    <a:pt x="155986" y="0"/>
                  </a:moveTo>
                  <a:lnTo>
                    <a:pt x="796067" y="197481"/>
                  </a:lnTo>
                  <a:lnTo>
                    <a:pt x="710005" y="357307"/>
                  </a:lnTo>
                  <a:lnTo>
                    <a:pt x="0" y="137543"/>
                  </a:lnTo>
                  <a:lnTo>
                    <a:pt x="15598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438"/>
            <p:cNvSpPr/>
            <p:nvPr/>
          </p:nvSpPr>
          <p:spPr>
            <a:xfrm>
              <a:off x="2579400" y="2415960"/>
              <a:ext cx="358560" cy="6652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665280"/>
                <a:gd name="textAreaBottom" fmla="*/ 665640 h 665280"/>
              </a:gdLst>
              <a:ahLst/>
              <a:rect l="textAreaLeft" t="textAreaTop" r="textAreaRight" b="textAreaBottom"/>
              <a:pathLst>
                <a:path w="765147" h="1415983">
                  <a:moveTo>
                    <a:pt x="649484" y="0"/>
                  </a:moveTo>
                  <a:lnTo>
                    <a:pt x="765147" y="116833"/>
                  </a:lnTo>
                  <a:lnTo>
                    <a:pt x="139850" y="1351438"/>
                  </a:lnTo>
                  <a:lnTo>
                    <a:pt x="0" y="1415983"/>
                  </a:lnTo>
                  <a:lnTo>
                    <a:pt x="64948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440"/>
            <p:cNvSpPr/>
            <p:nvPr/>
          </p:nvSpPr>
          <p:spPr>
            <a:xfrm>
              <a:off x="2759040" y="2295360"/>
              <a:ext cx="282240" cy="6444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02610" h="137500">
                  <a:moveTo>
                    <a:pt x="0" y="96819"/>
                  </a:moveTo>
                  <a:lnTo>
                    <a:pt x="602610" y="0"/>
                  </a:lnTo>
                  <a:lnTo>
                    <a:pt x="602610" y="72954"/>
                  </a:lnTo>
                  <a:lnTo>
                    <a:pt x="53789" y="137500"/>
                  </a:lnTo>
                  <a:lnTo>
                    <a:pt x="0" y="968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441"/>
            <p:cNvSpPr/>
            <p:nvPr/>
          </p:nvSpPr>
          <p:spPr>
            <a:xfrm>
              <a:off x="2849400" y="2373120"/>
              <a:ext cx="279720" cy="568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97230" h="121363">
                  <a:moveTo>
                    <a:pt x="0" y="69924"/>
                  </a:moveTo>
                  <a:lnTo>
                    <a:pt x="597230" y="0"/>
                  </a:lnTo>
                  <a:lnTo>
                    <a:pt x="597230" y="72954"/>
                  </a:lnTo>
                  <a:lnTo>
                    <a:pt x="21515" y="121363"/>
                  </a:lnTo>
                  <a:lnTo>
                    <a:pt x="0" y="699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442"/>
            <p:cNvSpPr/>
            <p:nvPr/>
          </p:nvSpPr>
          <p:spPr>
            <a:xfrm>
              <a:off x="2923200" y="2451960"/>
              <a:ext cx="287640" cy="56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597289" h="94359">
                  <a:moveTo>
                    <a:pt x="0" y="43029"/>
                  </a:moveTo>
                  <a:lnTo>
                    <a:pt x="532743" y="0"/>
                  </a:lnTo>
                  <a:lnTo>
                    <a:pt x="597289" y="56708"/>
                  </a:lnTo>
                  <a:lnTo>
                    <a:pt x="48409" y="94359"/>
                  </a:lnTo>
                  <a:lnTo>
                    <a:pt x="0" y="43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438"/>
            <p:cNvSpPr/>
            <p:nvPr/>
          </p:nvSpPr>
          <p:spPr>
            <a:xfrm>
              <a:off x="2886840" y="2457720"/>
              <a:ext cx="306720" cy="50184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654716" h="1068188">
                  <a:moveTo>
                    <a:pt x="594707" y="0"/>
                  </a:moveTo>
                  <a:lnTo>
                    <a:pt x="654716" y="9915"/>
                  </a:lnTo>
                  <a:lnTo>
                    <a:pt x="139850" y="1003643"/>
                  </a:lnTo>
                  <a:lnTo>
                    <a:pt x="0" y="1068188"/>
                  </a:lnTo>
                  <a:lnTo>
                    <a:pt x="59470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439"/>
            <p:cNvSpPr/>
            <p:nvPr/>
          </p:nvSpPr>
          <p:spPr>
            <a:xfrm rot="18641400">
              <a:off x="3094200" y="2253600"/>
              <a:ext cx="126720" cy="4611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0"/>
          <p:cNvSpPr/>
          <p:nvPr/>
        </p:nvSpPr>
        <p:spPr>
          <a:xfrm>
            <a:off x="9612720" y="-9036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1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椭圆 10"/>
          <p:cNvSpPr/>
          <p:nvPr/>
        </p:nvSpPr>
        <p:spPr>
          <a:xfrm>
            <a:off x="7746840" y="177804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15"/>
          <p:cNvSpPr/>
          <p:nvPr/>
        </p:nvSpPr>
        <p:spPr>
          <a:xfrm>
            <a:off x="7996320" y="202716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1"/>
          <p:cNvSpPr/>
          <p:nvPr/>
        </p:nvSpPr>
        <p:spPr>
          <a:xfrm>
            <a:off x="920880" y="1928880"/>
            <a:ext cx="636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适当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参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的活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157240" y="2651040"/>
            <a:ext cx="1459080" cy="1696320"/>
            <a:chOff x="8157240" y="2651040"/>
            <a:chExt cx="1459080" cy="1696320"/>
          </a:xfrm>
        </p:grpSpPr>
        <p:sp>
          <p:nvSpPr>
            <p:cNvPr id="395" name="任意多边形 41"/>
            <p:cNvSpPr/>
            <p:nvPr/>
          </p:nvSpPr>
          <p:spPr>
            <a:xfrm rot="6799800">
              <a:off x="8266680" y="3042000"/>
              <a:ext cx="1240200" cy="1054080"/>
            </a:xfrm>
            <a:custGeom>
              <a:avLst/>
              <a:gdLst>
                <a:gd name="textAreaLeft" fmla="*/ 0 w 1240200"/>
                <a:gd name="textAreaRight" fmla="*/ 1240560 w 12402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1717029" h="1459970">
                  <a:moveTo>
                    <a:pt x="933306" y="1182498"/>
                  </a:moveTo>
                  <a:cubicBezTo>
                    <a:pt x="848396" y="933436"/>
                    <a:pt x="1302156" y="685393"/>
                    <a:pt x="1476266" y="522140"/>
                  </a:cubicBezTo>
                  <a:lnTo>
                    <a:pt x="1717029" y="1198769"/>
                  </a:lnTo>
                  <a:cubicBezTo>
                    <a:pt x="1501036" y="1239168"/>
                    <a:pt x="1018216" y="1431560"/>
                    <a:pt x="933306" y="1182498"/>
                  </a:cubicBezTo>
                  <a:close/>
                  <a:moveTo>
                    <a:pt x="471293" y="792568"/>
                  </a:moveTo>
                  <a:cubicBezTo>
                    <a:pt x="333815" y="466692"/>
                    <a:pt x="902866" y="213604"/>
                    <a:pt x="1184769" y="0"/>
                  </a:cubicBezTo>
                  <a:lnTo>
                    <a:pt x="1416529" y="526343"/>
                  </a:lnTo>
                  <a:lnTo>
                    <a:pt x="1341432" y="573110"/>
                  </a:lnTo>
                  <a:cubicBezTo>
                    <a:pt x="1141733" y="696183"/>
                    <a:pt x="906380" y="843760"/>
                    <a:pt x="878284" y="995749"/>
                  </a:cubicBezTo>
                  <a:cubicBezTo>
                    <a:pt x="878020" y="1001891"/>
                    <a:pt x="877755" y="1008035"/>
                    <a:pt x="877491" y="1014177"/>
                  </a:cubicBezTo>
                  <a:lnTo>
                    <a:pt x="860535" y="1016695"/>
                  </a:lnTo>
                  <a:cubicBezTo>
                    <a:pt x="604201" y="1045500"/>
                    <a:pt x="540032" y="955506"/>
                    <a:pt x="471293" y="792568"/>
                  </a:cubicBezTo>
                  <a:close/>
                  <a:moveTo>
                    <a:pt x="591136" y="1383991"/>
                  </a:moveTo>
                  <a:cubicBezTo>
                    <a:pt x="560073" y="1311987"/>
                    <a:pt x="611606" y="1220521"/>
                    <a:pt x="706238" y="1179696"/>
                  </a:cubicBezTo>
                  <a:cubicBezTo>
                    <a:pt x="800871" y="1138871"/>
                    <a:pt x="902767" y="1164147"/>
                    <a:pt x="933830" y="1236151"/>
                  </a:cubicBezTo>
                  <a:cubicBezTo>
                    <a:pt x="964893" y="1308156"/>
                    <a:pt x="913360" y="1399622"/>
                    <a:pt x="818727" y="1440447"/>
                  </a:cubicBezTo>
                  <a:cubicBezTo>
                    <a:pt x="724095" y="1481271"/>
                    <a:pt x="622199" y="1455996"/>
                    <a:pt x="591136" y="1383991"/>
                  </a:cubicBezTo>
                  <a:close/>
                  <a:moveTo>
                    <a:pt x="13098" y="1175210"/>
                  </a:moveTo>
                  <a:cubicBezTo>
                    <a:pt x="-31892" y="1070924"/>
                    <a:pt x="42745" y="938449"/>
                    <a:pt x="179805" y="879321"/>
                  </a:cubicBezTo>
                  <a:cubicBezTo>
                    <a:pt x="316865" y="820193"/>
                    <a:pt x="464445" y="856801"/>
                    <a:pt x="509435" y="961088"/>
                  </a:cubicBezTo>
                  <a:cubicBezTo>
                    <a:pt x="554425" y="1065374"/>
                    <a:pt x="479787" y="1197849"/>
                    <a:pt x="342728" y="1256977"/>
                  </a:cubicBezTo>
                  <a:cubicBezTo>
                    <a:pt x="205668" y="1316105"/>
                    <a:pt x="58088" y="1279496"/>
                    <a:pt x="13098" y="117521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新月形 42"/>
            <p:cNvSpPr/>
            <p:nvPr/>
          </p:nvSpPr>
          <p:spPr>
            <a:xfrm rot="16200000">
              <a:off x="8811720" y="3093120"/>
              <a:ext cx="8064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新月形 43"/>
            <p:cNvSpPr/>
            <p:nvPr/>
          </p:nvSpPr>
          <p:spPr>
            <a:xfrm rot="16200000">
              <a:off x="8523360" y="3345120"/>
              <a:ext cx="54000" cy="10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圆角矩形标注 44"/>
            <p:cNvSpPr/>
            <p:nvPr/>
          </p:nvSpPr>
          <p:spPr>
            <a:xfrm>
              <a:off x="8361720" y="3017160"/>
              <a:ext cx="201960" cy="135360"/>
            </a:xfrm>
            <a:prstGeom prst="wedgeRoundRectCallout">
              <a:avLst>
                <a:gd name="adj1" fmla="val -36393"/>
                <a:gd name="adj2" fmla="val 79083"/>
                <a:gd name="adj3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45"/>
            <p:cNvSpPr/>
            <p:nvPr/>
          </p:nvSpPr>
          <p:spPr>
            <a:xfrm>
              <a:off x="8386560" y="3039840"/>
              <a:ext cx="152640" cy="4932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圆角矩形标注 46"/>
            <p:cNvSpPr/>
            <p:nvPr/>
          </p:nvSpPr>
          <p:spPr>
            <a:xfrm>
              <a:off x="8917560" y="2651040"/>
              <a:ext cx="284040" cy="190440"/>
            </a:xfrm>
            <a:prstGeom prst="wedgeRoundRectCallout">
              <a:avLst>
                <a:gd name="adj1" fmla="val -36393"/>
                <a:gd name="adj2" fmla="val 79083"/>
                <a:gd name="adj3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47"/>
            <p:cNvSpPr/>
            <p:nvPr/>
          </p:nvSpPr>
          <p:spPr>
            <a:xfrm>
              <a:off x="8952120" y="2684520"/>
              <a:ext cx="214560" cy="6948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5"/>
          <p:cNvGrpSpPr/>
          <p:nvPr/>
        </p:nvGrpSpPr>
        <p:grpSpPr>
          <a:xfrm>
            <a:off x="9015840" y="2790720"/>
            <a:ext cx="1458720" cy="1556640"/>
            <a:chOff x="9015840" y="2790720"/>
            <a:chExt cx="1458720" cy="1556640"/>
          </a:xfrm>
        </p:grpSpPr>
        <p:sp>
          <p:nvSpPr>
            <p:cNvPr id="403" name="任意多边形 49"/>
            <p:cNvSpPr/>
            <p:nvPr/>
          </p:nvSpPr>
          <p:spPr>
            <a:xfrm flipH="1" rot="14800200">
              <a:off x="9124560" y="3042000"/>
              <a:ext cx="1240560" cy="1053720"/>
            </a:xfrm>
            <a:custGeom>
              <a:avLst/>
              <a:gdLst>
                <a:gd name="textAreaLeft" fmla="*/ 360 w 1240560"/>
                <a:gd name="textAreaRight" fmla="*/ 1241280 w 124056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1717029" h="1459970">
                  <a:moveTo>
                    <a:pt x="933306" y="1182498"/>
                  </a:moveTo>
                  <a:cubicBezTo>
                    <a:pt x="848396" y="933436"/>
                    <a:pt x="1302156" y="685393"/>
                    <a:pt x="1476266" y="522140"/>
                  </a:cubicBezTo>
                  <a:lnTo>
                    <a:pt x="1717029" y="1198769"/>
                  </a:lnTo>
                  <a:cubicBezTo>
                    <a:pt x="1501036" y="1239168"/>
                    <a:pt x="1018216" y="1431560"/>
                    <a:pt x="933306" y="1182498"/>
                  </a:cubicBezTo>
                  <a:close/>
                  <a:moveTo>
                    <a:pt x="471293" y="792568"/>
                  </a:moveTo>
                  <a:cubicBezTo>
                    <a:pt x="333815" y="466692"/>
                    <a:pt x="902866" y="213604"/>
                    <a:pt x="1184769" y="0"/>
                  </a:cubicBezTo>
                  <a:lnTo>
                    <a:pt x="1416529" y="526343"/>
                  </a:lnTo>
                  <a:lnTo>
                    <a:pt x="1341432" y="573110"/>
                  </a:lnTo>
                  <a:cubicBezTo>
                    <a:pt x="1141733" y="696183"/>
                    <a:pt x="906380" y="843760"/>
                    <a:pt x="878284" y="995749"/>
                  </a:cubicBezTo>
                  <a:cubicBezTo>
                    <a:pt x="878020" y="1001891"/>
                    <a:pt x="877755" y="1008035"/>
                    <a:pt x="877491" y="1014177"/>
                  </a:cubicBezTo>
                  <a:lnTo>
                    <a:pt x="860535" y="1016695"/>
                  </a:lnTo>
                  <a:cubicBezTo>
                    <a:pt x="604201" y="1045500"/>
                    <a:pt x="540032" y="955506"/>
                    <a:pt x="471293" y="792568"/>
                  </a:cubicBezTo>
                  <a:close/>
                  <a:moveTo>
                    <a:pt x="591136" y="1383991"/>
                  </a:moveTo>
                  <a:cubicBezTo>
                    <a:pt x="560073" y="1311987"/>
                    <a:pt x="611606" y="1220521"/>
                    <a:pt x="706238" y="1179696"/>
                  </a:cubicBezTo>
                  <a:cubicBezTo>
                    <a:pt x="800871" y="1138871"/>
                    <a:pt x="902767" y="1164147"/>
                    <a:pt x="933830" y="1236151"/>
                  </a:cubicBezTo>
                  <a:cubicBezTo>
                    <a:pt x="964893" y="1308156"/>
                    <a:pt x="913360" y="1399622"/>
                    <a:pt x="818727" y="1440447"/>
                  </a:cubicBezTo>
                  <a:cubicBezTo>
                    <a:pt x="724095" y="1481271"/>
                    <a:pt x="622199" y="1455996"/>
                    <a:pt x="591136" y="1383991"/>
                  </a:cubicBezTo>
                  <a:close/>
                  <a:moveTo>
                    <a:pt x="13098" y="1175210"/>
                  </a:moveTo>
                  <a:cubicBezTo>
                    <a:pt x="-31892" y="1070924"/>
                    <a:pt x="42745" y="938449"/>
                    <a:pt x="179805" y="879321"/>
                  </a:cubicBezTo>
                  <a:cubicBezTo>
                    <a:pt x="316865" y="820193"/>
                    <a:pt x="464445" y="856801"/>
                    <a:pt x="509435" y="961088"/>
                  </a:cubicBezTo>
                  <a:cubicBezTo>
                    <a:pt x="554425" y="1065374"/>
                    <a:pt x="479787" y="1197849"/>
                    <a:pt x="342728" y="1256977"/>
                  </a:cubicBezTo>
                  <a:cubicBezTo>
                    <a:pt x="205668" y="1316105"/>
                    <a:pt x="58088" y="1279496"/>
                    <a:pt x="13098" y="117521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新月形 50"/>
            <p:cNvSpPr/>
            <p:nvPr/>
          </p:nvSpPr>
          <p:spPr>
            <a:xfrm flipH="1" rot="5400000">
              <a:off x="9739440" y="3093120"/>
              <a:ext cx="8064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新月形 51"/>
            <p:cNvSpPr/>
            <p:nvPr/>
          </p:nvSpPr>
          <p:spPr>
            <a:xfrm flipH="1" rot="5400000">
              <a:off x="10055160" y="3344760"/>
              <a:ext cx="54000" cy="10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圆角矩形标注 52"/>
            <p:cNvSpPr/>
            <p:nvPr/>
          </p:nvSpPr>
          <p:spPr>
            <a:xfrm flipH="1">
              <a:off x="10068480" y="3017160"/>
              <a:ext cx="201960" cy="135360"/>
            </a:xfrm>
            <a:prstGeom prst="wedgeRoundRectCallout">
              <a:avLst>
                <a:gd name="adj1" fmla="val 50277"/>
                <a:gd name="adj2" fmla="val 72449"/>
                <a:gd name="adj3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53"/>
            <p:cNvSpPr/>
            <p:nvPr/>
          </p:nvSpPr>
          <p:spPr>
            <a:xfrm flipH="1">
              <a:off x="10093320" y="3039480"/>
              <a:ext cx="152640" cy="4932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圆角矩形标注 54"/>
            <p:cNvSpPr/>
            <p:nvPr/>
          </p:nvSpPr>
          <p:spPr>
            <a:xfrm flipH="1">
              <a:off x="9342720" y="2790720"/>
              <a:ext cx="284040" cy="190440"/>
            </a:xfrm>
            <a:prstGeom prst="wedgeRoundRectCallout">
              <a:avLst>
                <a:gd name="adj1" fmla="val -36393"/>
                <a:gd name="adj2" fmla="val 79083"/>
                <a:gd name="adj3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55"/>
            <p:cNvSpPr/>
            <p:nvPr/>
          </p:nvSpPr>
          <p:spPr>
            <a:xfrm flipH="1">
              <a:off x="9377640" y="2824200"/>
              <a:ext cx="214560" cy="6948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3"/>
          <p:cNvSpPr/>
          <p:nvPr/>
        </p:nvSpPr>
        <p:spPr>
          <a:xfrm>
            <a:off x="20052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2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"/>
          <p:cNvSpPr/>
          <p:nvPr/>
        </p:nvSpPr>
        <p:spPr>
          <a:xfrm>
            <a:off x="4683240" y="2065320"/>
            <a:ext cx="696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陪父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拜访</a:t>
            </a: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他们的老朋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1203840" y="2186640"/>
            <a:ext cx="2369520" cy="2119320"/>
            <a:chOff x="1203840" y="2186640"/>
            <a:chExt cx="2369520" cy="2119320"/>
          </a:xfrm>
        </p:grpSpPr>
        <p:grpSp>
          <p:nvGrpSpPr>
            <p:cNvPr id="417" name="Group 8"/>
            <p:cNvGrpSpPr/>
            <p:nvPr/>
          </p:nvGrpSpPr>
          <p:grpSpPr>
            <a:xfrm>
              <a:off x="1203840" y="2186640"/>
              <a:ext cx="1987200" cy="2119320"/>
              <a:chOff x="1203840" y="2186640"/>
              <a:chExt cx="1987200" cy="2119320"/>
            </a:xfrm>
          </p:grpSpPr>
          <p:sp>
            <p:nvSpPr>
              <p:cNvPr id="418" name="任意多边形 24"/>
              <p:cNvSpPr/>
              <p:nvPr/>
            </p:nvSpPr>
            <p:spPr>
              <a:xfrm rot="6799800">
                <a:off x="1352520" y="2528280"/>
                <a:ext cx="1689120" cy="1435680"/>
              </a:xfrm>
              <a:custGeom>
                <a:avLst/>
                <a:gdLst>
                  <a:gd name="textAreaLeft" fmla="*/ 0 w 1689120"/>
                  <a:gd name="textAreaRight" fmla="*/ 1689480 w 1689120"/>
                  <a:gd name="textAreaTop" fmla="*/ 0 h 1435680"/>
                  <a:gd name="textAreaBottom" fmla="*/ 1436040 h 1435680"/>
                </a:gdLst>
                <a:ahLst/>
                <a:rect l="textAreaLeft" t="textAreaTop" r="textAreaRight" b="textAreaBottom"/>
                <a:pathLst>
                  <a:path w="1717029" h="1459970">
                    <a:moveTo>
                      <a:pt x="933306" y="1182498"/>
                    </a:moveTo>
                    <a:cubicBezTo>
                      <a:pt x="848396" y="933436"/>
                      <a:pt x="1302156" y="685393"/>
                      <a:pt x="1476266" y="522140"/>
                    </a:cubicBezTo>
                    <a:lnTo>
                      <a:pt x="1717029" y="1198769"/>
                    </a:lnTo>
                    <a:cubicBezTo>
                      <a:pt x="1501036" y="1239168"/>
                      <a:pt x="1018216" y="1431560"/>
                      <a:pt x="933306" y="1182498"/>
                    </a:cubicBezTo>
                    <a:close/>
                    <a:moveTo>
                      <a:pt x="471293" y="792568"/>
                    </a:moveTo>
                    <a:cubicBezTo>
                      <a:pt x="333815" y="466692"/>
                      <a:pt x="902866" y="213604"/>
                      <a:pt x="1184769" y="0"/>
                    </a:cubicBezTo>
                    <a:lnTo>
                      <a:pt x="1416529" y="526343"/>
                    </a:lnTo>
                    <a:lnTo>
                      <a:pt x="1341432" y="573110"/>
                    </a:lnTo>
                    <a:cubicBezTo>
                      <a:pt x="1141733" y="696183"/>
                      <a:pt x="906380" y="843760"/>
                      <a:pt x="878284" y="995749"/>
                    </a:cubicBezTo>
                    <a:cubicBezTo>
                      <a:pt x="878020" y="1001891"/>
                      <a:pt x="877755" y="1008035"/>
                      <a:pt x="877491" y="1014177"/>
                    </a:cubicBezTo>
                    <a:lnTo>
                      <a:pt x="860535" y="1016695"/>
                    </a:lnTo>
                    <a:cubicBezTo>
                      <a:pt x="604201" y="1045500"/>
                      <a:pt x="540032" y="955506"/>
                      <a:pt x="471293" y="792568"/>
                    </a:cubicBezTo>
                    <a:close/>
                    <a:moveTo>
                      <a:pt x="591136" y="1383991"/>
                    </a:moveTo>
                    <a:cubicBezTo>
                      <a:pt x="560073" y="1311987"/>
                      <a:pt x="611606" y="1220521"/>
                      <a:pt x="706238" y="1179696"/>
                    </a:cubicBezTo>
                    <a:cubicBezTo>
                      <a:pt x="800871" y="1138871"/>
                      <a:pt x="902767" y="1164147"/>
                      <a:pt x="933830" y="1236151"/>
                    </a:cubicBezTo>
                    <a:cubicBezTo>
                      <a:pt x="964893" y="1308156"/>
                      <a:pt x="913360" y="1399622"/>
                      <a:pt x="818727" y="1440447"/>
                    </a:cubicBezTo>
                    <a:cubicBezTo>
                      <a:pt x="724095" y="1481271"/>
                      <a:pt x="622199" y="1455996"/>
                      <a:pt x="591136" y="1383991"/>
                    </a:cubicBezTo>
                    <a:close/>
                    <a:moveTo>
                      <a:pt x="13098" y="1175210"/>
                    </a:moveTo>
                    <a:cubicBezTo>
                      <a:pt x="-31892" y="1070924"/>
                      <a:pt x="42745" y="938449"/>
                      <a:pt x="179805" y="879321"/>
                    </a:cubicBezTo>
                    <a:cubicBezTo>
                      <a:pt x="316865" y="820193"/>
                      <a:pt x="464445" y="856801"/>
                      <a:pt x="509435" y="961088"/>
                    </a:cubicBezTo>
                    <a:cubicBezTo>
                      <a:pt x="554425" y="1065374"/>
                      <a:pt x="479787" y="1197849"/>
                      <a:pt x="342728" y="1256977"/>
                    </a:cubicBezTo>
                    <a:cubicBezTo>
                      <a:pt x="205668" y="1316105"/>
                      <a:pt x="58088" y="1279496"/>
                      <a:pt x="13098" y="117521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新月形 25"/>
              <p:cNvSpPr/>
              <p:nvPr/>
            </p:nvSpPr>
            <p:spPr>
              <a:xfrm rot="16200000">
                <a:off x="2094840" y="2598480"/>
                <a:ext cx="110160" cy="219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2d2b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新月形 26"/>
              <p:cNvSpPr/>
              <p:nvPr/>
            </p:nvSpPr>
            <p:spPr>
              <a:xfrm rot="16200000">
                <a:off x="1702080" y="2940840"/>
                <a:ext cx="73440" cy="147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2d2b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矩形 28"/>
              <p:cNvSpPr/>
              <p:nvPr/>
            </p:nvSpPr>
            <p:spPr>
              <a:xfrm>
                <a:off x="1515600" y="2525400"/>
                <a:ext cx="207720" cy="67320"/>
              </a:xfrm>
              <a:prstGeom prst="rect">
                <a:avLst/>
              </a:prstGeom>
              <a:solidFill>
                <a:srgbClr val="2d2b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圆角矩形 31"/>
            <p:cNvSpPr/>
            <p:nvPr/>
          </p:nvSpPr>
          <p:spPr>
            <a:xfrm>
              <a:off x="2286360" y="3153600"/>
              <a:ext cx="1287000" cy="703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2d2b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圆角矩形 32"/>
            <p:cNvSpPr/>
            <p:nvPr/>
          </p:nvSpPr>
          <p:spPr>
            <a:xfrm>
              <a:off x="2535840" y="3034800"/>
              <a:ext cx="760320" cy="62244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19"/>
          <p:cNvSpPr/>
          <p:nvPr/>
        </p:nvSpPr>
        <p:spPr>
          <a:xfrm>
            <a:off x="9522360" y="-190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3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椭圆 10"/>
          <p:cNvSpPr/>
          <p:nvPr/>
        </p:nvSpPr>
        <p:spPr>
          <a:xfrm>
            <a:off x="7854840" y="1657440"/>
            <a:ext cx="31514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15"/>
          <p:cNvSpPr/>
          <p:nvPr/>
        </p:nvSpPr>
        <p:spPr>
          <a:xfrm>
            <a:off x="8105760" y="190656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"/>
          <p:cNvSpPr/>
          <p:nvPr/>
        </p:nvSpPr>
        <p:spPr>
          <a:xfrm>
            <a:off x="482760" y="2046240"/>
            <a:ext cx="696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陪父母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一场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老电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7"/>
          <p:cNvGrpSpPr/>
          <p:nvPr/>
        </p:nvGrpSpPr>
        <p:grpSpPr>
          <a:xfrm>
            <a:off x="8550360" y="2313000"/>
            <a:ext cx="1778040" cy="1844280"/>
            <a:chOff x="8550360" y="2313000"/>
            <a:chExt cx="1778040" cy="1844280"/>
          </a:xfrm>
        </p:grpSpPr>
        <p:sp>
          <p:nvSpPr>
            <p:cNvPr id="431" name="梯形 20"/>
            <p:cNvSpPr/>
            <p:nvPr/>
          </p:nvSpPr>
          <p:spPr>
            <a:xfrm flipV="1">
              <a:off x="9215280" y="3634560"/>
              <a:ext cx="433440" cy="512280"/>
            </a:xfrm>
            <a:custGeom>
              <a:avLst/>
              <a:gdLst>
                <a:gd name="textAreaLeft" fmla="*/ 90360 w 433440"/>
                <a:gd name="textAreaRight" fmla="*/ 343080 w 433440"/>
                <a:gd name="textAreaTop" fmla="*/ 106560 h 512280"/>
                <a:gd name="textAreaBottom" fmla="*/ 405720 h 51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椭圆 21"/>
            <p:cNvSpPr/>
            <p:nvPr/>
          </p:nvSpPr>
          <p:spPr>
            <a:xfrm>
              <a:off x="9299880" y="3356280"/>
              <a:ext cx="278640" cy="278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梯形 22"/>
            <p:cNvSpPr/>
            <p:nvPr/>
          </p:nvSpPr>
          <p:spPr>
            <a:xfrm flipV="1">
              <a:off x="9663480" y="3371040"/>
              <a:ext cx="664920" cy="785880"/>
            </a:xfrm>
            <a:custGeom>
              <a:avLst/>
              <a:gdLst>
                <a:gd name="textAreaLeft" fmla="*/ 138600 w 664920"/>
                <a:gd name="textAreaRight" fmla="*/ 526680 w 664920"/>
                <a:gd name="textAreaTop" fmla="*/ 163440 h 785880"/>
                <a:gd name="textAreaBottom" fmla="*/ 622080 h 78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27"/>
            <p:cNvSpPr/>
            <p:nvPr/>
          </p:nvSpPr>
          <p:spPr>
            <a:xfrm>
              <a:off x="9782280" y="2944080"/>
              <a:ext cx="427680" cy="427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梯形 29"/>
            <p:cNvSpPr/>
            <p:nvPr/>
          </p:nvSpPr>
          <p:spPr>
            <a:xfrm flipV="1">
              <a:off x="8550360" y="3361320"/>
              <a:ext cx="664920" cy="785880"/>
            </a:xfrm>
            <a:custGeom>
              <a:avLst/>
              <a:gdLst>
                <a:gd name="textAreaLeft" fmla="*/ 138600 w 664920"/>
                <a:gd name="textAreaRight" fmla="*/ 526680 w 664920"/>
                <a:gd name="textAreaTop" fmla="*/ 163440 h 785880"/>
                <a:gd name="textAreaBottom" fmla="*/ 622080 h 78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30"/>
            <p:cNvSpPr/>
            <p:nvPr/>
          </p:nvSpPr>
          <p:spPr>
            <a:xfrm>
              <a:off x="8668800" y="2934000"/>
              <a:ext cx="427680" cy="427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33"/>
            <p:cNvSpPr/>
            <p:nvPr/>
          </p:nvSpPr>
          <p:spPr>
            <a:xfrm>
              <a:off x="8795160" y="2313000"/>
              <a:ext cx="1224000" cy="531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文本框 23"/>
          <p:cNvSpPr/>
          <p:nvPr/>
        </p:nvSpPr>
        <p:spPr>
          <a:xfrm>
            <a:off x="22608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4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2"/>
          <p:cNvSpPr/>
          <p:nvPr/>
        </p:nvSpPr>
        <p:spPr>
          <a:xfrm>
            <a:off x="10898640" y="5599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44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椭圆 10"/>
          <p:cNvSpPr/>
          <p:nvPr/>
        </p:nvSpPr>
        <p:spPr>
          <a:xfrm>
            <a:off x="8340840" y="1679400"/>
            <a:ext cx="315108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5"/>
          <p:cNvSpPr/>
          <p:nvPr/>
        </p:nvSpPr>
        <p:spPr>
          <a:xfrm>
            <a:off x="858996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1744560" y="2028960"/>
            <a:ext cx="6424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节假日尽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与父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共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11"/>
          <p:cNvSpPr/>
          <p:nvPr/>
        </p:nvSpPr>
        <p:spPr>
          <a:xfrm>
            <a:off x="8934480" y="2540160"/>
            <a:ext cx="2038320" cy="1363680"/>
          </a:xfrm>
          <a:custGeom>
            <a:avLst/>
            <a:gdLst>
              <a:gd name="textAreaLeft" fmla="*/ 0 w 2038320"/>
              <a:gd name="textAreaRight" fmla="*/ 2038680 w 203832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2609938" h="1747058">
                <a:moveTo>
                  <a:pt x="1297348" y="1285546"/>
                </a:moveTo>
                <a:cubicBezTo>
                  <a:pt x="1756934" y="1277564"/>
                  <a:pt x="2219061" y="1415864"/>
                  <a:pt x="2609938" y="1701728"/>
                </a:cubicBezTo>
                <a:lnTo>
                  <a:pt x="0" y="1747058"/>
                </a:lnTo>
                <a:cubicBezTo>
                  <a:pt x="380716" y="1447793"/>
                  <a:pt x="837761" y="1293528"/>
                  <a:pt x="1297348" y="1285546"/>
                </a:cubicBezTo>
                <a:close/>
                <a:moveTo>
                  <a:pt x="1299746" y="979749"/>
                </a:moveTo>
                <a:cubicBezTo>
                  <a:pt x="1447801" y="978770"/>
                  <a:pt x="1575566" y="1199766"/>
                  <a:pt x="1575893" y="1243303"/>
                </a:cubicBezTo>
                <a:cubicBezTo>
                  <a:pt x="1484497" y="1242527"/>
                  <a:pt x="1403986" y="1198207"/>
                  <a:pt x="1312590" y="1197431"/>
                </a:cubicBezTo>
                <a:cubicBezTo>
                  <a:pt x="1221059" y="1199417"/>
                  <a:pt x="1118641" y="1244946"/>
                  <a:pt x="1027110" y="1246933"/>
                </a:cubicBezTo>
                <a:cubicBezTo>
                  <a:pt x="1031080" y="1098928"/>
                  <a:pt x="1151691" y="980729"/>
                  <a:pt x="1299746" y="979749"/>
                </a:cubicBezTo>
                <a:close/>
                <a:moveTo>
                  <a:pt x="1192239" y="789944"/>
                </a:moveTo>
                <a:cubicBezTo>
                  <a:pt x="1192239" y="849357"/>
                  <a:pt x="1240403" y="897521"/>
                  <a:pt x="1299816" y="897521"/>
                </a:cubicBezTo>
                <a:cubicBezTo>
                  <a:pt x="1359229" y="897521"/>
                  <a:pt x="1407393" y="849357"/>
                  <a:pt x="1407393" y="789944"/>
                </a:cubicBezTo>
                <a:cubicBezTo>
                  <a:pt x="1381997" y="823804"/>
                  <a:pt x="1342142" y="843732"/>
                  <a:pt x="1299816" y="843732"/>
                </a:cubicBezTo>
                <a:cubicBezTo>
                  <a:pt x="1257490" y="843732"/>
                  <a:pt x="1217634" y="823804"/>
                  <a:pt x="1192239" y="789944"/>
                </a:cubicBezTo>
                <a:close/>
                <a:moveTo>
                  <a:pt x="435599" y="617767"/>
                </a:moveTo>
                <a:cubicBezTo>
                  <a:pt x="594535" y="617767"/>
                  <a:pt x="740596" y="962977"/>
                  <a:pt x="723378" y="1088163"/>
                </a:cubicBezTo>
                <a:cubicBezTo>
                  <a:pt x="706160" y="1213349"/>
                  <a:pt x="491230" y="1368883"/>
                  <a:pt x="332293" y="1368883"/>
                </a:cubicBezTo>
                <a:cubicBezTo>
                  <a:pt x="173357" y="1368883"/>
                  <a:pt x="147819" y="1347955"/>
                  <a:pt x="147819" y="1088163"/>
                </a:cubicBezTo>
                <a:cubicBezTo>
                  <a:pt x="147819" y="828371"/>
                  <a:pt x="276662" y="617767"/>
                  <a:pt x="435599" y="617767"/>
                </a:cubicBezTo>
                <a:close/>
                <a:moveTo>
                  <a:pt x="2178410" y="576944"/>
                </a:moveTo>
                <a:cubicBezTo>
                  <a:pt x="2337346" y="576944"/>
                  <a:pt x="2466189" y="787548"/>
                  <a:pt x="2466189" y="1047340"/>
                </a:cubicBezTo>
                <a:cubicBezTo>
                  <a:pt x="2466189" y="1307132"/>
                  <a:pt x="2440652" y="1328060"/>
                  <a:pt x="2281715" y="1328060"/>
                </a:cubicBezTo>
                <a:cubicBezTo>
                  <a:pt x="2122779" y="1328060"/>
                  <a:pt x="1907848" y="1172526"/>
                  <a:pt x="1890630" y="1047340"/>
                </a:cubicBezTo>
                <a:cubicBezTo>
                  <a:pt x="1873413" y="922154"/>
                  <a:pt x="2019473" y="576944"/>
                  <a:pt x="2178410" y="576944"/>
                </a:cubicBezTo>
                <a:close/>
                <a:moveTo>
                  <a:pt x="1301561" y="527959"/>
                </a:moveTo>
                <a:cubicBezTo>
                  <a:pt x="1414286" y="527959"/>
                  <a:pt x="1505668" y="619341"/>
                  <a:pt x="1505668" y="732066"/>
                </a:cubicBezTo>
                <a:cubicBezTo>
                  <a:pt x="1505668" y="844791"/>
                  <a:pt x="1414286" y="936173"/>
                  <a:pt x="1301561" y="936173"/>
                </a:cubicBezTo>
                <a:cubicBezTo>
                  <a:pt x="1188836" y="936173"/>
                  <a:pt x="1097454" y="844791"/>
                  <a:pt x="1097454" y="732066"/>
                </a:cubicBezTo>
                <a:cubicBezTo>
                  <a:pt x="1097454" y="619341"/>
                  <a:pt x="1188836" y="527959"/>
                  <a:pt x="1301561" y="527959"/>
                </a:cubicBezTo>
                <a:close/>
                <a:moveTo>
                  <a:pt x="376074" y="372196"/>
                </a:moveTo>
                <a:cubicBezTo>
                  <a:pt x="376074" y="449350"/>
                  <a:pt x="438620" y="511896"/>
                  <a:pt x="515774" y="511896"/>
                </a:cubicBezTo>
                <a:cubicBezTo>
                  <a:pt x="592928" y="511896"/>
                  <a:pt x="655474" y="449350"/>
                  <a:pt x="655474" y="372196"/>
                </a:cubicBezTo>
                <a:cubicBezTo>
                  <a:pt x="622495" y="416168"/>
                  <a:pt x="570738" y="442046"/>
                  <a:pt x="515774" y="442046"/>
                </a:cubicBezTo>
                <a:cubicBezTo>
                  <a:pt x="460810" y="442046"/>
                  <a:pt x="409053" y="416168"/>
                  <a:pt x="376074" y="372196"/>
                </a:cubicBezTo>
                <a:close/>
                <a:moveTo>
                  <a:pt x="1919481" y="302345"/>
                </a:moveTo>
                <a:cubicBezTo>
                  <a:pt x="1919481" y="379499"/>
                  <a:pt x="1982027" y="442045"/>
                  <a:pt x="2059181" y="442045"/>
                </a:cubicBezTo>
                <a:cubicBezTo>
                  <a:pt x="2136335" y="442045"/>
                  <a:pt x="2198881" y="379499"/>
                  <a:pt x="2198881" y="302345"/>
                </a:cubicBezTo>
                <a:cubicBezTo>
                  <a:pt x="2165902" y="346317"/>
                  <a:pt x="2114145" y="372195"/>
                  <a:pt x="2059181" y="372195"/>
                </a:cubicBezTo>
                <a:cubicBezTo>
                  <a:pt x="2004217" y="372195"/>
                  <a:pt x="1952460" y="346317"/>
                  <a:pt x="1919481" y="302345"/>
                </a:cubicBezTo>
                <a:close/>
                <a:moveTo>
                  <a:pt x="2147924" y="0"/>
                </a:moveTo>
                <a:cubicBezTo>
                  <a:pt x="2290788" y="0"/>
                  <a:pt x="2406603" y="115815"/>
                  <a:pt x="2406603" y="258679"/>
                </a:cubicBezTo>
                <a:cubicBezTo>
                  <a:pt x="2406603" y="401543"/>
                  <a:pt x="2290788" y="517358"/>
                  <a:pt x="2147924" y="517358"/>
                </a:cubicBezTo>
                <a:cubicBezTo>
                  <a:pt x="2005060" y="517358"/>
                  <a:pt x="1889245" y="401543"/>
                  <a:pt x="1889245" y="258679"/>
                </a:cubicBezTo>
                <a:cubicBezTo>
                  <a:pt x="1889245" y="115815"/>
                  <a:pt x="2005060" y="0"/>
                  <a:pt x="2147924" y="0"/>
                </a:cubicBezTo>
                <a:close/>
                <a:moveTo>
                  <a:pt x="425404" y="0"/>
                </a:moveTo>
                <a:cubicBezTo>
                  <a:pt x="584723" y="0"/>
                  <a:pt x="713876" y="129153"/>
                  <a:pt x="713876" y="288472"/>
                </a:cubicBezTo>
                <a:cubicBezTo>
                  <a:pt x="713876" y="447791"/>
                  <a:pt x="584723" y="576944"/>
                  <a:pt x="425404" y="576944"/>
                </a:cubicBezTo>
                <a:cubicBezTo>
                  <a:pt x="266085" y="576944"/>
                  <a:pt x="136932" y="447791"/>
                  <a:pt x="136932" y="288472"/>
                </a:cubicBezTo>
                <a:cubicBezTo>
                  <a:pt x="136932" y="129153"/>
                  <a:pt x="266085" y="0"/>
                  <a:pt x="425404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2"/>
          <p:cNvSpPr/>
          <p:nvPr/>
        </p:nvSpPr>
        <p:spPr>
          <a:xfrm>
            <a:off x="6840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4773600" y="2028960"/>
            <a:ext cx="625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为父母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办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生日宴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20"/>
          <p:cNvSpPr/>
          <p:nvPr/>
        </p:nvSpPr>
        <p:spPr>
          <a:xfrm>
            <a:off x="1508040" y="2473200"/>
            <a:ext cx="1893960" cy="144936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223434" h="936512">
                <a:moveTo>
                  <a:pt x="1062006" y="208600"/>
                </a:moveTo>
                <a:cubicBezTo>
                  <a:pt x="1079541" y="208600"/>
                  <a:pt x="1093756" y="242838"/>
                  <a:pt x="1093756" y="260373"/>
                </a:cubicBezTo>
                <a:cubicBezTo>
                  <a:pt x="1093756" y="277908"/>
                  <a:pt x="1079541" y="292123"/>
                  <a:pt x="1062006" y="292123"/>
                </a:cubicBezTo>
                <a:cubicBezTo>
                  <a:pt x="1044471" y="292123"/>
                  <a:pt x="1030256" y="274293"/>
                  <a:pt x="1030256" y="260373"/>
                </a:cubicBezTo>
                <a:cubicBezTo>
                  <a:pt x="1030256" y="246453"/>
                  <a:pt x="1044471" y="208600"/>
                  <a:pt x="1062006" y="208600"/>
                </a:cubicBezTo>
                <a:close/>
                <a:moveTo>
                  <a:pt x="155154" y="165516"/>
                </a:moveTo>
                <a:cubicBezTo>
                  <a:pt x="172689" y="165516"/>
                  <a:pt x="186904" y="199754"/>
                  <a:pt x="186904" y="217289"/>
                </a:cubicBezTo>
                <a:cubicBezTo>
                  <a:pt x="186904" y="234824"/>
                  <a:pt x="172689" y="249039"/>
                  <a:pt x="155154" y="249039"/>
                </a:cubicBezTo>
                <a:cubicBezTo>
                  <a:pt x="137619" y="249039"/>
                  <a:pt x="123404" y="231209"/>
                  <a:pt x="123404" y="217289"/>
                </a:cubicBezTo>
                <a:cubicBezTo>
                  <a:pt x="123404" y="203369"/>
                  <a:pt x="137619" y="165516"/>
                  <a:pt x="155154" y="165516"/>
                </a:cubicBezTo>
                <a:close/>
                <a:moveTo>
                  <a:pt x="459173" y="157377"/>
                </a:moveTo>
                <a:cubicBezTo>
                  <a:pt x="476708" y="157377"/>
                  <a:pt x="490923" y="191615"/>
                  <a:pt x="490923" y="209150"/>
                </a:cubicBezTo>
                <a:cubicBezTo>
                  <a:pt x="490923" y="226685"/>
                  <a:pt x="476708" y="240900"/>
                  <a:pt x="459173" y="240900"/>
                </a:cubicBezTo>
                <a:cubicBezTo>
                  <a:pt x="441638" y="240900"/>
                  <a:pt x="427423" y="223070"/>
                  <a:pt x="427423" y="209150"/>
                </a:cubicBezTo>
                <a:cubicBezTo>
                  <a:pt x="427423" y="195230"/>
                  <a:pt x="441638" y="157377"/>
                  <a:pt x="459173" y="157377"/>
                </a:cubicBezTo>
                <a:close/>
                <a:moveTo>
                  <a:pt x="758432" y="149232"/>
                </a:moveTo>
                <a:cubicBezTo>
                  <a:pt x="775967" y="149232"/>
                  <a:pt x="790182" y="183470"/>
                  <a:pt x="790182" y="201005"/>
                </a:cubicBezTo>
                <a:cubicBezTo>
                  <a:pt x="790182" y="218540"/>
                  <a:pt x="775967" y="232755"/>
                  <a:pt x="758432" y="232755"/>
                </a:cubicBezTo>
                <a:cubicBezTo>
                  <a:pt x="740897" y="232755"/>
                  <a:pt x="726682" y="214925"/>
                  <a:pt x="726682" y="201005"/>
                </a:cubicBezTo>
                <a:cubicBezTo>
                  <a:pt x="726682" y="187085"/>
                  <a:pt x="740897" y="149232"/>
                  <a:pt x="758432" y="149232"/>
                </a:cubicBezTo>
                <a:close/>
                <a:moveTo>
                  <a:pt x="279804" y="83525"/>
                </a:moveTo>
                <a:lnTo>
                  <a:pt x="332789" y="83525"/>
                </a:lnTo>
                <a:cubicBezTo>
                  <a:pt x="340105" y="83525"/>
                  <a:pt x="346035" y="89455"/>
                  <a:pt x="346035" y="96771"/>
                </a:cubicBezTo>
                <a:lnTo>
                  <a:pt x="346035" y="364931"/>
                </a:lnTo>
                <a:lnTo>
                  <a:pt x="417700" y="364931"/>
                </a:lnTo>
                <a:lnTo>
                  <a:pt x="417700" y="254148"/>
                </a:lnTo>
                <a:cubicBezTo>
                  <a:pt x="417700" y="246832"/>
                  <a:pt x="423630" y="240902"/>
                  <a:pt x="430946" y="240902"/>
                </a:cubicBezTo>
                <a:lnTo>
                  <a:pt x="483931" y="240902"/>
                </a:lnTo>
                <a:cubicBezTo>
                  <a:pt x="491247" y="240902"/>
                  <a:pt x="497177" y="246832"/>
                  <a:pt x="497177" y="254148"/>
                </a:cubicBezTo>
                <a:lnTo>
                  <a:pt x="497177" y="364931"/>
                </a:lnTo>
                <a:lnTo>
                  <a:pt x="568842" y="364931"/>
                </a:lnTo>
                <a:lnTo>
                  <a:pt x="568842" y="96771"/>
                </a:lnTo>
                <a:cubicBezTo>
                  <a:pt x="568842" y="89455"/>
                  <a:pt x="574772" y="83525"/>
                  <a:pt x="582088" y="83525"/>
                </a:cubicBezTo>
                <a:lnTo>
                  <a:pt x="635073" y="83525"/>
                </a:lnTo>
                <a:cubicBezTo>
                  <a:pt x="642389" y="83525"/>
                  <a:pt x="648319" y="89455"/>
                  <a:pt x="648319" y="96771"/>
                </a:cubicBezTo>
                <a:lnTo>
                  <a:pt x="648319" y="364931"/>
                </a:lnTo>
                <a:lnTo>
                  <a:pt x="719984" y="364931"/>
                </a:lnTo>
                <a:lnTo>
                  <a:pt x="719984" y="246003"/>
                </a:lnTo>
                <a:cubicBezTo>
                  <a:pt x="719984" y="238687"/>
                  <a:pt x="725914" y="232757"/>
                  <a:pt x="733230" y="232757"/>
                </a:cubicBezTo>
                <a:lnTo>
                  <a:pt x="786215" y="232757"/>
                </a:lnTo>
                <a:cubicBezTo>
                  <a:pt x="793531" y="232757"/>
                  <a:pt x="799461" y="238687"/>
                  <a:pt x="799461" y="246003"/>
                </a:cubicBezTo>
                <a:lnTo>
                  <a:pt x="799461" y="364931"/>
                </a:lnTo>
                <a:lnTo>
                  <a:pt x="871127" y="364931"/>
                </a:lnTo>
                <a:lnTo>
                  <a:pt x="871127" y="96771"/>
                </a:lnTo>
                <a:cubicBezTo>
                  <a:pt x="871127" y="89455"/>
                  <a:pt x="877057" y="83525"/>
                  <a:pt x="884373" y="83525"/>
                </a:cubicBezTo>
                <a:lnTo>
                  <a:pt x="937358" y="83525"/>
                </a:lnTo>
                <a:cubicBezTo>
                  <a:pt x="944674" y="83525"/>
                  <a:pt x="950604" y="89455"/>
                  <a:pt x="950604" y="96771"/>
                </a:cubicBezTo>
                <a:lnTo>
                  <a:pt x="950604" y="364931"/>
                </a:lnTo>
                <a:lnTo>
                  <a:pt x="1022268" y="364931"/>
                </a:lnTo>
                <a:lnTo>
                  <a:pt x="1022268" y="305369"/>
                </a:lnTo>
                <a:cubicBezTo>
                  <a:pt x="1022268" y="298053"/>
                  <a:pt x="1028198" y="292123"/>
                  <a:pt x="1035514" y="292123"/>
                </a:cubicBezTo>
                <a:lnTo>
                  <a:pt x="1062006" y="292123"/>
                </a:lnTo>
                <a:lnTo>
                  <a:pt x="1088499" y="292123"/>
                </a:lnTo>
                <a:cubicBezTo>
                  <a:pt x="1095815" y="292123"/>
                  <a:pt x="1101745" y="298053"/>
                  <a:pt x="1101745" y="305369"/>
                </a:cubicBezTo>
                <a:lnTo>
                  <a:pt x="1101745" y="364931"/>
                </a:lnTo>
                <a:lnTo>
                  <a:pt x="1148001" y="364931"/>
                </a:lnTo>
                <a:cubicBezTo>
                  <a:pt x="1189661" y="364931"/>
                  <a:pt x="1223433" y="398703"/>
                  <a:pt x="1223433" y="440363"/>
                </a:cubicBezTo>
                <a:lnTo>
                  <a:pt x="1223433" y="742083"/>
                </a:lnTo>
                <a:lnTo>
                  <a:pt x="1220095" y="758616"/>
                </a:lnTo>
                <a:lnTo>
                  <a:pt x="1223434" y="767753"/>
                </a:lnTo>
                <a:cubicBezTo>
                  <a:pt x="1223434" y="860956"/>
                  <a:pt x="949559" y="936512"/>
                  <a:pt x="611717" y="936512"/>
                </a:cubicBezTo>
                <a:cubicBezTo>
                  <a:pt x="273875" y="936512"/>
                  <a:pt x="0" y="860956"/>
                  <a:pt x="0" y="767753"/>
                </a:cubicBezTo>
                <a:lnTo>
                  <a:pt x="3338" y="758618"/>
                </a:lnTo>
                <a:lnTo>
                  <a:pt x="0" y="742083"/>
                </a:lnTo>
                <a:lnTo>
                  <a:pt x="0" y="440363"/>
                </a:lnTo>
                <a:cubicBezTo>
                  <a:pt x="0" y="398703"/>
                  <a:pt x="33772" y="364931"/>
                  <a:pt x="75432" y="364931"/>
                </a:cubicBezTo>
                <a:lnTo>
                  <a:pt x="115416" y="364931"/>
                </a:lnTo>
                <a:lnTo>
                  <a:pt x="115416" y="262285"/>
                </a:lnTo>
                <a:cubicBezTo>
                  <a:pt x="115416" y="254969"/>
                  <a:pt x="121346" y="249039"/>
                  <a:pt x="128662" y="249039"/>
                </a:cubicBezTo>
                <a:lnTo>
                  <a:pt x="155154" y="249039"/>
                </a:lnTo>
                <a:lnTo>
                  <a:pt x="181647" y="249039"/>
                </a:lnTo>
                <a:cubicBezTo>
                  <a:pt x="188963" y="249039"/>
                  <a:pt x="194893" y="254969"/>
                  <a:pt x="194893" y="262285"/>
                </a:cubicBezTo>
                <a:lnTo>
                  <a:pt x="194893" y="364931"/>
                </a:lnTo>
                <a:lnTo>
                  <a:pt x="266558" y="364931"/>
                </a:lnTo>
                <a:lnTo>
                  <a:pt x="266558" y="96771"/>
                </a:lnTo>
                <a:cubicBezTo>
                  <a:pt x="266558" y="89455"/>
                  <a:pt x="272488" y="83525"/>
                  <a:pt x="279804" y="83525"/>
                </a:cubicBezTo>
                <a:close/>
                <a:moveTo>
                  <a:pt x="310291" y="1"/>
                </a:moveTo>
                <a:cubicBezTo>
                  <a:pt x="327826" y="1"/>
                  <a:pt x="342041" y="34239"/>
                  <a:pt x="342041" y="51774"/>
                </a:cubicBezTo>
                <a:cubicBezTo>
                  <a:pt x="342041" y="69309"/>
                  <a:pt x="327826" y="83524"/>
                  <a:pt x="310291" y="83524"/>
                </a:cubicBezTo>
                <a:cubicBezTo>
                  <a:pt x="292756" y="83524"/>
                  <a:pt x="278541" y="65694"/>
                  <a:pt x="278541" y="51774"/>
                </a:cubicBezTo>
                <a:cubicBezTo>
                  <a:pt x="278541" y="37854"/>
                  <a:pt x="292756" y="1"/>
                  <a:pt x="310291" y="1"/>
                </a:cubicBezTo>
                <a:close/>
                <a:moveTo>
                  <a:pt x="908142" y="0"/>
                </a:moveTo>
                <a:cubicBezTo>
                  <a:pt x="925677" y="0"/>
                  <a:pt x="939892" y="34238"/>
                  <a:pt x="939892" y="51773"/>
                </a:cubicBezTo>
                <a:cubicBezTo>
                  <a:pt x="939892" y="69308"/>
                  <a:pt x="925677" y="83523"/>
                  <a:pt x="908142" y="83523"/>
                </a:cubicBezTo>
                <a:cubicBezTo>
                  <a:pt x="890607" y="83523"/>
                  <a:pt x="876392" y="65693"/>
                  <a:pt x="876392" y="51773"/>
                </a:cubicBezTo>
                <a:cubicBezTo>
                  <a:pt x="876392" y="37853"/>
                  <a:pt x="890607" y="0"/>
                  <a:pt x="908142" y="0"/>
                </a:cubicBezTo>
                <a:close/>
                <a:moveTo>
                  <a:pt x="605405" y="0"/>
                </a:moveTo>
                <a:cubicBezTo>
                  <a:pt x="622940" y="0"/>
                  <a:pt x="637155" y="34238"/>
                  <a:pt x="637155" y="51773"/>
                </a:cubicBezTo>
                <a:cubicBezTo>
                  <a:pt x="637155" y="69308"/>
                  <a:pt x="622940" y="83523"/>
                  <a:pt x="605405" y="83523"/>
                </a:cubicBezTo>
                <a:cubicBezTo>
                  <a:pt x="587870" y="83523"/>
                  <a:pt x="573655" y="65693"/>
                  <a:pt x="573655" y="51773"/>
                </a:cubicBezTo>
                <a:cubicBezTo>
                  <a:pt x="573655" y="37853"/>
                  <a:pt x="587870" y="0"/>
                  <a:pt x="605405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1"/>
          <p:cNvSpPr/>
          <p:nvPr/>
        </p:nvSpPr>
        <p:spPr>
          <a:xfrm>
            <a:off x="1660680" y="3259080"/>
            <a:ext cx="1652400" cy="703800"/>
          </a:xfrm>
          <a:prstGeom prst="rect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ladimir Script"/>
                <a:ea typeface="AR PShinChanPOP"/>
              </a:rPr>
              <a:t>Happy Birth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1"/>
          <p:cNvSpPr/>
          <p:nvPr/>
        </p:nvSpPr>
        <p:spPr>
          <a:xfrm>
            <a:off x="1049760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3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10"/>
          <p:cNvSpPr/>
          <p:nvPr/>
        </p:nvSpPr>
        <p:spPr>
          <a:xfrm>
            <a:off x="7881840" y="1679400"/>
            <a:ext cx="31514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5"/>
          <p:cNvSpPr/>
          <p:nvPr/>
        </p:nvSpPr>
        <p:spPr>
          <a:xfrm>
            <a:off x="813132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878040" y="2028960"/>
            <a:ext cx="6257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亲自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做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1"/>
          <p:cNvSpPr/>
          <p:nvPr/>
        </p:nvSpPr>
        <p:spPr>
          <a:xfrm rot="19406400">
            <a:off x="8547120" y="2301480"/>
            <a:ext cx="1950840" cy="204012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2040120"/>
              <a:gd name="textAreaBottom" fmla="*/ 2040480 h 2040120"/>
            </a:gdLst>
            <a:ahLst/>
            <a:rect l="textAreaLeft" t="textAreaTop" r="textAreaRight" b="textAreaBottom"/>
            <a:pathLst>
              <a:path w="2256739" h="2357616">
                <a:moveTo>
                  <a:pt x="455202" y="401486"/>
                </a:moveTo>
                <a:lnTo>
                  <a:pt x="421258" y="730244"/>
                </a:lnTo>
                <a:cubicBezTo>
                  <a:pt x="379635" y="719085"/>
                  <a:pt x="329512" y="740197"/>
                  <a:pt x="283639" y="745174"/>
                </a:cubicBezTo>
                <a:lnTo>
                  <a:pt x="261716" y="744080"/>
                </a:lnTo>
                <a:lnTo>
                  <a:pt x="261716" y="1156183"/>
                </a:lnTo>
                <a:lnTo>
                  <a:pt x="334011" y="1190115"/>
                </a:lnTo>
                <a:cubicBezTo>
                  <a:pt x="403657" y="1241759"/>
                  <a:pt x="432014" y="1328412"/>
                  <a:pt x="412789" y="1407687"/>
                </a:cubicBezTo>
                <a:lnTo>
                  <a:pt x="406775" y="1424850"/>
                </a:lnTo>
                <a:lnTo>
                  <a:pt x="503142" y="1437564"/>
                </a:lnTo>
                <a:cubicBezTo>
                  <a:pt x="644326" y="1464341"/>
                  <a:pt x="779489" y="1522867"/>
                  <a:pt x="897634" y="1611058"/>
                </a:cubicBezTo>
                <a:cubicBezTo>
                  <a:pt x="1133924" y="1787441"/>
                  <a:pt x="1275809" y="2062824"/>
                  <a:pt x="1282281" y="2357616"/>
                </a:cubicBezTo>
                <a:lnTo>
                  <a:pt x="219639" y="1564391"/>
                </a:lnTo>
                <a:lnTo>
                  <a:pt x="159901" y="1561710"/>
                </a:lnTo>
                <a:cubicBezTo>
                  <a:pt x="133476" y="1555302"/>
                  <a:pt x="107871" y="1543608"/>
                  <a:pt x="84655" y="1526393"/>
                </a:cubicBezTo>
                <a:cubicBezTo>
                  <a:pt x="-8205" y="1457535"/>
                  <a:pt x="-27663" y="1326437"/>
                  <a:pt x="41195" y="1233576"/>
                </a:cubicBezTo>
                <a:cubicBezTo>
                  <a:pt x="75623" y="1187146"/>
                  <a:pt x="125612" y="1159066"/>
                  <a:pt x="178602" y="1151201"/>
                </a:cubicBezTo>
                <a:lnTo>
                  <a:pt x="215997" y="1152879"/>
                </a:lnTo>
                <a:lnTo>
                  <a:pt x="215997" y="735475"/>
                </a:lnTo>
                <a:lnTo>
                  <a:pt x="92500" y="696300"/>
                </a:lnTo>
                <a:lnTo>
                  <a:pt x="126444" y="367542"/>
                </a:lnTo>
                <a:lnTo>
                  <a:pt x="455202" y="401486"/>
                </a:lnTo>
                <a:close/>
                <a:moveTo>
                  <a:pt x="1885336" y="311893"/>
                </a:moveTo>
                <a:cubicBezTo>
                  <a:pt x="1847831" y="284083"/>
                  <a:pt x="1802604" y="274107"/>
                  <a:pt x="1759799" y="280460"/>
                </a:cubicBezTo>
                <a:lnTo>
                  <a:pt x="1711057" y="297677"/>
                </a:lnTo>
                <a:lnTo>
                  <a:pt x="1711090" y="296930"/>
                </a:lnTo>
                <a:cubicBezTo>
                  <a:pt x="1704738" y="254125"/>
                  <a:pt x="1682056" y="213745"/>
                  <a:pt x="1644551" y="185935"/>
                </a:cubicBezTo>
                <a:cubicBezTo>
                  <a:pt x="1569541" y="130313"/>
                  <a:pt x="1463642" y="146031"/>
                  <a:pt x="1408020" y="221042"/>
                </a:cubicBezTo>
                <a:cubicBezTo>
                  <a:pt x="1380209" y="258547"/>
                  <a:pt x="1370233" y="303773"/>
                  <a:pt x="1376586" y="346578"/>
                </a:cubicBezTo>
                <a:lnTo>
                  <a:pt x="1397143" y="404778"/>
                </a:lnTo>
                <a:lnTo>
                  <a:pt x="1253070" y="730411"/>
                </a:lnTo>
                <a:lnTo>
                  <a:pt x="1332455" y="741660"/>
                </a:lnTo>
                <a:cubicBezTo>
                  <a:pt x="1395196" y="756874"/>
                  <a:pt x="1455990" y="784641"/>
                  <a:pt x="1511109" y="825513"/>
                </a:cubicBezTo>
                <a:cubicBezTo>
                  <a:pt x="1566229" y="866385"/>
                  <a:pt x="1610456" y="916494"/>
                  <a:pt x="1643238" y="972111"/>
                </a:cubicBezTo>
                <a:lnTo>
                  <a:pt x="1669997" y="1029628"/>
                </a:lnTo>
                <a:lnTo>
                  <a:pt x="1936503" y="786941"/>
                </a:lnTo>
                <a:lnTo>
                  <a:pt x="1959067" y="787953"/>
                </a:lnTo>
                <a:cubicBezTo>
                  <a:pt x="2001869" y="781600"/>
                  <a:pt x="2042249" y="758918"/>
                  <a:pt x="2070060" y="721412"/>
                </a:cubicBezTo>
                <a:cubicBezTo>
                  <a:pt x="2125682" y="646401"/>
                  <a:pt x="2109964" y="540504"/>
                  <a:pt x="2034953" y="484882"/>
                </a:cubicBezTo>
                <a:cubicBezTo>
                  <a:pt x="2016200" y="470977"/>
                  <a:pt x="1995517" y="461530"/>
                  <a:pt x="1974171" y="456354"/>
                </a:cubicBezTo>
                <a:lnTo>
                  <a:pt x="1950423" y="455288"/>
                </a:lnTo>
                <a:lnTo>
                  <a:pt x="1951876" y="422888"/>
                </a:lnTo>
                <a:cubicBezTo>
                  <a:pt x="1945524" y="380084"/>
                  <a:pt x="1922841" y="339705"/>
                  <a:pt x="1885336" y="311893"/>
                </a:cubicBezTo>
                <a:close/>
                <a:moveTo>
                  <a:pt x="1970305" y="209221"/>
                </a:moveTo>
                <a:cubicBezTo>
                  <a:pt x="2019585" y="245763"/>
                  <a:pt x="2049387" y="298818"/>
                  <a:pt x="2057734" y="355059"/>
                </a:cubicBezTo>
                <a:lnTo>
                  <a:pt x="2055824" y="397629"/>
                </a:lnTo>
                <a:lnTo>
                  <a:pt x="2087027" y="399029"/>
                </a:lnTo>
                <a:cubicBezTo>
                  <a:pt x="2115074" y="405830"/>
                  <a:pt x="2142250" y="418243"/>
                  <a:pt x="2166889" y="436513"/>
                </a:cubicBezTo>
                <a:cubicBezTo>
                  <a:pt x="2265447" y="509595"/>
                  <a:pt x="2286099" y="648736"/>
                  <a:pt x="2213017" y="747293"/>
                </a:cubicBezTo>
                <a:cubicBezTo>
                  <a:pt x="2176475" y="796573"/>
                  <a:pt x="2123420" y="826375"/>
                  <a:pt x="2067181" y="834722"/>
                </a:cubicBezTo>
                <a:lnTo>
                  <a:pt x="2037534" y="833392"/>
                </a:lnTo>
                <a:lnTo>
                  <a:pt x="1703236" y="1137812"/>
                </a:lnTo>
                <a:lnTo>
                  <a:pt x="1706692" y="1151760"/>
                </a:lnTo>
                <a:cubicBezTo>
                  <a:pt x="1725365" y="1277574"/>
                  <a:pt x="1696043" y="1410511"/>
                  <a:pt x="1614299" y="1520750"/>
                </a:cubicBezTo>
                <a:cubicBezTo>
                  <a:pt x="1450810" y="1741229"/>
                  <a:pt x="1139541" y="1787429"/>
                  <a:pt x="919062" y="1623939"/>
                </a:cubicBezTo>
                <a:cubicBezTo>
                  <a:pt x="698583" y="1460450"/>
                  <a:pt x="652383" y="1149182"/>
                  <a:pt x="815873" y="928703"/>
                </a:cubicBezTo>
                <a:cubicBezTo>
                  <a:pt x="897617" y="818464"/>
                  <a:pt x="1016307" y="751794"/>
                  <a:pt x="1142120" y="733120"/>
                </a:cubicBezTo>
                <a:lnTo>
                  <a:pt x="1151275" y="732646"/>
                </a:lnTo>
                <a:lnTo>
                  <a:pt x="1328862" y="331263"/>
                </a:lnTo>
                <a:lnTo>
                  <a:pt x="1301852" y="254792"/>
                </a:lnTo>
                <a:cubicBezTo>
                  <a:pt x="1293505" y="198552"/>
                  <a:pt x="1306612" y="139128"/>
                  <a:pt x="1343153" y="89849"/>
                </a:cubicBezTo>
                <a:cubicBezTo>
                  <a:pt x="1416235" y="-8708"/>
                  <a:pt x="1555377" y="-29361"/>
                  <a:pt x="1653935" y="43722"/>
                </a:cubicBezTo>
                <a:cubicBezTo>
                  <a:pt x="1703213" y="80262"/>
                  <a:pt x="1733015" y="133319"/>
                  <a:pt x="1741363" y="189558"/>
                </a:cubicBezTo>
                <a:lnTo>
                  <a:pt x="1741318" y="190541"/>
                </a:lnTo>
                <a:lnTo>
                  <a:pt x="1805361" y="167920"/>
                </a:lnTo>
                <a:cubicBezTo>
                  <a:pt x="1861602" y="159572"/>
                  <a:pt x="1921026" y="172680"/>
                  <a:pt x="1970305" y="20922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"/>
          <p:cNvSpPr/>
          <p:nvPr/>
        </p:nvSpPr>
        <p:spPr>
          <a:xfrm>
            <a:off x="9468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4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773600" y="2028960"/>
            <a:ext cx="625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每周给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母打个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电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8"/>
          <p:cNvSpPr/>
          <p:nvPr/>
        </p:nvSpPr>
        <p:spPr>
          <a:xfrm>
            <a:off x="1706400" y="2498760"/>
            <a:ext cx="1589400" cy="1463760"/>
          </a:xfrm>
          <a:custGeom>
            <a:avLst/>
            <a:gdLst>
              <a:gd name="textAreaLeft" fmla="*/ 0 w 1589400"/>
              <a:gd name="textAreaRight" fmla="*/ 1589760 w 158940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1244246" h="1145520">
                <a:moveTo>
                  <a:pt x="939639" y="792804"/>
                </a:moveTo>
                <a:lnTo>
                  <a:pt x="939639" y="838523"/>
                </a:lnTo>
                <a:lnTo>
                  <a:pt x="1063754" y="838523"/>
                </a:lnTo>
                <a:lnTo>
                  <a:pt x="1063754" y="792804"/>
                </a:lnTo>
                <a:lnTo>
                  <a:pt x="939639" y="792804"/>
                </a:lnTo>
                <a:close/>
                <a:moveTo>
                  <a:pt x="719374" y="792804"/>
                </a:moveTo>
                <a:lnTo>
                  <a:pt x="719374" y="838523"/>
                </a:lnTo>
                <a:lnTo>
                  <a:pt x="843489" y="838523"/>
                </a:lnTo>
                <a:lnTo>
                  <a:pt x="843489" y="792804"/>
                </a:lnTo>
                <a:lnTo>
                  <a:pt x="719374" y="792804"/>
                </a:lnTo>
                <a:close/>
                <a:moveTo>
                  <a:pt x="499109" y="792804"/>
                </a:moveTo>
                <a:lnTo>
                  <a:pt x="499109" y="838523"/>
                </a:lnTo>
                <a:lnTo>
                  <a:pt x="623224" y="838523"/>
                </a:lnTo>
                <a:lnTo>
                  <a:pt x="623224" y="792804"/>
                </a:lnTo>
                <a:lnTo>
                  <a:pt x="499109" y="792804"/>
                </a:lnTo>
                <a:close/>
                <a:moveTo>
                  <a:pt x="938538" y="651753"/>
                </a:moveTo>
                <a:lnTo>
                  <a:pt x="938538" y="697472"/>
                </a:lnTo>
                <a:lnTo>
                  <a:pt x="1062653" y="697472"/>
                </a:lnTo>
                <a:lnTo>
                  <a:pt x="1062653" y="651753"/>
                </a:lnTo>
                <a:lnTo>
                  <a:pt x="938538" y="651753"/>
                </a:lnTo>
                <a:close/>
                <a:moveTo>
                  <a:pt x="718273" y="651753"/>
                </a:moveTo>
                <a:lnTo>
                  <a:pt x="718273" y="697472"/>
                </a:lnTo>
                <a:lnTo>
                  <a:pt x="842388" y="697472"/>
                </a:lnTo>
                <a:lnTo>
                  <a:pt x="842388" y="651753"/>
                </a:lnTo>
                <a:lnTo>
                  <a:pt x="718273" y="651753"/>
                </a:lnTo>
                <a:close/>
                <a:moveTo>
                  <a:pt x="498008" y="651753"/>
                </a:moveTo>
                <a:lnTo>
                  <a:pt x="498008" y="697472"/>
                </a:lnTo>
                <a:lnTo>
                  <a:pt x="622123" y="697472"/>
                </a:lnTo>
                <a:lnTo>
                  <a:pt x="622123" y="651753"/>
                </a:lnTo>
                <a:lnTo>
                  <a:pt x="498008" y="651753"/>
                </a:lnTo>
                <a:close/>
                <a:moveTo>
                  <a:pt x="938538" y="510702"/>
                </a:moveTo>
                <a:lnTo>
                  <a:pt x="938538" y="556421"/>
                </a:lnTo>
                <a:lnTo>
                  <a:pt x="1062653" y="556421"/>
                </a:lnTo>
                <a:lnTo>
                  <a:pt x="1062653" y="510702"/>
                </a:lnTo>
                <a:lnTo>
                  <a:pt x="938538" y="510702"/>
                </a:lnTo>
                <a:close/>
                <a:moveTo>
                  <a:pt x="718273" y="510702"/>
                </a:moveTo>
                <a:lnTo>
                  <a:pt x="718273" y="556421"/>
                </a:lnTo>
                <a:lnTo>
                  <a:pt x="842388" y="556421"/>
                </a:lnTo>
                <a:lnTo>
                  <a:pt x="842388" y="510702"/>
                </a:lnTo>
                <a:lnTo>
                  <a:pt x="718273" y="510702"/>
                </a:lnTo>
                <a:close/>
                <a:moveTo>
                  <a:pt x="498008" y="510702"/>
                </a:moveTo>
                <a:lnTo>
                  <a:pt x="498008" y="556421"/>
                </a:lnTo>
                <a:lnTo>
                  <a:pt x="622123" y="556421"/>
                </a:lnTo>
                <a:lnTo>
                  <a:pt x="622123" y="510702"/>
                </a:lnTo>
                <a:lnTo>
                  <a:pt x="498008" y="510702"/>
                </a:lnTo>
                <a:close/>
                <a:moveTo>
                  <a:pt x="485554" y="215356"/>
                </a:moveTo>
                <a:lnTo>
                  <a:pt x="485554" y="400182"/>
                </a:lnTo>
                <a:lnTo>
                  <a:pt x="1088669" y="400182"/>
                </a:lnTo>
                <a:lnTo>
                  <a:pt x="1088669" y="215356"/>
                </a:lnTo>
                <a:lnTo>
                  <a:pt x="485554" y="215356"/>
                </a:lnTo>
                <a:close/>
                <a:moveTo>
                  <a:pt x="192723" y="93759"/>
                </a:moveTo>
                <a:cubicBezTo>
                  <a:pt x="283043" y="93759"/>
                  <a:pt x="356261" y="166977"/>
                  <a:pt x="356261" y="257297"/>
                </a:cubicBezTo>
                <a:cubicBezTo>
                  <a:pt x="356261" y="433143"/>
                  <a:pt x="356260" y="608990"/>
                  <a:pt x="356260" y="784836"/>
                </a:cubicBezTo>
                <a:cubicBezTo>
                  <a:pt x="356260" y="875156"/>
                  <a:pt x="283042" y="948374"/>
                  <a:pt x="192722" y="948374"/>
                </a:cubicBezTo>
                <a:lnTo>
                  <a:pt x="192723" y="948373"/>
                </a:lnTo>
                <a:cubicBezTo>
                  <a:pt x="102403" y="948373"/>
                  <a:pt x="29185" y="875155"/>
                  <a:pt x="29185" y="784835"/>
                </a:cubicBezTo>
                <a:lnTo>
                  <a:pt x="29185" y="257297"/>
                </a:lnTo>
                <a:cubicBezTo>
                  <a:pt x="29185" y="166977"/>
                  <a:pt x="102403" y="93759"/>
                  <a:pt x="192723" y="93759"/>
                </a:cubicBezTo>
                <a:close/>
                <a:moveTo>
                  <a:pt x="67952" y="65006"/>
                </a:moveTo>
                <a:lnTo>
                  <a:pt x="41848" y="96645"/>
                </a:lnTo>
                <a:cubicBezTo>
                  <a:pt x="18213" y="131631"/>
                  <a:pt x="4411" y="173806"/>
                  <a:pt x="4411" y="219205"/>
                </a:cubicBezTo>
                <a:lnTo>
                  <a:pt x="4411" y="858001"/>
                </a:lnTo>
                <a:lnTo>
                  <a:pt x="3846" y="856181"/>
                </a:lnTo>
                <a:cubicBezTo>
                  <a:pt x="1324" y="843856"/>
                  <a:pt x="0" y="831095"/>
                  <a:pt x="0" y="818025"/>
                </a:cubicBezTo>
                <a:lnTo>
                  <a:pt x="0" y="207307"/>
                </a:lnTo>
                <a:cubicBezTo>
                  <a:pt x="0" y="155027"/>
                  <a:pt x="21190" y="107695"/>
                  <a:pt x="55451" y="73435"/>
                </a:cubicBezTo>
                <a:lnTo>
                  <a:pt x="67952" y="65006"/>
                </a:lnTo>
                <a:close/>
                <a:moveTo>
                  <a:pt x="223616" y="0"/>
                </a:moveTo>
                <a:cubicBezTo>
                  <a:pt x="284148" y="0"/>
                  <a:pt x="338949" y="24535"/>
                  <a:pt x="378617" y="64203"/>
                </a:cubicBezTo>
                <a:lnTo>
                  <a:pt x="417981" y="122588"/>
                </a:lnTo>
                <a:lnTo>
                  <a:pt x="417981" y="115560"/>
                </a:lnTo>
                <a:lnTo>
                  <a:pt x="580076" y="115560"/>
                </a:lnTo>
                <a:lnTo>
                  <a:pt x="580076" y="119534"/>
                </a:lnTo>
                <a:lnTo>
                  <a:pt x="599759" y="115560"/>
                </a:lnTo>
                <a:lnTo>
                  <a:pt x="1062468" y="115560"/>
                </a:lnTo>
                <a:cubicBezTo>
                  <a:pt x="1162861" y="115560"/>
                  <a:pt x="1244246" y="196945"/>
                  <a:pt x="1244246" y="297338"/>
                </a:cubicBezTo>
                <a:lnTo>
                  <a:pt x="1244246" y="848182"/>
                </a:lnTo>
                <a:cubicBezTo>
                  <a:pt x="1244246" y="948575"/>
                  <a:pt x="1162861" y="1029960"/>
                  <a:pt x="1062468" y="1029960"/>
                </a:cubicBezTo>
                <a:lnTo>
                  <a:pt x="599759" y="1029960"/>
                </a:lnTo>
                <a:lnTo>
                  <a:pt x="580076" y="1025986"/>
                </a:lnTo>
                <a:lnTo>
                  <a:pt x="580076" y="1029960"/>
                </a:lnTo>
                <a:lnTo>
                  <a:pt x="417981" y="1029960"/>
                </a:lnTo>
                <a:lnTo>
                  <a:pt x="417981" y="1022931"/>
                </a:lnTo>
                <a:lnTo>
                  <a:pt x="378616" y="1081317"/>
                </a:lnTo>
                <a:cubicBezTo>
                  <a:pt x="338948" y="1120985"/>
                  <a:pt x="284147" y="1145520"/>
                  <a:pt x="223615" y="1145520"/>
                </a:cubicBezTo>
                <a:lnTo>
                  <a:pt x="223616" y="1145519"/>
                </a:lnTo>
                <a:cubicBezTo>
                  <a:pt x="102552" y="1145519"/>
                  <a:pt x="4411" y="1047378"/>
                  <a:pt x="4411" y="926314"/>
                </a:cubicBezTo>
                <a:lnTo>
                  <a:pt x="4411" y="858001"/>
                </a:lnTo>
                <a:lnTo>
                  <a:pt x="14878" y="891719"/>
                </a:lnTo>
                <a:cubicBezTo>
                  <a:pt x="43619" y="959670"/>
                  <a:pt x="110903" y="1007349"/>
                  <a:pt x="189323" y="1007349"/>
                </a:cubicBezTo>
                <a:lnTo>
                  <a:pt x="189322" y="1007350"/>
                </a:lnTo>
                <a:cubicBezTo>
                  <a:pt x="293882" y="1007350"/>
                  <a:pt x="378645" y="922587"/>
                  <a:pt x="378645" y="818026"/>
                </a:cubicBezTo>
                <a:cubicBezTo>
                  <a:pt x="378645" y="614453"/>
                  <a:pt x="378646" y="410880"/>
                  <a:pt x="378646" y="207307"/>
                </a:cubicBezTo>
                <a:cubicBezTo>
                  <a:pt x="378646" y="102746"/>
                  <a:pt x="293883" y="17983"/>
                  <a:pt x="189323" y="17983"/>
                </a:cubicBezTo>
                <a:cubicBezTo>
                  <a:pt x="163183" y="17983"/>
                  <a:pt x="138280" y="23281"/>
                  <a:pt x="115630" y="32861"/>
                </a:cubicBezTo>
                <a:lnTo>
                  <a:pt x="67952" y="65006"/>
                </a:lnTo>
                <a:lnTo>
                  <a:pt x="68614" y="64203"/>
                </a:lnTo>
                <a:cubicBezTo>
                  <a:pt x="108283" y="24535"/>
                  <a:pt x="163084" y="0"/>
                  <a:pt x="223616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1049760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5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椭圆 10"/>
          <p:cNvSpPr/>
          <p:nvPr/>
        </p:nvSpPr>
        <p:spPr>
          <a:xfrm>
            <a:off x="7684920" y="1628640"/>
            <a:ext cx="31514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5"/>
          <p:cNvSpPr/>
          <p:nvPr/>
        </p:nvSpPr>
        <p:spPr>
          <a:xfrm>
            <a:off x="7934400" y="187812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985680" y="1978200"/>
            <a:ext cx="6258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的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花钱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不能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"/>
          <p:cNvSpPr/>
          <p:nvPr/>
        </p:nvSpPr>
        <p:spPr>
          <a:xfrm>
            <a:off x="8191440" y="3009960"/>
            <a:ext cx="2095560" cy="71604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2273862" h="776835">
                <a:moveTo>
                  <a:pt x="0" y="0"/>
                </a:moveTo>
                <a:lnTo>
                  <a:pt x="121381" y="776835"/>
                </a:lnTo>
                <a:lnTo>
                  <a:pt x="2273862" y="57453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1"/>
          <p:cNvSpPr/>
          <p:nvPr/>
        </p:nvSpPr>
        <p:spPr>
          <a:xfrm>
            <a:off x="8112240" y="3154320"/>
            <a:ext cx="2095560" cy="71604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2273862" h="776835">
                <a:moveTo>
                  <a:pt x="0" y="0"/>
                </a:moveTo>
                <a:lnTo>
                  <a:pt x="121381" y="776835"/>
                </a:lnTo>
                <a:lnTo>
                  <a:pt x="2273862" y="57453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2"/>
          <p:cNvSpPr/>
          <p:nvPr/>
        </p:nvSpPr>
        <p:spPr>
          <a:xfrm>
            <a:off x="8261280" y="2516040"/>
            <a:ext cx="2154240" cy="107964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336566" h="1171097">
                <a:moveTo>
                  <a:pt x="1127352" y="215648"/>
                </a:moveTo>
                <a:cubicBezTo>
                  <a:pt x="956409" y="215648"/>
                  <a:pt x="817832" y="354225"/>
                  <a:pt x="817832" y="525168"/>
                </a:cubicBezTo>
                <a:cubicBezTo>
                  <a:pt x="817832" y="696111"/>
                  <a:pt x="956409" y="834688"/>
                  <a:pt x="1127352" y="834688"/>
                </a:cubicBezTo>
                <a:cubicBezTo>
                  <a:pt x="1298295" y="834688"/>
                  <a:pt x="1436872" y="696111"/>
                  <a:pt x="1436872" y="525168"/>
                </a:cubicBezTo>
                <a:cubicBezTo>
                  <a:pt x="1436872" y="354225"/>
                  <a:pt x="1298295" y="215648"/>
                  <a:pt x="1127352" y="215648"/>
                </a:cubicBezTo>
                <a:close/>
                <a:moveTo>
                  <a:pt x="2065566" y="0"/>
                </a:moveTo>
                <a:lnTo>
                  <a:pt x="2336566" y="955275"/>
                </a:lnTo>
                <a:lnTo>
                  <a:pt x="155023" y="1171097"/>
                </a:lnTo>
                <a:lnTo>
                  <a:pt x="0" y="278513"/>
                </a:lnTo>
                <a:lnTo>
                  <a:pt x="206556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3"/>
          <p:cNvSpPr/>
          <p:nvPr/>
        </p:nvSpPr>
        <p:spPr>
          <a:xfrm rot="21195000">
            <a:off x="9040320" y="2674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 PShinChanPOP"/>
                <a:ea typeface="AR PShinChanPOP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4"/>
          <p:cNvSpPr/>
          <p:nvPr/>
        </p:nvSpPr>
        <p:spPr>
          <a:xfrm>
            <a:off x="9202680" y="2778120"/>
            <a:ext cx="155520" cy="47628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9"/>
          <p:cNvSpPr/>
          <p:nvPr/>
        </p:nvSpPr>
        <p:spPr>
          <a:xfrm>
            <a:off x="8532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6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"/>
          <p:cNvSpPr/>
          <p:nvPr/>
        </p:nvSpPr>
        <p:spPr>
          <a:xfrm>
            <a:off x="4594320" y="198900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为父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建立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关爱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9"/>
          <p:cNvSpPr/>
          <p:nvPr/>
        </p:nvSpPr>
        <p:spPr>
          <a:xfrm>
            <a:off x="1432080" y="2649600"/>
            <a:ext cx="2019240" cy="120960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1209600"/>
              <a:gd name="textAreaBottom" fmla="*/ 1209600 h 1209600"/>
            </a:gdLst>
            <a:ahLst/>
            <a:rect l="textAreaLeft" t="textAreaTop" r="textAreaRight" b="textAreaBottom"/>
            <a:pathLst>
              <a:path w="2280841" h="1367554">
                <a:moveTo>
                  <a:pt x="153194" y="1080903"/>
                </a:moveTo>
                <a:lnTo>
                  <a:pt x="153194" y="1193196"/>
                </a:lnTo>
                <a:lnTo>
                  <a:pt x="2202821" y="1193196"/>
                </a:lnTo>
                <a:lnTo>
                  <a:pt x="2202821" y="1099619"/>
                </a:lnTo>
                <a:cubicBezTo>
                  <a:pt x="2202821" y="1089282"/>
                  <a:pt x="2194442" y="1080903"/>
                  <a:pt x="2184105" y="1080903"/>
                </a:cubicBezTo>
                <a:lnTo>
                  <a:pt x="153194" y="1080903"/>
                </a:lnTo>
                <a:close/>
                <a:moveTo>
                  <a:pt x="153194" y="864484"/>
                </a:moveTo>
                <a:lnTo>
                  <a:pt x="153194" y="976777"/>
                </a:lnTo>
                <a:lnTo>
                  <a:pt x="2202821" y="976777"/>
                </a:lnTo>
                <a:lnTo>
                  <a:pt x="2202821" y="883200"/>
                </a:lnTo>
                <a:cubicBezTo>
                  <a:pt x="2202821" y="872863"/>
                  <a:pt x="2194442" y="864484"/>
                  <a:pt x="2184105" y="864484"/>
                </a:cubicBezTo>
                <a:lnTo>
                  <a:pt x="153194" y="864484"/>
                </a:lnTo>
                <a:close/>
                <a:moveTo>
                  <a:pt x="153194" y="636895"/>
                </a:moveTo>
                <a:lnTo>
                  <a:pt x="153194" y="749188"/>
                </a:lnTo>
                <a:lnTo>
                  <a:pt x="2202821" y="749188"/>
                </a:lnTo>
                <a:lnTo>
                  <a:pt x="2202821" y="655611"/>
                </a:lnTo>
                <a:cubicBezTo>
                  <a:pt x="2202821" y="645274"/>
                  <a:pt x="2194442" y="636895"/>
                  <a:pt x="2184105" y="636895"/>
                </a:cubicBezTo>
                <a:lnTo>
                  <a:pt x="153194" y="636895"/>
                </a:lnTo>
                <a:close/>
                <a:moveTo>
                  <a:pt x="947527" y="409306"/>
                </a:moveTo>
                <a:lnTo>
                  <a:pt x="947527" y="521599"/>
                </a:lnTo>
                <a:lnTo>
                  <a:pt x="2202821" y="521599"/>
                </a:lnTo>
                <a:lnTo>
                  <a:pt x="2202821" y="428022"/>
                </a:lnTo>
                <a:cubicBezTo>
                  <a:pt x="2202821" y="417685"/>
                  <a:pt x="2194442" y="409306"/>
                  <a:pt x="2184105" y="409306"/>
                </a:cubicBezTo>
                <a:lnTo>
                  <a:pt x="947527" y="409306"/>
                </a:lnTo>
                <a:close/>
                <a:moveTo>
                  <a:pt x="386319" y="348616"/>
                </a:moveTo>
                <a:lnTo>
                  <a:pt x="355974" y="469996"/>
                </a:lnTo>
                <a:lnTo>
                  <a:pt x="604627" y="469996"/>
                </a:lnTo>
                <a:lnTo>
                  <a:pt x="574282" y="348616"/>
                </a:lnTo>
                <a:lnTo>
                  <a:pt x="386319" y="348616"/>
                </a:lnTo>
                <a:close/>
                <a:moveTo>
                  <a:pt x="947527" y="181717"/>
                </a:moveTo>
                <a:lnTo>
                  <a:pt x="947527" y="294010"/>
                </a:lnTo>
                <a:lnTo>
                  <a:pt x="2202821" y="294010"/>
                </a:lnTo>
                <a:lnTo>
                  <a:pt x="2202821" y="200433"/>
                </a:lnTo>
                <a:cubicBezTo>
                  <a:pt x="2202821" y="190096"/>
                  <a:pt x="2194442" y="181717"/>
                  <a:pt x="2184105" y="181717"/>
                </a:cubicBezTo>
                <a:lnTo>
                  <a:pt x="947527" y="181717"/>
                </a:lnTo>
                <a:close/>
                <a:moveTo>
                  <a:pt x="480301" y="181717"/>
                </a:moveTo>
                <a:cubicBezTo>
                  <a:pt x="439324" y="181717"/>
                  <a:pt x="406106" y="214935"/>
                  <a:pt x="406106" y="255912"/>
                </a:cubicBezTo>
                <a:cubicBezTo>
                  <a:pt x="406106" y="296889"/>
                  <a:pt x="439324" y="330107"/>
                  <a:pt x="480301" y="330107"/>
                </a:cubicBezTo>
                <a:cubicBezTo>
                  <a:pt x="521278" y="330107"/>
                  <a:pt x="554496" y="296889"/>
                  <a:pt x="554496" y="255912"/>
                </a:cubicBezTo>
                <a:cubicBezTo>
                  <a:pt x="554496" y="214935"/>
                  <a:pt x="521278" y="181717"/>
                  <a:pt x="480301" y="181717"/>
                </a:cubicBezTo>
                <a:close/>
                <a:moveTo>
                  <a:pt x="203348" y="171535"/>
                </a:moveTo>
                <a:lnTo>
                  <a:pt x="782771" y="171535"/>
                </a:lnTo>
                <a:lnTo>
                  <a:pt x="782771" y="472457"/>
                </a:lnTo>
                <a:lnTo>
                  <a:pt x="203348" y="472457"/>
                </a:lnTo>
                <a:lnTo>
                  <a:pt x="203348" y="171535"/>
                </a:lnTo>
                <a:close/>
                <a:moveTo>
                  <a:pt x="153194" y="121381"/>
                </a:moveTo>
                <a:lnTo>
                  <a:pt x="153194" y="522611"/>
                </a:lnTo>
                <a:lnTo>
                  <a:pt x="832925" y="522611"/>
                </a:lnTo>
                <a:lnTo>
                  <a:pt x="832925" y="121381"/>
                </a:lnTo>
                <a:lnTo>
                  <a:pt x="153194" y="121381"/>
                </a:lnTo>
                <a:close/>
                <a:moveTo>
                  <a:pt x="0" y="0"/>
                </a:moveTo>
                <a:lnTo>
                  <a:pt x="2280841" y="0"/>
                </a:lnTo>
                <a:lnTo>
                  <a:pt x="2280841" y="1367554"/>
                </a:lnTo>
                <a:lnTo>
                  <a:pt x="0" y="136755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"/>
          <p:cNvSpPr/>
          <p:nvPr/>
        </p:nvSpPr>
        <p:spPr>
          <a:xfrm>
            <a:off x="10569960" y="-2556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7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10"/>
          <p:cNvSpPr/>
          <p:nvPr/>
        </p:nvSpPr>
        <p:spPr>
          <a:xfrm>
            <a:off x="7486560" y="1746360"/>
            <a:ext cx="3149640" cy="315108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5"/>
          <p:cNvSpPr/>
          <p:nvPr/>
        </p:nvSpPr>
        <p:spPr>
          <a:xfrm>
            <a:off x="7736040" y="1996920"/>
            <a:ext cx="2651040" cy="265140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906480" y="206532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仔细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聆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的往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7"/>
          <p:cNvGrpSpPr/>
          <p:nvPr/>
        </p:nvGrpSpPr>
        <p:grpSpPr>
          <a:xfrm>
            <a:off x="8263080" y="2514600"/>
            <a:ext cx="1780920" cy="1717560"/>
            <a:chOff x="8263080" y="2514600"/>
            <a:chExt cx="1780920" cy="1717560"/>
          </a:xfrm>
        </p:grpSpPr>
        <p:sp>
          <p:nvSpPr>
            <p:cNvPr id="163" name="任意多边形 9"/>
            <p:cNvSpPr/>
            <p:nvPr/>
          </p:nvSpPr>
          <p:spPr>
            <a:xfrm>
              <a:off x="8263080" y="2514600"/>
              <a:ext cx="262800" cy="171756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228600" h="1490870">
                  <a:moveTo>
                    <a:pt x="0" y="0"/>
                  </a:moveTo>
                  <a:lnTo>
                    <a:pt x="109330" y="69574"/>
                  </a:lnTo>
                  <a:lnTo>
                    <a:pt x="168965" y="218661"/>
                  </a:lnTo>
                  <a:lnTo>
                    <a:pt x="208722" y="347870"/>
                  </a:lnTo>
                  <a:lnTo>
                    <a:pt x="208722" y="546652"/>
                  </a:lnTo>
                  <a:lnTo>
                    <a:pt x="198783" y="765313"/>
                  </a:lnTo>
                  <a:lnTo>
                    <a:pt x="198783" y="983974"/>
                  </a:lnTo>
                  <a:lnTo>
                    <a:pt x="208722" y="1162878"/>
                  </a:lnTo>
                  <a:lnTo>
                    <a:pt x="228600" y="1302026"/>
                  </a:lnTo>
                  <a:lnTo>
                    <a:pt x="228600" y="1391478"/>
                  </a:lnTo>
                  <a:lnTo>
                    <a:pt x="198783" y="1490870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11"/>
            <p:cNvSpPr/>
            <p:nvPr/>
          </p:nvSpPr>
          <p:spPr>
            <a:xfrm>
              <a:off x="8513640" y="2749320"/>
              <a:ext cx="683280" cy="1267560"/>
            </a:xfrm>
            <a:custGeom>
              <a:avLst/>
              <a:gdLst>
                <a:gd name="textAreaLeft" fmla="*/ 0 w 683280"/>
                <a:gd name="textAreaRight" fmla="*/ 683640 w 683280"/>
                <a:gd name="textAreaTop" fmla="*/ 0 h 1267560"/>
                <a:gd name="textAreaBottom" fmla="*/ 1267920 h 1267560"/>
              </a:gdLst>
              <a:ahLst/>
              <a:rect l="textAreaLeft" t="textAreaTop" r="textAreaRight" b="textAreaBottom"/>
              <a:pathLst>
                <a:path w="593813" h="1100194">
                  <a:moveTo>
                    <a:pt x="10929" y="174865"/>
                  </a:moveTo>
                  <a:lnTo>
                    <a:pt x="65574" y="105648"/>
                  </a:lnTo>
                  <a:lnTo>
                    <a:pt x="98362" y="72860"/>
                  </a:lnTo>
                  <a:lnTo>
                    <a:pt x="153007" y="40073"/>
                  </a:lnTo>
                  <a:lnTo>
                    <a:pt x="200366" y="25501"/>
                  </a:lnTo>
                  <a:lnTo>
                    <a:pt x="244083" y="10929"/>
                  </a:lnTo>
                  <a:lnTo>
                    <a:pt x="295085" y="0"/>
                  </a:lnTo>
                  <a:lnTo>
                    <a:pt x="338802" y="0"/>
                  </a:lnTo>
                  <a:lnTo>
                    <a:pt x="378875" y="18215"/>
                  </a:lnTo>
                  <a:lnTo>
                    <a:pt x="411662" y="43716"/>
                  </a:lnTo>
                  <a:lnTo>
                    <a:pt x="477237" y="102005"/>
                  </a:lnTo>
                  <a:lnTo>
                    <a:pt x="510024" y="153007"/>
                  </a:lnTo>
                  <a:lnTo>
                    <a:pt x="535525" y="200366"/>
                  </a:lnTo>
                  <a:lnTo>
                    <a:pt x="550097" y="273227"/>
                  </a:lnTo>
                  <a:lnTo>
                    <a:pt x="582884" y="349730"/>
                  </a:lnTo>
                  <a:lnTo>
                    <a:pt x="586527" y="411662"/>
                  </a:lnTo>
                  <a:lnTo>
                    <a:pt x="593813" y="473593"/>
                  </a:lnTo>
                  <a:lnTo>
                    <a:pt x="590170" y="542811"/>
                  </a:lnTo>
                  <a:lnTo>
                    <a:pt x="568312" y="630244"/>
                  </a:lnTo>
                  <a:lnTo>
                    <a:pt x="550097" y="714033"/>
                  </a:lnTo>
                  <a:lnTo>
                    <a:pt x="528239" y="786894"/>
                  </a:lnTo>
                  <a:lnTo>
                    <a:pt x="484523" y="867040"/>
                  </a:lnTo>
                  <a:lnTo>
                    <a:pt x="437163" y="921686"/>
                  </a:lnTo>
                  <a:lnTo>
                    <a:pt x="371589" y="987260"/>
                  </a:lnTo>
                  <a:lnTo>
                    <a:pt x="295085" y="1049192"/>
                  </a:lnTo>
                  <a:lnTo>
                    <a:pt x="244083" y="1074693"/>
                  </a:lnTo>
                  <a:lnTo>
                    <a:pt x="171222" y="1100194"/>
                  </a:lnTo>
                  <a:lnTo>
                    <a:pt x="127506" y="1100194"/>
                  </a:lnTo>
                  <a:lnTo>
                    <a:pt x="87433" y="1092908"/>
                  </a:lnTo>
                  <a:lnTo>
                    <a:pt x="58288" y="1060121"/>
                  </a:lnTo>
                  <a:lnTo>
                    <a:pt x="18215" y="1027334"/>
                  </a:lnTo>
                  <a:lnTo>
                    <a:pt x="0" y="1020048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2"/>
            <p:cNvSpPr/>
            <p:nvPr/>
          </p:nvSpPr>
          <p:spPr>
            <a:xfrm>
              <a:off x="8660160" y="2871000"/>
              <a:ext cx="427680" cy="80568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805680"/>
                <a:gd name="textAreaBottom" fmla="*/ 806040 h 805680"/>
              </a:gdLst>
              <a:ahLst/>
              <a:rect l="textAreaLeft" t="textAreaTop" r="textAreaRight" b="textAreaBottom"/>
              <a:pathLst>
                <a:path w="371589" h="699461">
                  <a:moveTo>
                    <a:pt x="29144" y="240439"/>
                  </a:moveTo>
                  <a:lnTo>
                    <a:pt x="25501" y="138435"/>
                  </a:lnTo>
                  <a:lnTo>
                    <a:pt x="0" y="98361"/>
                  </a:lnTo>
                  <a:lnTo>
                    <a:pt x="0" y="47359"/>
                  </a:lnTo>
                  <a:lnTo>
                    <a:pt x="51002" y="7286"/>
                  </a:lnTo>
                  <a:lnTo>
                    <a:pt x="109291" y="0"/>
                  </a:lnTo>
                  <a:lnTo>
                    <a:pt x="178508" y="21858"/>
                  </a:lnTo>
                  <a:lnTo>
                    <a:pt x="207652" y="32787"/>
                  </a:lnTo>
                  <a:lnTo>
                    <a:pt x="255012" y="58288"/>
                  </a:lnTo>
                  <a:lnTo>
                    <a:pt x="295085" y="116576"/>
                  </a:lnTo>
                  <a:lnTo>
                    <a:pt x="331515" y="214938"/>
                  </a:lnTo>
                  <a:lnTo>
                    <a:pt x="367946" y="287799"/>
                  </a:lnTo>
                  <a:lnTo>
                    <a:pt x="371589" y="360659"/>
                  </a:lnTo>
                  <a:lnTo>
                    <a:pt x="371589" y="415305"/>
                  </a:lnTo>
                  <a:lnTo>
                    <a:pt x="353374" y="499094"/>
                  </a:lnTo>
                  <a:lnTo>
                    <a:pt x="331515" y="564669"/>
                  </a:lnTo>
                  <a:lnTo>
                    <a:pt x="291442" y="659388"/>
                  </a:lnTo>
                  <a:lnTo>
                    <a:pt x="265941" y="699461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13"/>
            <p:cNvSpPr/>
            <p:nvPr/>
          </p:nvSpPr>
          <p:spPr>
            <a:xfrm>
              <a:off x="8626680" y="3164760"/>
              <a:ext cx="339480" cy="5540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295085" h="480879">
                  <a:moveTo>
                    <a:pt x="61931" y="0"/>
                  </a:moveTo>
                  <a:lnTo>
                    <a:pt x="72860" y="54645"/>
                  </a:lnTo>
                  <a:lnTo>
                    <a:pt x="80146" y="116576"/>
                  </a:lnTo>
                  <a:lnTo>
                    <a:pt x="87432" y="65574"/>
                  </a:lnTo>
                  <a:lnTo>
                    <a:pt x="120220" y="40073"/>
                  </a:lnTo>
                  <a:lnTo>
                    <a:pt x="178508" y="40073"/>
                  </a:lnTo>
                  <a:lnTo>
                    <a:pt x="244083" y="47359"/>
                  </a:lnTo>
                  <a:lnTo>
                    <a:pt x="269584" y="69217"/>
                  </a:lnTo>
                  <a:lnTo>
                    <a:pt x="295085" y="120219"/>
                  </a:lnTo>
                  <a:lnTo>
                    <a:pt x="295085" y="200366"/>
                  </a:lnTo>
                  <a:lnTo>
                    <a:pt x="295085" y="236796"/>
                  </a:lnTo>
                  <a:lnTo>
                    <a:pt x="269584" y="269584"/>
                  </a:lnTo>
                  <a:lnTo>
                    <a:pt x="255012" y="280513"/>
                  </a:lnTo>
                  <a:lnTo>
                    <a:pt x="222224" y="306014"/>
                  </a:lnTo>
                  <a:lnTo>
                    <a:pt x="189437" y="320586"/>
                  </a:lnTo>
                  <a:lnTo>
                    <a:pt x="149364" y="338801"/>
                  </a:lnTo>
                  <a:lnTo>
                    <a:pt x="94718" y="375231"/>
                  </a:lnTo>
                  <a:lnTo>
                    <a:pt x="72860" y="408019"/>
                  </a:lnTo>
                  <a:lnTo>
                    <a:pt x="10929" y="480879"/>
                  </a:lnTo>
                  <a:lnTo>
                    <a:pt x="10929" y="429877"/>
                  </a:lnTo>
                  <a:lnTo>
                    <a:pt x="3643" y="367945"/>
                  </a:lnTo>
                  <a:lnTo>
                    <a:pt x="3643" y="316943"/>
                  </a:lnTo>
                  <a:lnTo>
                    <a:pt x="0" y="269584"/>
                  </a:lnTo>
                  <a:lnTo>
                    <a:pt x="0" y="236796"/>
                  </a:lnTo>
                  <a:lnTo>
                    <a:pt x="25501" y="236796"/>
                  </a:lnTo>
                  <a:lnTo>
                    <a:pt x="61931" y="247725"/>
                  </a:lnTo>
                  <a:lnTo>
                    <a:pt x="87432" y="247725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14"/>
            <p:cNvSpPr/>
            <p:nvPr/>
          </p:nvSpPr>
          <p:spPr>
            <a:xfrm>
              <a:off x="9838800" y="2715840"/>
              <a:ext cx="205200" cy="125064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250640"/>
                <a:gd name="textAreaBottom" fmla="*/ 1251000 h 1250640"/>
              </a:gdLst>
              <a:ahLst/>
              <a:rect l="textAreaLeft" t="textAreaTop" r="textAreaRight" b="textAreaBottom"/>
              <a:pathLst>
                <a:path w="178508" h="1085622">
                  <a:moveTo>
                    <a:pt x="178508" y="0"/>
                  </a:moveTo>
                  <a:lnTo>
                    <a:pt x="134792" y="43716"/>
                  </a:lnTo>
                  <a:lnTo>
                    <a:pt x="83789" y="105647"/>
                  </a:lnTo>
                  <a:lnTo>
                    <a:pt x="51002" y="207652"/>
                  </a:lnTo>
                  <a:lnTo>
                    <a:pt x="36430" y="273227"/>
                  </a:lnTo>
                  <a:lnTo>
                    <a:pt x="36430" y="313300"/>
                  </a:lnTo>
                  <a:lnTo>
                    <a:pt x="14572" y="386160"/>
                  </a:lnTo>
                  <a:lnTo>
                    <a:pt x="32787" y="517309"/>
                  </a:lnTo>
                  <a:lnTo>
                    <a:pt x="25501" y="597456"/>
                  </a:lnTo>
                  <a:lnTo>
                    <a:pt x="21858" y="681246"/>
                  </a:lnTo>
                  <a:lnTo>
                    <a:pt x="18215" y="790537"/>
                  </a:lnTo>
                  <a:lnTo>
                    <a:pt x="3643" y="852468"/>
                  </a:lnTo>
                  <a:lnTo>
                    <a:pt x="0" y="888898"/>
                  </a:lnTo>
                  <a:lnTo>
                    <a:pt x="0" y="947187"/>
                  </a:lnTo>
                  <a:lnTo>
                    <a:pt x="32787" y="1030976"/>
                  </a:lnTo>
                  <a:lnTo>
                    <a:pt x="58288" y="1085622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20"/>
            <p:cNvSpPr/>
            <p:nvPr/>
          </p:nvSpPr>
          <p:spPr>
            <a:xfrm>
              <a:off x="9389880" y="2891880"/>
              <a:ext cx="473760" cy="915120"/>
            </a:xfrm>
            <a:custGeom>
              <a:avLst/>
              <a:gdLst>
                <a:gd name="textAreaLeft" fmla="*/ 0 w 473760"/>
                <a:gd name="textAreaRight" fmla="*/ 474120 w 47376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411662" h="794180">
                  <a:moveTo>
                    <a:pt x="411662" y="134792"/>
                  </a:moveTo>
                  <a:lnTo>
                    <a:pt x="367946" y="54645"/>
                  </a:lnTo>
                  <a:lnTo>
                    <a:pt x="331515" y="18215"/>
                  </a:lnTo>
                  <a:lnTo>
                    <a:pt x="287799" y="0"/>
                  </a:lnTo>
                  <a:lnTo>
                    <a:pt x="222224" y="0"/>
                  </a:lnTo>
                  <a:lnTo>
                    <a:pt x="138435" y="7286"/>
                  </a:lnTo>
                  <a:lnTo>
                    <a:pt x="83789" y="54645"/>
                  </a:lnTo>
                  <a:lnTo>
                    <a:pt x="43716" y="109291"/>
                  </a:lnTo>
                  <a:lnTo>
                    <a:pt x="18215" y="174865"/>
                  </a:lnTo>
                  <a:lnTo>
                    <a:pt x="7286" y="291442"/>
                  </a:lnTo>
                  <a:lnTo>
                    <a:pt x="0" y="389804"/>
                  </a:lnTo>
                  <a:lnTo>
                    <a:pt x="32787" y="531882"/>
                  </a:lnTo>
                  <a:lnTo>
                    <a:pt x="76503" y="619314"/>
                  </a:lnTo>
                  <a:lnTo>
                    <a:pt x="131149" y="692175"/>
                  </a:lnTo>
                  <a:lnTo>
                    <a:pt x="193080" y="732248"/>
                  </a:lnTo>
                  <a:lnTo>
                    <a:pt x="240440" y="775965"/>
                  </a:lnTo>
                  <a:lnTo>
                    <a:pt x="291442" y="794180"/>
                  </a:lnTo>
                  <a:lnTo>
                    <a:pt x="342444" y="790537"/>
                  </a:lnTo>
                  <a:lnTo>
                    <a:pt x="378875" y="746820"/>
                  </a:lnTo>
                  <a:lnTo>
                    <a:pt x="397090" y="706747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21"/>
            <p:cNvSpPr/>
            <p:nvPr/>
          </p:nvSpPr>
          <p:spPr>
            <a:xfrm>
              <a:off x="9461160" y="2963520"/>
              <a:ext cx="297720" cy="59184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258655" h="513667">
                  <a:moveTo>
                    <a:pt x="229511" y="247726"/>
                  </a:moveTo>
                  <a:lnTo>
                    <a:pt x="236797" y="196724"/>
                  </a:lnTo>
                  <a:lnTo>
                    <a:pt x="244083" y="134792"/>
                  </a:lnTo>
                  <a:lnTo>
                    <a:pt x="258655" y="58289"/>
                  </a:lnTo>
                  <a:lnTo>
                    <a:pt x="214939" y="3643"/>
                  </a:lnTo>
                  <a:lnTo>
                    <a:pt x="156650" y="0"/>
                  </a:lnTo>
                  <a:lnTo>
                    <a:pt x="94719" y="25501"/>
                  </a:lnTo>
                  <a:lnTo>
                    <a:pt x="47360" y="87433"/>
                  </a:lnTo>
                  <a:lnTo>
                    <a:pt x="32787" y="145721"/>
                  </a:lnTo>
                  <a:lnTo>
                    <a:pt x="7286" y="236797"/>
                  </a:lnTo>
                  <a:lnTo>
                    <a:pt x="0" y="349731"/>
                  </a:lnTo>
                  <a:lnTo>
                    <a:pt x="21858" y="418948"/>
                  </a:lnTo>
                  <a:lnTo>
                    <a:pt x="58289" y="484523"/>
                  </a:lnTo>
                  <a:lnTo>
                    <a:pt x="76504" y="513667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22"/>
            <p:cNvSpPr/>
            <p:nvPr/>
          </p:nvSpPr>
          <p:spPr>
            <a:xfrm>
              <a:off x="9541080" y="3223800"/>
              <a:ext cx="263880" cy="3693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229511" h="320586">
                  <a:moveTo>
                    <a:pt x="142078" y="3643"/>
                  </a:moveTo>
                  <a:lnTo>
                    <a:pt x="91075" y="0"/>
                  </a:lnTo>
                  <a:lnTo>
                    <a:pt x="47359" y="10929"/>
                  </a:lnTo>
                  <a:lnTo>
                    <a:pt x="25501" y="21858"/>
                  </a:lnTo>
                  <a:lnTo>
                    <a:pt x="0" y="54645"/>
                  </a:lnTo>
                  <a:lnTo>
                    <a:pt x="14572" y="112934"/>
                  </a:lnTo>
                  <a:lnTo>
                    <a:pt x="36430" y="171222"/>
                  </a:lnTo>
                  <a:lnTo>
                    <a:pt x="65574" y="182151"/>
                  </a:lnTo>
                  <a:lnTo>
                    <a:pt x="138435" y="222225"/>
                  </a:lnTo>
                  <a:lnTo>
                    <a:pt x="160293" y="258655"/>
                  </a:lnTo>
                  <a:lnTo>
                    <a:pt x="193080" y="309657"/>
                  </a:lnTo>
                  <a:lnTo>
                    <a:pt x="204009" y="320586"/>
                  </a:lnTo>
                  <a:lnTo>
                    <a:pt x="204009" y="276870"/>
                  </a:lnTo>
                  <a:lnTo>
                    <a:pt x="211295" y="218582"/>
                  </a:lnTo>
                  <a:lnTo>
                    <a:pt x="229511" y="134792"/>
                  </a:lnTo>
                  <a:lnTo>
                    <a:pt x="174865" y="134792"/>
                  </a:lnTo>
                  <a:lnTo>
                    <a:pt x="163936" y="134792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文本框 19"/>
          <p:cNvSpPr/>
          <p:nvPr/>
        </p:nvSpPr>
        <p:spPr>
          <a:xfrm>
            <a:off x="8856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8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17:57:00Z</dcterms:created>
  <dc:creator>windy</dc:creator>
  <dc:description/>
  <dc:language>en-US</dc:language>
  <cp:lastModifiedBy>a</cp:lastModifiedBy>
  <dcterms:modified xsi:type="dcterms:W3CDTF">2015-01-15T09:26:37Z</dcterms:modified>
  <cp:revision>130</cp:revision>
  <dc:subject/>
  <dc:title>区域经理薪酬体系设计讨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