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F6E2-EE76-4840-8F59-605B38A2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B5F-7718-418F-95F3-A9C76AD1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6EE-D996-4B59-9CAD-5A2D42DE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96A4-3860-465B-9290-CCB590B6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A31E-0AEB-42C2-80A5-42851E1E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F723-24CA-4B93-AB83-EC4E1C60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5854-41E0-4AF9-B602-239027EF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9607-2D23-4FF5-A834-745D906A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09BF-D382-4E99-B075-00DDF3B9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F348-B47B-4F91-8557-E16B7774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6516-7E83-495E-ABF6-7117AC96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417C-EC14-435E-B58E-4229721B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7CAE-0FD5-4812-907E-1A34E8E2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50EB-4683-4E65-9653-8E536290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63E8-73A8-44C5-B858-B1467546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0345-224D-4A00-8E6D-23154A81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563B-A66A-42E4-87BD-4C1D265D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23574-59A4-4D19-BC97-8B163915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9DAA3-457A-46F0-9CC8-96C1CB2A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45194-F002-46EB-BE6F-81EC34B9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69E8A-B542-4ED5-B9C1-D7702161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B7CDA-5A16-4809-A579-CE991817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986-60D8-47D3-98EA-29F17174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64541-4158-407B-962B-51BD7590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37106-61BD-4B23-88DF-94807C01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B2265-CADD-425F-8037-B16BD492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E3F57-BBEF-47DD-B9DC-BB0F4C54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2859D-BF41-4BDC-A440-B3E83D8D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14780-8EC5-43D9-B696-1B7B742E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9FD24-96D4-4DD4-877D-4D33CD79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723-3E5B-49F5-B0B0-A02AF4A2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F6D-B705-41A4-B0FA-398BB77E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B28-E873-443A-AC65-777890B8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B9D0-1F48-4028-85F4-9663D1DB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58B9-9D99-4E95-9A27-D89483BC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D75-024F-4F30-BA5C-6B440142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AD3C-9B50-438C-99D4-6B4EB19FDFFA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49C8-77FE-4542-9DED-A929829BFCA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0F50-7FC1-45D8-B7C5-C84CFEE8203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32A1-A172-4F80-94B6-132113343519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宋体"/>
              </a:rPr>
              <a:t>Beach 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Use Arial  Fo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4:27:07Z</dcterms:created>
  <dc:creator>Nan Shastry</dc:creator>
  <dc:description/>
  <cp:keywords/>
  <dc:language>en-US</dc:language>
  <cp:lastModifiedBy>a</cp:lastModifiedBy>
  <dcterms:modified xsi:type="dcterms:W3CDTF">2014-07-22T02:59:28Z</dcterms:modified>
  <cp:revision>2</cp:revision>
  <dc:subject/>
  <dc:title>Beach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