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E05CD-9CA3-4577-A710-B2D76A927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47CF3-79EA-4812-A68C-EAA6E1E4DA9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1D84B9-7B76-45E6-9445-5D756060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B63CF7-0AB5-405B-AC6E-6F6B7CF5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AED50C-2984-4D62-8E27-82ED9822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8C0C51-BF97-46C2-9594-2A25EB47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063D58-AAA9-4E8C-A1E2-90070426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AE6113-3E03-4D99-B49A-B13129FB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768BBC-BFD6-4E13-B619-BEEC07AC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C333CF-7D0D-49C1-8601-FFDF148B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F44E46-7FE5-4D71-808A-4808B12B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C9306B-AF93-4A9B-A6DA-B2365424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2E066-A732-4CE4-A309-4A5C225532A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786151-B6FA-4BA6-B43D-64A75A59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7092D7-AFCF-427C-9CA5-62E1B6D7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DF55FF-380E-4F58-83ED-9F2FB79B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22EF4B-2BE1-48C9-9BE6-F038FF75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0AAD9B-891F-445D-BAF2-1B8B2431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5AE51C-C6CC-4103-8C3E-D2F2E9E3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2A6B6B-E75C-4D4F-898D-89DD81DB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316AD1-AF43-43A5-AA26-F01528CD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471E24-DF45-49D2-A783-15887D22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7C2612-E982-41ED-98A8-96C9189D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7D1C9-EB26-4754-8A00-2E3E2581BBE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C64809-1ED2-44D7-B238-2278A5FA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2B49F3-0800-46DD-95EC-AA72497B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189BCF-FC4A-4C49-9F33-C59E0E6F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2ABB08-B3F6-4EAA-AF97-E83B918E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16FE97-7EC5-4DC5-8853-4B738BBE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34C601-6AB3-428F-961D-41B90F3B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773E7E-C1A1-49DE-AF21-32D3C3AF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B48EEC-6952-4BD5-9571-B928D0DE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225903-7690-4167-81A9-276C2697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FE67FF-EE6C-4DE2-9D29-096AEACE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43A4C-A060-4D38-85E1-E9353283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D8FD01-763A-4D17-B7C7-7B2A3AB4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2E644F-1D07-405A-A848-3ACC3A4B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268AF7-48D7-425F-88CE-74309B13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882F45-1A4E-4328-9C83-2617F6F2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77AE62-7C52-4CC0-88B8-552CC01B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241068-868F-4CA7-8283-FB7C32D7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69E3CE-81E0-4B61-AC0A-8C81310F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16EAC3-B2F0-4DC8-9C67-143637E4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98BEF6-DB42-4AD7-8CF1-BAAF647F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FE60B6-6A63-4F33-BF93-37E5D515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195DD-8360-476D-BD91-C89E33ED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C70AEA-738F-424B-BBD8-F7F295E7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63F904-D168-4D6C-AE8D-B256E02E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C723F7-53BF-4CD7-91B5-7B26EA92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200E47-BAC1-4574-9220-500E3FC0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471DD2-EACB-48F7-817A-12FE75FF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BD3296-1923-45B4-9299-937FA7C2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C2D083-39FC-4B28-8D7F-AA1FDD1E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9B3333-832B-49FE-8A6D-5C342D1E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050623-E5F5-4551-B992-4D49604E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E9C3A5-84F5-4789-BA35-A8E54AC9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13230-C1AD-4CE7-90F0-FC7E7CDF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E008B1-9956-4D76-BF20-1CE02264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158659-B2CE-42DC-8448-F1CF9BC8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CD19FE-56FE-4DDA-A496-4554E5F4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7AAA6A-23DD-49A7-8A15-7D7EC014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3AAD71-10BA-4401-A366-E99269D2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E0716A-090B-472A-926D-8C715C46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04BF42-A30B-4FC6-A871-CBE9FFC0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56E86B-FBF4-4922-90CD-D3857997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C37E5B-9ADD-4A64-B121-ADEA35AF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CE7BE1E-C786-4390-90D5-3611DE35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251AD-1B33-4A8D-BB87-B1DC9E67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BA11EC-B383-492D-AB61-5FBF44C9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DD2959-19A1-4153-AEAC-8B5F7292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5A867F-36E6-42B3-8D3F-28EB3A6D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41F912-27C8-4A3E-A97C-8DFA6F1D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EF0DFC-A290-4799-A6E0-14C9B771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B99C4F-8526-4F02-8BF8-64C52E9C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C69012-9831-4887-AE82-F39AED5F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0E9F91-EBE2-42B7-BDB1-E4D24A76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9EDEBD-867A-43D1-AEB8-DC218D0E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A5A6D-6159-4EAA-85C5-3BF8D8FE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EDD58-B5C3-4F7D-9BCB-571E8528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5B2D5-C3B0-4B99-8436-2510C4A0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DA38E-1678-4B2C-9FBE-471FC9C16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59C81-C0E0-45A4-9C31-08FC93A7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E59EB-64A0-411A-8B47-A16D8E21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82C52-02F9-48DA-B53E-C18AF6F6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6D85C-76BA-4FC2-8D0D-B4858C5C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89B1A-2BAA-4FAF-9425-B6D4C2A9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23184-4175-45D6-B9C8-42713A81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0EE8D-3435-40D1-9938-4A79C7DD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23649-B4E7-400D-8ED3-AC83BB52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18517-5F1B-40A2-BC75-13716BAE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816D1-C904-4188-B023-20CB5A48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7855B-80B5-4DFC-A865-5ADDDF354B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920D8-6695-40DD-8AEB-22F2323C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D61207-E867-439D-B5D7-267A6A2E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1CFFD-5190-41F8-A684-824253BB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19DB2-BD6D-4B50-BC94-6963A049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D5653-5E47-49BF-8F33-0AC59001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CDBF8-73D6-433F-B713-CC4B5CCC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B5BD2-632B-48AA-9BA2-6BCE9318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DA84A7-EF22-4303-86C7-1C97E0AE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D4B679-62B1-44BB-AFF9-D7EEE28A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9CF92D-91DC-4665-ADA9-67017E3F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8E1B8-80B8-47E5-BB05-CDB6EFBD2D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124C51-D8B5-4CE4-97DE-AD160834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AF5E4D-6368-4268-AFAF-26F76972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C986A6-3998-4D21-919E-E5C1821F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C4D519-FE7B-4D58-8D8C-93DE2A0D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28761D-DBFC-4881-8959-DA1EDA7F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87BCF6-508C-465B-AF32-4E09D63A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1BA75C-E6F7-4931-99C9-2DA83FBD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E3F1D7-061F-48C1-B9A9-7955E329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4C6196-D706-4157-B26E-A7D1B013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E20A2D-E5E9-439D-9C29-4F7FDAA5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24485-7F31-498C-B4E5-9F0ADCB1771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60FCEF-0CC7-4E68-9313-1BC706F1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AF5942-59F6-4163-9551-DC7D3096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02AF28-4A19-4453-AE59-D4BEFE5C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FFC665-EECB-4ADB-8870-28A8F3F9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735109-E7AF-46FA-8DC1-EB9E4965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38F3D-2567-4AF8-9E83-2348FCD4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E27BEE-7E60-4CDB-965F-11030858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DB9046-1C37-4693-B3E1-9A7834E5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612B8-6DED-4E44-9EB2-B595B60D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5689E-DC8D-4A6C-B45C-E0EEC216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62D07-DA04-46F7-A0C1-845981AB6E1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B45A73-5F69-4E18-B644-91CBFED2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C87A78-E0AB-4397-87A8-CBEC3D5A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9B18A2-A4BA-4028-B8F9-0B1C01A8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FBCAED-0650-4B36-BC02-532E9C6E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C81C0D-71F9-4A79-9F1E-F4554931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EFD61-F5BC-4292-9AA8-12282B87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242131-DC2D-437B-BB19-41830CE1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4BC1BD-8F73-4609-BE39-774C00D3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FFA3D-8CBE-491C-8E65-389B8947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275899-A090-4448-905E-EB3B5415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D1481-3970-4199-ADE2-A6E1D5C1DC2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0939F8-E6BA-4B4A-B0B9-12B555AC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09DEF6-F27E-4540-8FD7-F45D7C67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9C6D70-8C88-4DA3-BDCB-71D774B3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AE0703-8521-4FEC-92D4-5D32D52A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4D795D-15E5-4F9D-90EE-C8DC58C9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0691A8-017E-47D1-A225-207914F2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BC26A8-058D-4594-90D2-36BD800E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57284E-CCE2-4935-858B-93595AA1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BE6B12-37A2-412B-B1D1-EB8A5D99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973D6D-D74A-4578-A84F-166410D9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18546-6F4D-4819-A61F-1B6D95DD0FE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29F9DA-1B5F-4987-8635-E4205D40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6BB36A-1D47-45BB-9739-A3C7BF7F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6E645-99A9-48D1-BDEF-C1447378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B3406C-4F39-48E9-89E3-82EFCADD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B12748-A194-4231-850E-F79C1EFD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CC8F7A-0583-46E0-8AC6-457F74F9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85F220-BE5C-425C-9EC6-F4316D37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F306DD-2FEE-406B-801C-8109B03D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29E512-6193-4E82-843E-FEA0E427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FD5228-05FA-4DC8-A85D-C8441575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556D3-C7E4-4310-B765-7AB20EDB18A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68F286-ADB8-4FEE-A90A-DB02B42C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1F3F2F-C39B-498E-B253-4E06199B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995C95-28D5-413C-8886-52B32D48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4B663D-2FE5-4499-9C54-7F6367D6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9F00D7-EAC6-424C-AA91-3F4C87B8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A5A8FB-9088-4387-BDDC-478991E7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AE37B7-CAAE-403B-90F9-3683F7D9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2C005F-D156-4EE2-A23E-6CE72746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E6C685-29C1-42A0-BD27-E274C572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56C948-05D1-49EC-872C-B8B7E68E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001000" y="838080"/>
            <a:ext cx="914400" cy="0"/>
          </a:xfrm>
          <a:prstGeom prst="line">
            <a:avLst/>
          </a:prstGeom>
          <a:ln w="9360">
            <a:solidFill>
              <a:srgbClr val="438a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e81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e815b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7175520" y="617184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400" spc="-1" strike="noStrike">
                <a:solidFill>
                  <a:srgbClr val="cc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80520" y="6308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6735-3FD9-4D02-ADA8-445C630600A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7" descr="06_icon"/>
          <p:cNvPicPr/>
          <p:nvPr/>
        </p:nvPicPr>
        <p:blipFill>
          <a:blip r:embed="rId3"/>
          <a:stretch/>
        </p:blipFill>
        <p:spPr>
          <a:xfrm>
            <a:off x="7461360" y="533520"/>
            <a:ext cx="615960" cy="76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E502-B35F-4D41-BE77-6F36E1A08E5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3B5B-D9D4-4F83-87A3-E99357FDA1E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9B2F-6071-49B7-909D-7A266A14446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8A85-982A-41C9-B920-2EAAC1F97D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2B7A-4E01-442B-8669-9A9FA0ABE68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751A-8956-48F3-8532-ABC4D97887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53F9-8362-4EDF-A169-284D1878DEF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BCA7-75CE-43DF-93EE-FEB924685A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8A21-7F19-47D9-9F87-0DCF55FAA71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1338-64C1-4EA4-B9F6-D1B10BEBEA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8F7D-9EC3-4468-802C-07C4E321BF8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4B74-EAC6-4A45-AEBF-4576EDBED7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7"/>
          <p:cNvSpPr/>
          <p:nvPr/>
        </p:nvSpPr>
        <p:spPr>
          <a:xfrm>
            <a:off x="7467480" y="34308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1066680" y="5562720"/>
            <a:ext cx="0" cy="457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1066680" y="6019920"/>
            <a:ext cx="77724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6" name="Picture 10" descr="06_icon_f"/>
          <p:cNvPicPr/>
          <p:nvPr/>
        </p:nvPicPr>
        <p:blipFill>
          <a:blip r:embed="rId3"/>
          <a:stretch/>
        </p:blipFill>
        <p:spPr>
          <a:xfrm>
            <a:off x="434880" y="4724280"/>
            <a:ext cx="1317600" cy="1317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e81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e815b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0111-99BF-4C7A-9CAD-9F893CAA61C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78CB-DB0E-4F88-947C-8DC3B255D64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D271-1AC3-4187-9DF0-1FE7F3826EC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1A83-91B5-4E5F-9A8E-938C03906E9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C44F-A13B-463E-96EF-71F4977B96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5CCD-6EB9-4558-8262-2D189E8B657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4C04-68FD-4684-8E5F-58DDCF72C8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3527-427C-497C-8901-1D436AF35E9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111C-9570-4F50-BDFC-34D739486F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6B22-2857-463E-B6F4-5B78081883F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AF71-5A5F-4C0B-9900-88F7EBC90D3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146F-90E1-4D2C-A86B-50196F6B3E8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1FE6-76DA-4C37-A7EE-CC918E33A33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33720" y="5386320"/>
            <a:ext cx="62481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3124080" y="6114960"/>
            <a:ext cx="38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2957400" y="6146640"/>
            <a:ext cx="76320" cy="228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页脚占位符 3"/>
          <p:cNvSpPr/>
          <p:nvPr/>
        </p:nvSpPr>
        <p:spPr>
          <a:xfrm>
            <a:off x="7175520" y="617220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85" name="Group 4"/>
          <p:cNvGrpSpPr/>
          <p:nvPr/>
        </p:nvGrpSpPr>
        <p:grpSpPr>
          <a:xfrm>
            <a:off x="2133720" y="2209680"/>
            <a:ext cx="4724280" cy="685800"/>
            <a:chOff x="2133720" y="2209680"/>
            <a:chExt cx="4724280" cy="685800"/>
          </a:xfrm>
        </p:grpSpPr>
        <p:sp>
          <p:nvSpPr>
            <p:cNvPr id="586" name="AutoShape 5"/>
            <p:cNvSpPr/>
            <p:nvPr/>
          </p:nvSpPr>
          <p:spPr>
            <a:xfrm>
              <a:off x="2514600" y="2328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AutoShape 6"/>
            <p:cNvSpPr/>
            <p:nvPr/>
          </p:nvSpPr>
          <p:spPr>
            <a:xfrm>
              <a:off x="2133720" y="220968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Text Box 7"/>
            <p:cNvSpPr/>
            <p:nvPr/>
          </p:nvSpPr>
          <p:spPr>
            <a:xfrm>
              <a:off x="2743200" y="2384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Text Box 8"/>
            <p:cNvSpPr/>
            <p:nvPr/>
          </p:nvSpPr>
          <p:spPr>
            <a:xfrm>
              <a:off x="2289600" y="23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90" name="Group 9"/>
          <p:cNvGrpSpPr/>
          <p:nvPr/>
        </p:nvGrpSpPr>
        <p:grpSpPr>
          <a:xfrm>
            <a:off x="2133720" y="3048120"/>
            <a:ext cx="4724280" cy="685800"/>
            <a:chOff x="2133720" y="3048120"/>
            <a:chExt cx="4724280" cy="685800"/>
          </a:xfrm>
        </p:grpSpPr>
        <p:sp>
          <p:nvSpPr>
            <p:cNvPr id="591" name="AutoShape 10"/>
            <p:cNvSpPr/>
            <p:nvPr/>
          </p:nvSpPr>
          <p:spPr>
            <a:xfrm>
              <a:off x="251460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d7e6f4"/>
                </a:gs>
                <a:gs pos="100000">
                  <a:srgbClr val="438ac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AutoShape 11"/>
            <p:cNvSpPr/>
            <p:nvPr/>
          </p:nvSpPr>
          <p:spPr>
            <a:xfrm>
              <a:off x="2133720" y="3048120"/>
              <a:ext cx="685800" cy="685800"/>
            </a:xfrm>
            <a:prstGeom prst="diamond">
              <a:avLst/>
            </a:prstGeom>
            <a:solidFill>
              <a:srgbClr val="438ac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Text Box 12"/>
            <p:cNvSpPr/>
            <p:nvPr/>
          </p:nvSpPr>
          <p:spPr>
            <a:xfrm>
              <a:off x="2743200" y="3222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Text Box 13"/>
            <p:cNvSpPr/>
            <p:nvPr/>
          </p:nvSpPr>
          <p:spPr>
            <a:xfrm>
              <a:off x="2289600" y="314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95" name="Group 14"/>
          <p:cNvGrpSpPr/>
          <p:nvPr/>
        </p:nvGrpSpPr>
        <p:grpSpPr>
          <a:xfrm>
            <a:off x="2133720" y="3886200"/>
            <a:ext cx="4724280" cy="685800"/>
            <a:chOff x="2133720" y="3886200"/>
            <a:chExt cx="4724280" cy="685800"/>
          </a:xfrm>
        </p:grpSpPr>
        <p:sp>
          <p:nvSpPr>
            <p:cNvPr id="596" name="AutoShape 15"/>
            <p:cNvSpPr/>
            <p:nvPr/>
          </p:nvSpPr>
          <p:spPr>
            <a:xfrm>
              <a:off x="2514600" y="4005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1a0b9"/>
                </a:gs>
                <a:gs pos="50000">
                  <a:srgbClr val="daebf0"/>
                </a:gs>
                <a:gs pos="100000">
                  <a:srgbClr val="51a0b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AutoShape 16"/>
            <p:cNvSpPr/>
            <p:nvPr/>
          </p:nvSpPr>
          <p:spPr>
            <a:xfrm>
              <a:off x="2133720" y="3886200"/>
              <a:ext cx="685800" cy="685800"/>
            </a:xfrm>
            <a:prstGeom prst="diamond">
              <a:avLst/>
            </a:prstGeom>
            <a:solidFill>
              <a:srgbClr val="51a0b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Text Box 17"/>
            <p:cNvSpPr/>
            <p:nvPr/>
          </p:nvSpPr>
          <p:spPr>
            <a:xfrm>
              <a:off x="2743200" y="4060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Text Box 18"/>
            <p:cNvSpPr/>
            <p:nvPr/>
          </p:nvSpPr>
          <p:spPr>
            <a:xfrm>
              <a:off x="228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00" name="Group 19"/>
          <p:cNvGrpSpPr/>
          <p:nvPr/>
        </p:nvGrpSpPr>
        <p:grpSpPr>
          <a:xfrm>
            <a:off x="2133720" y="4800600"/>
            <a:ext cx="4724280" cy="685800"/>
            <a:chOff x="2133720" y="4800600"/>
            <a:chExt cx="4724280" cy="685800"/>
          </a:xfrm>
        </p:grpSpPr>
        <p:sp>
          <p:nvSpPr>
            <p:cNvPr id="601" name="AutoShape 20"/>
            <p:cNvSpPr/>
            <p:nvPr/>
          </p:nvSpPr>
          <p:spPr>
            <a:xfrm>
              <a:off x="2514600" y="49197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AutoShape 21"/>
            <p:cNvSpPr/>
            <p:nvPr/>
          </p:nvSpPr>
          <p:spPr>
            <a:xfrm>
              <a:off x="2133720" y="480060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Text Box 22"/>
            <p:cNvSpPr/>
            <p:nvPr/>
          </p:nvSpPr>
          <p:spPr>
            <a:xfrm>
              <a:off x="2743200" y="49752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Text Box 23"/>
            <p:cNvSpPr/>
            <p:nvPr/>
          </p:nvSpPr>
          <p:spPr>
            <a:xfrm>
              <a:off x="2289600" y="489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WordArt 2"/>
          <p:cNvSpPr txBox="1"/>
          <p:nvPr/>
        </p:nvSpPr>
        <p:spPr>
          <a:xfrm>
            <a:off x="2514600" y="541008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1a0b9"/>
                    </a:gs>
                    <a:gs pos="100000">
                      <a:srgbClr val="438acb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1a0b9"/>
                  </a:gs>
                  <a:gs pos="100000">
                    <a:srgbClr val="438acb"/>
                  </a:gs>
                </a:gsLst>
                <a:lin ang="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3548160" y="6114960"/>
            <a:ext cx="32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3381480" y="6146640"/>
            <a:ext cx="75960" cy="228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61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08:23:09Z</dcterms:created>
  <dc:creator>三联素材-www.3lian.com</dc:creator>
  <dc:description>三联素材-www.3lian.com</dc:description>
  <cp:keywords/>
  <dc:language>en-US</dc:language>
  <cp:lastModifiedBy>a</cp:lastModifiedBy>
  <dcterms:modified xsi:type="dcterms:W3CDTF">2014-08-03T07:47:44Z</dcterms:modified>
  <cp:revision>4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