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6FDDA-CD45-444E-BB6E-8AFF0FDD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7A5E-E788-4647-913B-9EFB6321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F6FC4-E6FC-4F76-8B17-0036C6F0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05BD1-9027-49A8-9FCC-6B55474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AF5EB-C554-48D7-9103-91A52933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0C7F-FACA-4CC8-B8AC-5008BEEA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949AC-43AB-419A-BCBD-409688FB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4D91-9903-45F7-B411-B126CEB3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1984-50E7-4382-AFBE-ED1CD4C5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DCF9B-3EB6-4F9B-87BA-7A9BCAC7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4BEB0-D951-4D6C-8725-9D3B4A80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61330-AEA4-4656-B52D-6A5DB8F9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24A29-FB52-4563-978C-A3C1E06D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08F1D-A92B-4A9E-A3DE-F578E11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D528-2078-453C-8A6F-F196678C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7B018-7059-43B6-99C3-DF09C70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F4F06-3FEC-4ED6-A142-97E0593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D3CAD-4278-4F4D-94A7-22108B26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10CA6-3F9F-45CD-8AA7-4C9A84E3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949C6-285B-4C62-B3D8-E8F5E121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C74D0-C311-4448-BC11-18EF05E9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FF579-879F-487D-8A4B-6782B44A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974E8-6BBD-40E4-B163-9C25B9B3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F2508-37C2-414E-AD4C-8A263290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D0EAC-6A7F-4FDC-9DC6-1E6A9E90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CB56A-0561-4A74-8631-E123E976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13388-E7A2-46DF-B592-DD11E193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3130E-2825-4A09-9C98-C34AFC90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03F7B-F1B5-44FC-BB52-C413E5C9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7D305-2704-45B2-90AA-747AAA5F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13F-5CDC-4869-A126-FA91E147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7E3B0-C824-43F4-989A-DBDD7F3C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02005-BBE4-4DEF-BF9A-31EB477D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7A3D8-61C5-4B7D-911E-02575635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BA386-EE52-41D0-A80F-4619BE29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A0905-0033-456E-B987-EE201878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57D3B-E417-4773-AF77-78A07271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35257-24ED-4070-97AB-B9A65A2F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BFABE-27EC-44B3-904F-262D2030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7BCF5-E875-498D-923E-760C2066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8C567-4D10-4553-81BA-3753CE9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225-3C73-40D6-A0A1-37F3C8A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43398-F08E-4DD9-9FF6-81BCC579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A984B-4916-4B8D-ABFB-E918BE3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30D63-09DF-4028-A112-518D795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A495D-941A-4A0E-B2DD-F6268AB3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BF594-7FEB-414A-8F2F-E99F66B1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A31E2-7C90-40FF-AAD0-62BA791C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AD012-40E0-4E6A-B342-F2AF6A43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212BE-ED48-493F-9E9F-F7C61AC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EB710-8283-49D0-BF6F-23520859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BBCFC-D05A-4D40-95AF-B04F8844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627-0486-4673-AE7E-0CC4BEBD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3908D-B504-4471-8D96-D52A749C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7E115-E657-4FF5-A734-CA886DA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66A10-6CC0-4713-86C0-AF6F7B28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F9487-126D-474E-AE4B-30E8E3A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41195-C8ED-4E26-AB13-BDC72344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A82D7-3C18-438D-964D-07C23F7A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51B5F-FE18-4A3A-8143-D9671989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69800-B31C-40AD-9EC0-D2B11092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7B252-DF3F-43A8-8C5D-0ED0C80B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5FE70-1597-4F4F-A95E-55968EC2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C85-C22A-40EB-AF47-FB4BB13E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40FF8-54FF-4180-84EA-8B4086D2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7C32F-F3A5-42E0-BF42-0E484301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7D5F5-C1FB-4BD0-B195-5CB9CFEB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CF368-7125-4466-98F7-2ECBF6A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3D7F1-FB37-4E75-8B67-3316FB27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C2AA4-4981-4BC5-A9A7-CDF26E7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996BE-D55E-48CE-B75C-3AE52604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2FC11-E4E3-4F23-A468-8193D4D1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A44EA-187E-4304-9F97-3357A6C7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8ED-C726-42C4-9402-5C3AC08F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F18-9DC0-402E-948F-ACF2D3B3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E23-C1D0-45B3-AE4B-1B533547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B18-1031-42D9-A234-7893722C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4B0-7602-456D-B6F3-86970CB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D6C-7DFB-4E13-97BE-5E15358A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C84-730F-45A3-BFFA-79E9C23A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759E-BCDD-4081-8CAC-19DAB881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032F-E73B-46D0-95FC-3E888C4E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C9C5-7902-47F3-9D90-5BCAFA8D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357C-52EB-4CF4-9635-DE66BAF6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1764-26FA-4A53-B5C7-41E554E9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9F6D-BACF-4625-898B-D99176FD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DAAF-7256-497D-953B-10BEFF03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521E-DAF5-40A4-85C5-B3F865F5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9BE-D641-4964-9DCF-F5385F24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8CDB-934E-4B50-AC27-D34696F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B8C8-55C5-4062-B6AA-1FF2A6B6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5052-AFEB-458F-A867-10835EDA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0743-55DA-4A55-B52F-2A8AB6EB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64E7B-D979-47FA-AA7C-E0B3BFC8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546A-E54F-4E6C-A984-DCF62E07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1F86-C99D-4F5A-91E0-662FB228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CDA7-138C-4B36-9CA6-87840946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8F5B-EFC9-4DF0-8027-019FCF45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6867-372E-4038-B181-0CD5CD86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AA7C-75FD-4DC0-8377-913DF2E3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EEA4-F5DB-4001-A2D3-9F84000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0CCC-3AFD-4CB3-81FC-A6F3C75F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22DB-6F66-463A-8AF3-9A821BB4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303D-E1FD-4918-A484-0C1CED14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04B7-5660-41B3-A156-9D284A1E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CB2D6-8855-4EDE-947E-2E2B75E3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95B8-3479-4975-A05B-7BF2C4C8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92613-4E3A-4CC3-85CE-652CD900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01AD-E715-4733-BCC5-44AC0311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0CC3-C3B0-453E-A227-48A74639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CB6FA-EE95-42B3-AACA-A88A8CE8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CF21-4959-447B-9F10-0DBBC2F8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0E5C2-FC2F-4E46-8E2E-06571DE0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AA1EA-759B-4C27-9E18-B9D465B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2CAE1-1EBB-4498-BEDA-318B2903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DEF57-F6D4-4447-A03C-27011EBE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6F8A-21D2-4627-8623-110E430D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F1026-7334-4C7C-A770-AA35EC48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6A50-AA84-4D99-812A-9CE21EF9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85BE7-6DD6-4FCE-AF5E-6E4EEDF6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0B82C-0AAC-4F5C-8421-88A1ABEE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DE009-F034-4823-99B3-82A6342E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5A52E-9374-4A5F-9A2B-004B152C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77424-7AE4-440B-8383-289A85A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DDBC-1013-4881-A7E2-FEE49A6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759F3-102A-40C2-A114-5C5011F5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F49AE-FEEE-4B85-8E7D-841CFE93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76F4-04C9-4D39-9848-20E01915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C241-8A40-4361-A5FE-E72EF785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79E55-C85D-4326-AE5A-8B2706B5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E596F-8766-4827-ABA7-7BBCAB94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FD966-5295-42F0-9605-865ECF81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FE2D4-233C-4AFF-B7C8-9908FE20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6E6C-20D0-4C3B-B7A7-EEE02DCA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3899-EE2B-4704-9B29-359581EC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AB129-E521-477E-AA47-F55F4348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66C95-1C36-461F-9148-46BADC3A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F21B-669C-4893-A8B6-ACF812F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86EE-95B9-4944-9267-9EBB206C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11E0-4DA5-43E7-9218-5B801BA7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1DA6E-F751-4A3C-9116-E726819C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6ABEE-1970-452B-8756-24D3937B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13499-9BA9-42EE-BA95-C3C732ED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BAC4-A39D-4B5E-B5DD-673EB1DF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5ba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5ba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984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0A2CB87-9DAF-4EFB-BF52-5F0A800FED8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E464-2DDE-41D0-96FC-B8B410089C2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1DF8-5F4A-4173-B4EC-AAC2F992A2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2E74-443C-4DD0-AFAB-34F5052C47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5A96-FD40-4A3D-955A-4E11D746A4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ECC2-0FB4-41C0-83C3-EFA1CB0592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9F8D-11BE-4D1B-A66F-139F86FBB3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A232-F1AD-4494-A572-D3E8CABAF8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5E4E-8B89-4390-B087-9C548741D1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E80F-1648-4333-8ADC-60F013D11F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5698-5744-4DF2-9DAF-64C2EC8549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2AE9-7BA8-4D63-8078-B9F104AAB58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EAFF-5BF6-4E92-B4B9-EC64F28B94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5ba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5ba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984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2A14-DC47-4F34-B676-9215F270E6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9714-936E-4E5D-B68D-C2A4C3EA84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9736-6BAE-4A44-BE8E-C8BFDEF44F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31B8-5C33-4C18-826C-ECCD30F08F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15A5-6014-4337-86EA-3E71F76490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E25-F89E-4EC3-9717-6837909D69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88D7-2A07-4976-B2B3-45B290D055E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39A6-2FA9-4329-A5FE-42501F5AA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858B-570A-40C2-B7E7-D0F2620BF9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F3BF-8BED-4456-9239-7973346285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72C1-4637-4EA4-B02C-C7F63ABEF2A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5B08-DEE0-4F90-968D-2AE2941111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436536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575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576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9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75ba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0984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11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b5d9f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12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0064a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585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18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20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21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596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0984ff"/>
                </a:gs>
                <a:gs pos="100000">
                  <a:srgbClr val="75baff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598" name="Group 6"/>
          <p:cNvGrpSpPr/>
          <p:nvPr/>
        </p:nvGrpSpPr>
        <p:grpSpPr>
          <a:xfrm>
            <a:off x="1042920" y="2658960"/>
            <a:ext cx="7169040" cy="528480"/>
            <a:chOff x="1042920" y="2658960"/>
            <a:chExt cx="7169040" cy="528480"/>
          </a:xfrm>
        </p:grpSpPr>
        <p:sp>
          <p:nvSpPr>
            <p:cNvPr id="599" name="AutoShape 7"/>
            <p:cNvSpPr/>
            <p:nvPr/>
          </p:nvSpPr>
          <p:spPr>
            <a:xfrm>
              <a:off x="1042920" y="265896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b5d9fd"/>
                  </a:solidFill>
                  <a:latin typeface="Arial Black"/>
                </a:rPr>
                <a:t>02</a:t>
              </a:r>
              <a:endParaRPr b="0" i="1" lang="en-US" sz="1400" spc="-1" strike="noStrike">
                <a:ln w="0">
                  <a:noFill/>
                </a:ln>
                <a:solidFill>
                  <a:srgbClr val="b5d9fd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01" name="Group 9"/>
          <p:cNvGrpSpPr/>
          <p:nvPr/>
        </p:nvGrpSpPr>
        <p:grpSpPr>
          <a:xfrm>
            <a:off x="1042920" y="3619440"/>
            <a:ext cx="7169040" cy="528480"/>
            <a:chOff x="1042920" y="3619440"/>
            <a:chExt cx="7169040" cy="528480"/>
          </a:xfrm>
        </p:grpSpPr>
        <p:sp>
          <p:nvSpPr>
            <p:cNvPr id="602" name="AutoShape 10"/>
            <p:cNvSpPr/>
            <p:nvPr/>
          </p:nvSpPr>
          <p:spPr>
            <a:xfrm>
              <a:off x="1042920" y="361944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b5d9fd"/>
                  </a:solidFill>
                  <a:latin typeface="Arial Black"/>
                </a:rPr>
                <a:t>03</a:t>
              </a:r>
              <a:endParaRPr b="0" i="1" lang="en-US" sz="1400" spc="-1" strike="noStrike">
                <a:ln w="0">
                  <a:noFill/>
                </a:ln>
                <a:solidFill>
                  <a:srgbClr val="b5d9fd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04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605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b5d9fd"/>
                  </a:solidFill>
                  <a:latin typeface="Arial Black"/>
                </a:rPr>
                <a:t>04</a:t>
              </a:r>
              <a:endParaRPr b="0" i="1" lang="en-US" sz="1400" spc="-1" strike="noStrike">
                <a:ln w="0">
                  <a:noFill/>
                </a:ln>
                <a:solidFill>
                  <a:srgbClr val="b5d9fd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4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ff9900"/>
              </a:gs>
              <a:gs pos="100000">
                <a:srgbClr val="cc0000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620" name="Line 6"/>
            <p:cNvSpPr/>
            <p:nvPr/>
          </p:nvSpPr>
          <p:spPr>
            <a:xfrm flipH="1">
              <a:off x="618840" y="4952880"/>
              <a:ext cx="239292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3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0984ff"/>
              </a:gs>
              <a:gs pos="100000">
                <a:srgbClr val="75baff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629" name="Line 15"/>
            <p:cNvSpPr/>
            <p:nvPr/>
          </p:nvSpPr>
          <p:spPr>
            <a:xfrm flipH="1">
              <a:off x="3355920" y="4952880"/>
              <a:ext cx="239328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2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3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634" name="Line 20"/>
            <p:cNvSpPr/>
            <p:nvPr/>
          </p:nvSpPr>
          <p:spPr>
            <a:xfrm flipH="1">
              <a:off x="6091200" y="4952880"/>
              <a:ext cx="2393280" cy="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7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5d9fd"/>
              </a:gs>
              <a:gs pos="100000">
                <a:srgbClr val="75ba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未知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未知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未知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Group 6"/>
          <p:cNvGrpSpPr/>
          <p:nvPr/>
        </p:nvGrpSpPr>
        <p:grpSpPr>
          <a:xfrm>
            <a:off x="3639960" y="1982880"/>
            <a:ext cx="1726200" cy="1746720"/>
            <a:chOff x="3639960" y="1982880"/>
            <a:chExt cx="1726200" cy="1746720"/>
          </a:xfrm>
        </p:grpSpPr>
        <p:grpSp>
          <p:nvGrpSpPr>
            <p:cNvPr id="672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673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674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5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53b8f"/>
                    </a:gs>
                    <a:gs pos="100000">
                      <a:srgbClr val="1967b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6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40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2"/>
            <p:cNvGrpSpPr/>
            <p:nvPr/>
          </p:nvGrpSpPr>
          <p:grpSpPr>
            <a:xfrm>
              <a:off x="3745440" y="3132360"/>
              <a:ext cx="1496520" cy="597240"/>
              <a:chOff x="3745440" y="3132360"/>
              <a:chExt cx="1496520" cy="597240"/>
            </a:xfrm>
          </p:grpSpPr>
          <p:grpSp>
            <p:nvGrpSpPr>
              <p:cNvPr id="678" name="Group 13"/>
              <p:cNvGrpSpPr/>
              <p:nvPr/>
            </p:nvGrpSpPr>
            <p:grpSpPr>
              <a:xfrm>
                <a:off x="4006440" y="3132360"/>
                <a:ext cx="1235520" cy="562320"/>
                <a:chOff x="4006440" y="3132360"/>
                <a:chExt cx="1235520" cy="562320"/>
              </a:xfrm>
            </p:grpSpPr>
            <p:sp>
              <p:nvSpPr>
                <p:cNvPr id="679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AutoShape 15"/>
                <p:cNvSpPr/>
                <p:nvPr/>
              </p:nvSpPr>
              <p:spPr>
                <a:xfrm flipH="1" flipV="1" rot="4780200">
                  <a:off x="453996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AutoShape 16"/>
                <p:cNvSpPr/>
                <p:nvPr/>
              </p:nvSpPr>
              <p:spPr>
                <a:xfrm flipH="1" flipV="1" rot="5076000">
                  <a:off x="445536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AutoShape 17"/>
                <p:cNvSpPr/>
                <p:nvPr/>
              </p:nvSpPr>
              <p:spPr>
                <a:xfrm flipH="1" flipV="1" rot="5608200">
                  <a:off x="435276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Group 18"/>
              <p:cNvGrpSpPr/>
              <p:nvPr/>
            </p:nvGrpSpPr>
            <p:grpSpPr>
              <a:xfrm>
                <a:off x="3745440" y="3140280"/>
                <a:ext cx="1233360" cy="589320"/>
                <a:chOff x="3745440" y="3140280"/>
                <a:chExt cx="1233360" cy="589320"/>
              </a:xfrm>
            </p:grpSpPr>
            <p:sp>
              <p:nvSpPr>
                <p:cNvPr id="684" name="AutoShape 19"/>
                <p:cNvSpPr/>
                <p:nvPr/>
              </p:nvSpPr>
              <p:spPr>
                <a:xfrm flipH="1" flipV="1" rot="5317800">
                  <a:off x="441828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AutoShape 20"/>
                <p:cNvSpPr/>
                <p:nvPr/>
              </p:nvSpPr>
              <p:spPr>
                <a:xfrm flipH="1" flipV="1" rot="6133800">
                  <a:off x="4268880" y="303840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AutoShape 21"/>
                <p:cNvSpPr/>
                <p:nvPr/>
              </p:nvSpPr>
              <p:spPr>
                <a:xfrm flipH="1" flipV="1" rot="6429000">
                  <a:off x="4185720" y="301572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AutoShape 22"/>
                <p:cNvSpPr/>
                <p:nvPr/>
              </p:nvSpPr>
              <p:spPr>
                <a:xfrm flipH="1" flipV="1" rot="6961200">
                  <a:off x="4087440" y="298512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8" name="未知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未知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未知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未知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未知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未知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未知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未知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未知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未知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未知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未知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1403280" y="486900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</cp:lastModifiedBy>
  <dcterms:modified xsi:type="dcterms:W3CDTF">2015-01-14T17:07:16Z</dcterms:modified>
  <cp:revision>2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