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700A2-E79B-4E9D-B54F-0B7DFD627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748F7-0F37-48EC-AE06-29ACAF24C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BC762-D423-4766-A099-87F97C575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C9044-D1C6-4FE2-9B94-7E418433D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D063D-54B2-4442-A90D-5A44B7B6F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794AE-53D3-49E1-B5CF-633C2A2C4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BD6CF-012A-43BB-9DEA-72FA75C0D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5AC70-F6E7-4032-8501-52FAF7D87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5E5A8-93B3-4AE1-BE6C-45A9F9707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D5229-4ACC-4C3A-9D64-5FC36BEC2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89C85-66CD-4ADD-B097-0EB2F6A4F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3A293-FE5C-4109-9095-E07E16DED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f dsfa fze juy ky"/>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3B4E7F17-7B62-4549-A26B-DF9C82191E69}"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0CE9-23BB-4DD6-84EF-CAF747E4C46B}"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2797-24CE-4D08-A27E-E19842566EC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sp>
        <p:nvSpPr>
          <p:cNvPr id="81" name="Rectangle 3"/>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4" descr="fsd fsd ye yrs g y u"/>
          <p:cNvPicPr/>
          <p:nvPr/>
        </p:nvPicPr>
        <p:blipFill>
          <a:blip r:embed="rId2"/>
          <a:stretch/>
        </p:blipFill>
        <p:spPr>
          <a:xfrm>
            <a:off x="0" y="0"/>
            <a:ext cx="9144000" cy="6858000"/>
          </a:xfrm>
          <a:prstGeom prst="rect">
            <a:avLst/>
          </a:prstGeom>
          <a:ln w="0">
            <a:noFill/>
          </a:ln>
        </p:spPr>
      </p:pic>
      <p:sp>
        <p:nvSpPr>
          <p:cNvPr id="83" name="Text Box 5"/>
          <p:cNvSpPr/>
          <p:nvPr/>
        </p:nvSpPr>
        <p:spPr>
          <a:xfrm>
            <a:off x="1303560" y="511200"/>
            <a:ext cx="63255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ea typeface="宋体"/>
              </a:rPr>
              <a:t>Name of presentatio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53240" y="18900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First Page :</a:t>
            </a:r>
            <a:endParaRPr b="0" lang="en-US" sz="3600" spc="-1" strike="noStrike">
              <a:solidFill>
                <a:srgbClr val="000000"/>
              </a:solidFill>
              <a:latin typeface="Arial"/>
            </a:endParaRPr>
          </a:p>
        </p:txBody>
      </p:sp>
      <p:sp>
        <p:nvSpPr>
          <p:cNvPr id="85" name="Text Box 3"/>
          <p:cNvSpPr/>
          <p:nvPr/>
        </p:nvSpPr>
        <p:spPr>
          <a:xfrm>
            <a:off x="1042920" y="1125360"/>
            <a:ext cx="7129440" cy="309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499320" y="18900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Second Page :</a:t>
            </a:r>
            <a:endParaRPr b="0" lang="en-US" sz="3600" spc="-1" strike="noStrike">
              <a:solidFill>
                <a:srgbClr val="000000"/>
              </a:solidFill>
              <a:latin typeface="Arial"/>
            </a:endParaRPr>
          </a:p>
        </p:txBody>
      </p:sp>
      <p:sp>
        <p:nvSpPr>
          <p:cNvPr id="87" name="Text Box 3"/>
          <p:cNvSpPr/>
          <p:nvPr/>
        </p:nvSpPr>
        <p:spPr>
          <a:xfrm>
            <a:off x="1042920" y="1125360"/>
            <a:ext cx="7129440" cy="309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8" name="Group 2"/>
          <p:cNvGrpSpPr/>
          <p:nvPr/>
        </p:nvGrpSpPr>
        <p:grpSpPr>
          <a:xfrm>
            <a:off x="0" y="0"/>
            <a:ext cx="8466120" cy="6858000"/>
            <a:chOff x="0" y="0"/>
            <a:chExt cx="8466120" cy="6858000"/>
          </a:xfrm>
        </p:grpSpPr>
        <p:sp>
          <p:nvSpPr>
            <p:cNvPr id="8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9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1"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12T01:50:47Z</dcterms:modified>
  <cp:revision>3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