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EC3-6F44-452B-BDD1-FD3C9157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5A6-AD7E-41F5-A538-6F00F2B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4E5-5417-454F-A00F-CFCC36BF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57D-07D5-4C45-9C71-7596D785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2BC-BF75-47B2-9EE3-5F3B60CD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43D2-92B8-4DF7-9DDA-B613367E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33E-4937-49E4-A0A0-97F7350B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604A-E967-4F07-BF89-395E64E7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748-DAE9-4F36-88F1-4655490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1CF4-F4B3-4D21-A68E-1AF3B6E2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580-24F9-4AE0-9989-D950FD2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E60-5338-4C02-959A-6587AF4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4A43-DFA6-4F30-878D-EB2AAF4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5CCC-F3BF-45C3-9ECA-9E1B052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5D5-5C59-431D-B3F4-439AEAD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C54F-4812-408C-A9BF-3AFAC5CD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B35C-AD30-4045-9DED-D84604C1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D05-10EE-4B57-9477-139714EB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765-6DB5-4CDA-91DF-59494185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D66-F1BC-4960-A58C-90A9BC70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F0B-964F-4805-9EAF-68C2EA21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BD7-7A78-47E8-8FAD-F41BFBB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C99-B09C-473A-9877-82516A1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C60-4BC1-49D9-9B3A-F20F7E50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501-26AB-4A06-A295-BAE36D0C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3AC-A594-4DD8-AD84-33EA2480D8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73E-DA4E-48EE-8E68-C9B3251D7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19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320" y="41144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16:15Z</dcterms:created>
  <dc:creator/>
  <dc:description/>
  <dc:language>en-US</dc:language>
  <cp:lastModifiedBy>a</cp:lastModifiedBy>
  <dcterms:modified xsi:type="dcterms:W3CDTF">2015-01-15T09:24:09Z</dcterms:modified>
  <cp:revision>196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