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93B-DACB-4E21-8490-E130F59D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162-DBC8-46C0-918C-4DA5708C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CAD-A014-403C-8132-85CE0AD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71A-7E3A-47F4-8FC0-FF16A676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5E0-D5F1-4C6F-90DC-CEA1E42D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67A-7AD5-4B0C-A85D-ECBE0A7F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BFE8-1D19-4E94-BA64-81BCD7C1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4A92-B5A1-4090-8F8F-1B74124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E7E1-5DAF-453D-B8AE-3C5571E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19BF-5A5D-4CA3-899F-DDEF4496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C25-AAB4-40F2-923A-556E0B3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67F-366A-47C9-8CCF-CB929566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8F0-7C8D-4A32-837C-D38DB61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7D9-B519-40DA-B663-BCA7477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35E-71D9-4E0A-8BE1-39D412E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C41-0F14-4B5B-B0F3-1BCDBA1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476-473E-4398-B764-3FA4C00D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AA78-7D92-48A9-9558-E28DA34D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565B-DC20-49A6-B4D3-2AAD4E7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C465-CE24-429B-A37C-6C324BF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1F00-E8AB-434F-B12C-8830D57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2FF0-F6F1-4689-AA2D-A3C083CD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536-D790-4AC6-BEB5-F56CF0A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F9D2-229A-43FC-ADF7-7E7C7D9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1571-EF8E-46BC-998B-CF661FDB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306A-E9CF-4335-840B-258BB1C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4562-51B6-4E41-9C0E-C3468D5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3DC9-EBB3-44F4-8A2A-FEE8E3C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F62F-860B-4CC6-94A8-A1CF9671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869D-3B3A-4E07-B35C-CFB9B8C4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A11-C8DB-4B31-9B1E-904169B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8A4-6DAD-4D7A-AD8D-7538306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E92-A268-40F3-87E8-7B1954D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C6E-3550-4CF3-AC79-4280742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632-B220-489D-A343-374DF7A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45B-916C-4C09-81F9-820EA5F6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3CC-509D-455B-B4AF-9FB5A59F1E3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8C1-89AB-450B-AEB0-8F9635F7D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C60-CDC4-4A8A-B97D-B8970C820E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538-92C3-4CE8-8D4F-9AF2D4F58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0" y="0"/>
            <a:ext cx="9144000" cy="464328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214960" y="2857680"/>
            <a:ext cx="378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远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14960" y="3876840"/>
            <a:ext cx="61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放下一些 往更远的地方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6929280" y="5845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xxx </a:t>
            </a:r>
            <a:r>
              <a:rPr b="0" lang="zh-CN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0" y="0"/>
            <a:ext cx="9144000" cy="600084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214280" y="92880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Swis721 BlkCn BT"/>
                <a:ea typeface="宋体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214280" y="15843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Swis721 BlkCn BT"/>
                <a:ea typeface="宋体"/>
              </a:rPr>
              <a:t>CAS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214280" y="22273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Swis721 BlkCn BT"/>
                <a:ea typeface="宋体"/>
              </a:rPr>
              <a:t>Our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214280" y="287028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Swis721 BlkCn BT"/>
                <a:ea typeface="宋体"/>
              </a:rPr>
              <a:t>Make it 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燕尾形 9"/>
          <p:cNvSpPr/>
          <p:nvPr/>
        </p:nvSpPr>
        <p:spPr>
          <a:xfrm>
            <a:off x="1000080" y="1000080"/>
            <a:ext cx="214200" cy="2142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燕尾形 10"/>
          <p:cNvSpPr/>
          <p:nvPr/>
        </p:nvSpPr>
        <p:spPr>
          <a:xfrm>
            <a:off x="1000080" y="1655640"/>
            <a:ext cx="214200" cy="214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燕尾形 11"/>
          <p:cNvSpPr/>
          <p:nvPr/>
        </p:nvSpPr>
        <p:spPr>
          <a:xfrm>
            <a:off x="1000080" y="2298600"/>
            <a:ext cx="214200" cy="214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燕尾形 12"/>
          <p:cNvSpPr/>
          <p:nvPr/>
        </p:nvSpPr>
        <p:spPr>
          <a:xfrm>
            <a:off x="1000080" y="2941560"/>
            <a:ext cx="214200" cy="214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7286760" y="644832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xxx </a:t>
            </a:r>
            <a:r>
              <a:rPr b="0" lang="zh-CN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5"/>
          <p:cNvSpPr/>
          <p:nvPr/>
        </p:nvSpPr>
        <p:spPr>
          <a:xfrm>
            <a:off x="0" y="0"/>
            <a:ext cx="9144000" cy="601020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4"/>
          <p:cNvSpPr/>
          <p:nvPr/>
        </p:nvSpPr>
        <p:spPr>
          <a:xfrm>
            <a:off x="1000080" y="2357280"/>
            <a:ext cx="1714680" cy="171468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286760" y="644832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xxx</a:t>
            </a:r>
            <a:r>
              <a:rPr b="0" lang="zh-CN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000240" y="2106720"/>
            <a:ext cx="56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Swis721 BlkCn BT"/>
                <a:ea typeface="宋体"/>
              </a:rPr>
              <a:t>Introdu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0"/>
          <p:cNvSpPr/>
          <p:nvPr/>
        </p:nvSpPr>
        <p:spPr>
          <a:xfrm>
            <a:off x="0" y="0"/>
            <a:ext cx="9144000" cy="601020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0" y="0"/>
            <a:ext cx="9144000" cy="171468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000080" y="2057400"/>
            <a:ext cx="542916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华文细黑"/>
                <a:ea typeface="华文细黑"/>
              </a:rPr>
              <a:t>我喜欢听他们的故事  他们总有讲不完的故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华文细黑"/>
                <a:ea typeface="华文细黑"/>
              </a:rPr>
              <a:t>不管在旅途之中，旅途之外，只要有不同的人，我就会倾听他们的故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华文细黑"/>
                <a:ea typeface="华文细黑"/>
              </a:rPr>
              <a:t>而我 会有怎样的故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000080" y="741240"/>
            <a:ext cx="54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286760" y="644832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xxx </a:t>
            </a:r>
            <a:r>
              <a:rPr b="0" lang="zh-CN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wis721 LtCn BT"/>
                <a:ea typeface="华文细黑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14240" y="2214720"/>
            <a:ext cx="928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故事 在远方 在行走的路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57760" y="457200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s721 LtCn BT"/>
                <a:ea typeface="华文细黑"/>
              </a:rPr>
              <a:t>Xxx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同侧圆角矩形 10"/>
          <p:cNvSpPr/>
          <p:nvPr/>
        </p:nvSpPr>
        <p:spPr>
          <a:xfrm rot="10800000">
            <a:off x="0" y="-68760"/>
            <a:ext cx="9144000" cy="1282680"/>
          </a:xfrm>
          <a:custGeom>
            <a:avLst/>
            <a:gdLst>
              <a:gd name="textAreaLeft" fmla="*/ 62640 w 9144000"/>
              <a:gd name="textAreaRight" fmla="*/ 9081360 w 9144000"/>
              <a:gd name="textAreaTop" fmla="*/ 62280 h 1282680"/>
              <a:gd name="textAreaBottom" fmla="*/ 1283040 h 1282680"/>
            </a:gdLst>
            <a:ahLst/>
            <a:rect l="textAreaLeft" t="textAreaTop" r="textAreaRight" b="textAreaBottom"/>
            <a:pathLst>
              <a:path w="9143999" h="1285860">
                <a:moveTo>
                  <a:pt x="214314" y="0"/>
                </a:moveTo>
                <a:lnTo>
                  <a:pt x="8929685" y="0"/>
                </a:lnTo>
                <a:cubicBezTo>
                  <a:pt x="9048047" y="0"/>
                  <a:pt x="9143999" y="95951"/>
                  <a:pt x="9143999" y="214314"/>
                </a:cubicBezTo>
                <a:lnTo>
                  <a:pt x="9143999" y="1285860"/>
                </a:lnTo>
                <a:lnTo>
                  <a:pt x="0" y="1285860"/>
                </a:lnTo>
                <a:lnTo>
                  <a:pt x="0" y="214314"/>
                </a:lnTo>
                <a:cubicBezTo>
                  <a:pt x="0" y="95951"/>
                  <a:pt x="95951" y="0"/>
                  <a:pt x="214313" y="0"/>
                </a:cubicBezTo>
                <a:lnTo>
                  <a:pt x="214314" y="0"/>
                </a:lnTo>
                <a:close/>
              </a:path>
            </a:pathLst>
          </a:custGeom>
          <a:solidFill>
            <a:srgbClr val="455265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6T07:41:45Z</dcterms:modified>
  <cp:revision>1</cp:revision>
  <dc:subject/>
  <dc:title>PowerPoint 演示文稿</dc:title>
</cp:coreProperties>
</file>