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C24-570A-4E39-8EC4-BA6DF019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629-DA2B-481C-8D32-6A9ED29C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5D6-1066-426A-81ED-11C97119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665-E068-4FE3-8814-932E9E81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783-BB5B-4C47-8E41-92B3149E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0FB-7747-40DB-B1FE-68599305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B25-16CF-491D-86A0-B2ACFD4D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516-0213-4275-B469-0DA4BB29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970-663F-4B7F-B36B-31511AC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40D-1B4C-4677-9808-DA0525B3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472-E0A9-4985-8779-B973BC84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6D4-4D28-4F32-A313-CE0F0020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A980-5CC7-47FD-9898-DE3B386FB4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C5A6-C85F-4837-8603-0FB442E0C4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2:34:01Z</dcterms:created>
  <dc:creator>lenovo</dc:creator>
  <dc:description/>
  <cp:keywords/>
  <dc:language>en-US</dc:language>
  <cp:lastModifiedBy>a</cp:lastModifiedBy>
  <dcterms:modified xsi:type="dcterms:W3CDTF">2014-07-20T06:32:4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