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30F-8F29-42F7-9D37-8D7D25BD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7B5-BD7C-4D39-870F-67D1EBF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82C-198C-4A94-8EAB-11EBACFE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484-30A7-46EA-902A-75F06B91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96D0-3797-4D6D-BAD5-D5FDE8B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0791-BCE0-4509-90B5-6C4707ED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076-AE3E-49B9-BB42-CF7D55C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A9F1-7D82-4976-80FC-3654FF92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B32C-6F6B-4240-85DB-FAADBB58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B1CD-6013-4FC8-9545-9FD7345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4E3-BD5B-425E-A536-7AC8929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0EF-6045-4DBE-BE2A-AE739A4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E9DE-33E2-49A2-8342-799D155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977-4945-4E6A-964C-E7E1DC29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FFF-EDAB-4BE8-A1CB-47D69FFD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9FF3-29E2-425A-AB88-6BF483AD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BDC-2CEE-4643-A55C-C504EBD7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923F-CE84-4287-932A-F16B288B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4976-392A-41D0-9B0A-18CB3E6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FC9B-ECF7-4874-B631-543AE9BC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6F0A-259B-490C-9D4F-96CBCE5D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6865-8FED-420F-9BA8-4F4EFD90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F20-6BB0-45A3-A3A0-E4AEE64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95FF-B55C-4FF9-99F0-972287F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2D2B-8BFA-4F78-A298-8C9AF44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FB76-5E0B-4AE3-836D-3E60D73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FA04-BCDE-4045-BCC2-5EF2725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8222-39B5-4CD4-9E90-3D957B38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445D-F30F-452F-9D55-A659BA89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6F18-73D7-421B-BD13-3FCDD30E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B7D-332A-43DF-AAD0-1E00E867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723-7AEB-4175-AE26-F759BB2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298-B2E2-4D4B-B1B5-0ACFCD8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3F2-D861-4297-82DD-E355D95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ED4-1FF2-4297-901D-70DD9A3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91D-4C0B-4EEB-9DC5-9632F82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599F-8148-45BE-B219-8DBBD4E0F2DD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96A-CD3B-4ECB-9E30-55B499BF3327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EFB-CA5C-495F-B05E-2AAE43B3803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4EA-1092-40AF-A4C2-F4FF78351EB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EF6-1447-4CA5-B42F-F2765EF26F4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107-06AB-4E6C-95C3-3ADEEBA473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妖娆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wg_blurred_backgrounds_16"/>
          <p:cNvPicPr/>
          <p:nvPr/>
        </p:nvPicPr>
        <p:blipFill>
          <a:blip r:embed="rId1"/>
          <a:srcRect l="0" t="0" r="0" b="80210"/>
          <a:stretch/>
        </p:blipFill>
        <p:spPr>
          <a:xfrm>
            <a:off x="0" y="4813200"/>
            <a:ext cx="8999640" cy="118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wg_blurred_backgrounds_16"/>
          <p:cNvPicPr/>
          <p:nvPr/>
        </p:nvPicPr>
        <p:blipFill>
          <a:blip r:embed="rId1"/>
          <a:srcRect l="52686" t="0" r="28506" b="0"/>
          <a:stretch/>
        </p:blipFill>
        <p:spPr>
          <a:xfrm>
            <a:off x="0" y="6480"/>
            <a:ext cx="16923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4384800" y="1990800"/>
            <a:ext cx="105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467160" y="3392640"/>
            <a:ext cx="1587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041640" y="1990800"/>
            <a:ext cx="106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38440" y="117936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19625" y="14829"/>
                </a:moveTo>
                <a:cubicBezTo>
                  <a:pt x="20203" y="13564"/>
                  <a:pt x="20502" y="12190"/>
                  <a:pt x="20502" y="10800"/>
                </a:cubicBezTo>
                <a:cubicBezTo>
                  <a:pt x="20502" y="5441"/>
                  <a:pt x="16158" y="1098"/>
                  <a:pt x="10800" y="1098"/>
                </a:cubicBezTo>
                <a:cubicBezTo>
                  <a:pt x="10799" y="1098"/>
                  <a:pt x="10798" y="1098"/>
                  <a:pt x="10798" y="1098"/>
                </a:cubicBezTo>
                <a:lnTo>
                  <a:pt x="10798" y="0"/>
                </a:lnTo>
                <a:cubicBezTo>
                  <a:pt x="10798" y="0"/>
                  <a:pt x="10799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347"/>
                  <a:pt x="21267" y="13877"/>
                  <a:pt x="20624" y="15285"/>
                </a:cubicBezTo>
                <a:lnTo>
                  <a:pt x="23080" y="16407"/>
                </a:lnTo>
                <a:lnTo>
                  <a:pt x="18775" y="18012"/>
                </a:lnTo>
                <a:lnTo>
                  <a:pt x="17169" y="13708"/>
                </a:lnTo>
                <a:lnTo>
                  <a:pt x="19625" y="14829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76520" y="128412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2898" y="16429"/>
                </a:moveTo>
                <a:cubicBezTo>
                  <a:pt x="4718" y="18984"/>
                  <a:pt x="7662" y="20502"/>
                  <a:pt x="10800" y="20502"/>
                </a:cubicBezTo>
                <a:cubicBezTo>
                  <a:pt x="14265" y="20502"/>
                  <a:pt x="17468" y="18653"/>
                  <a:pt x="19201" y="15652"/>
                </a:cubicBezTo>
                <a:lnTo>
                  <a:pt x="20152" y="16201"/>
                </a:lnTo>
                <a:cubicBezTo>
                  <a:pt x="18222" y="19542"/>
                  <a:pt x="14657" y="21600"/>
                  <a:pt x="10800" y="21600"/>
                </a:cubicBezTo>
                <a:cubicBezTo>
                  <a:pt x="7307" y="21600"/>
                  <a:pt x="4030" y="19911"/>
                  <a:pt x="2003" y="17066"/>
                </a:cubicBezTo>
                <a:lnTo>
                  <a:pt x="-196" y="18633"/>
                </a:lnTo>
                <a:lnTo>
                  <a:pt x="565" y="14102"/>
                </a:lnTo>
                <a:lnTo>
                  <a:pt x="5097" y="14862"/>
                </a:lnTo>
                <a:lnTo>
                  <a:pt x="2898" y="16429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2514600" y="1179360"/>
            <a:ext cx="3333600" cy="3332160"/>
          </a:xfrm>
          <a:custGeom>
            <a:avLst/>
            <a:gdLst>
              <a:gd name="textAreaLeft" fmla="*/ 488160 w 3333600"/>
              <a:gd name="textAreaRight" fmla="*/ 2845440 w 333360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9878" y="1141"/>
                </a:moveTo>
                <a:cubicBezTo>
                  <a:pt x="4899" y="1616"/>
                  <a:pt x="1098" y="5798"/>
                  <a:pt x="1098" y="10800"/>
                </a:cubicBezTo>
                <a:cubicBezTo>
                  <a:pt x="1098" y="12503"/>
                  <a:pt x="1546" y="14176"/>
                  <a:pt x="2397" y="15651"/>
                </a:cubicBezTo>
                <a:lnTo>
                  <a:pt x="1446" y="16200"/>
                </a:lnTo>
                <a:cubicBezTo>
                  <a:pt x="499" y="14558"/>
                  <a:pt x="0" y="12695"/>
                  <a:pt x="0" y="10800"/>
                </a:cubicBezTo>
                <a:cubicBezTo>
                  <a:pt x="0" y="5232"/>
                  <a:pt x="4232" y="577"/>
                  <a:pt x="9774" y="48"/>
                </a:cubicBezTo>
                <a:lnTo>
                  <a:pt x="9517" y="-2639"/>
                </a:lnTo>
                <a:lnTo>
                  <a:pt x="13060" y="286"/>
                </a:lnTo>
                <a:lnTo>
                  <a:pt x="10135" y="3829"/>
                </a:lnTo>
                <a:lnTo>
                  <a:pt x="9878" y="1141"/>
                </a:lnTo>
                <a:close/>
              </a:path>
            </a:pathLst>
          </a:custGeom>
          <a:solidFill>
            <a:srgbClr val="0033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 rot="5400000">
            <a:off x="910440" y="147960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16000" y="175248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66760" y="132084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 rot="5400000">
            <a:off x="911160" y="2680560"/>
            <a:ext cx="1359000" cy="950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2952720"/>
            <a:ext cx="95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066760" y="251928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5400000">
            <a:off x="910440" y="387684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be505a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116000" y="414972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066760" y="3718080"/>
            <a:ext cx="583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wg_blurred_backgrounds_1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280" y="222048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50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30T05:11:5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