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1CB-4D6B-4F56-947B-8E458258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A07-DDD6-475E-891A-69DEAEA5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8596F-299F-4E01-8A9E-16BD02C0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2EC5F-9EE1-4FFE-8FD4-8640CF89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EE63E-7733-4EDB-90D2-7C76A487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B033D-B42B-43A0-8BA5-352C7AA2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105D1-535C-4CDA-B5CD-95066E7D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9472F-5078-401E-9C89-1F851D64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6CA15-2441-49E9-B793-63287E7F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F7CDE-2BF2-44C4-A2B1-205C2884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7F8B3-4E96-42AF-B4EA-7897C598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7245A-254F-4356-B4DB-FA52194C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EF8-CD10-440D-A3EE-0C4C8BE9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091E1-AF7F-4AB4-B2F1-7875F054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D336B-B935-4421-A820-6E5AFBA7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A2C6C-7D46-45A1-9C04-F6BAF7DD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AE68C-9CCD-4080-A16A-CA07BBA7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CE732-9FAC-41D2-A7ED-0FDCCBE8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925F4-AB9A-4AC8-B894-C26ED2E3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F9F57-ECF2-4F5B-AE94-9AE25794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F8C47-FE0D-4A77-B6F9-B3255F45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8D329-ABED-417D-A59E-4EFAA8BC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81A8C-F1EB-4571-9482-12AA6033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65D-7567-4D3A-80B2-009AD71A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BD7F1-48DD-4089-999A-2119B725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867B6-9470-4BF2-81FF-120FCD1F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6E290-B4C4-4E52-9837-E4F8C174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64502-DC05-4B0E-BF45-6462196D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D0926-1F9A-43F5-9A4A-F45AF758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BC8CB-D54A-4D3D-964A-DC83774D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CB26E-25B9-4867-AD26-EFB52AEA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3D594-86D2-451B-B72A-49D8CD31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633A0-A9EA-4074-AAFE-D28EEEA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B308B-A8CC-4814-8938-0CA83FC3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F727-FC0D-4F87-BF30-AD30B7EB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BBF21-20F8-42DF-9AFE-32DC2E9D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92491-C3C5-4FAA-9D7E-8F9778CB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87677-87C1-47AB-AC64-0516BC66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7B605-5785-4625-AA7E-C1BF6C68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32CD6-D4AF-4287-B9C4-0E1305B1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0B8A4-CF3C-43F3-8F93-42E9B6DD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9E80B-D9AB-4636-B396-ABBDCFB7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212DC-FB43-4EB3-8E85-E19FF3AC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989EB-DECA-4855-A69A-BE35FC10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7323D-F9F7-4B8D-9CBE-5A7791C6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255D-09EA-4533-A891-A3D26120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8FBD2-6030-4E3D-B6A8-027EF5A2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C639D-3EF8-4291-91E9-8F18429D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9B202-7F73-4BBF-9CBF-4DEA6494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6DEB4-1BFD-40CB-88C5-AF039173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436BB-9BB4-4777-88C1-20610EC2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F6E15-E372-4AA4-9FE8-0395BBA4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2D18F-96F9-4345-9C56-A684BB28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22A2E-76EC-4B19-A833-360411B8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E272B-C1D1-4BA1-A903-4E7AEF58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8F1D3-19A3-4604-B891-C9FB3533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BB3C-C2E7-444A-8DC7-9430AF68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82417-8A43-457F-9457-274B84D0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2630A-1E14-44C5-BD90-271429E8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585FB-C532-4A33-A4F2-782E2D09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19E4E-CC5A-4595-A9F9-C9AEEE9F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737B2-B3D9-4CD1-8412-3F41785F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7326D-DC30-4CAB-8C95-D2300611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3B0F1-6E0F-4689-9FAE-C7069D1E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FF87-246F-4D95-B129-8CA5FF7C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6CF7-8C41-4C7E-B69D-4BBD4FAF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E2B8-76FA-49D6-A173-B6BE4E5E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D322-D86F-484E-B9C0-5EE41851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79D-2DB3-4525-82C4-5F6589B3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B8AC-0D06-4A7B-A5E9-CDA98DA1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8AC4-296B-4A6E-8846-ADF49C9F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C453-33A7-418D-8DB5-8300E17E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0455-A5FE-4720-A571-55D5BF11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5453-1A30-42FA-ABD1-B84AFE42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B00C-801A-49BE-B2D0-B78D3BC8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3B41A-2B1C-412A-8C79-FCEFA659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848E-2D8C-4BCE-8A47-0C03573E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C657-89B3-4192-A03C-621EE936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44A7-2EE6-4657-BFFC-1EE19F1F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460-AD83-4666-939F-919835F4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DDF9-3DE3-4310-8288-CBAB5D6D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047B4-F890-4CFF-A062-5E6A4DF6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E1F8-EA18-4B1B-A6AD-E08837FD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4170-5A60-4DA1-B70B-1E96C857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7ABCB-BC04-4984-A961-97689C88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4914-18E9-4B4A-B52E-3FCA8D29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82C5-BBC9-4757-8615-8DA2D65D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0E7A7-E3C1-4AED-8872-4485BC10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EA67-5AA2-4337-8E63-893B8723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60E4-3F49-4852-85D0-E373D609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91F-C78F-45B0-990A-FE61367A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14DB3-7CAC-4EF7-87B0-7682853E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1F1E3-76AE-4C6C-B2C7-628892B0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BEDB-ABD2-4924-BF09-11E49831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F6AEA-C36B-480E-B2B3-6B035AC5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F58B5-CE8E-481F-A919-CF0E1655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F2DF5-94B2-4A47-9704-8A9FF777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3DEC4-EA7D-432A-9EA7-D520931D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DDEB8-7DEC-4410-895A-D4B405D6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F71BB-7E4B-4956-95A1-5504A362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BC7A9-637E-40B8-A649-BE75B7F0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9E0-523A-45EC-9C13-62474892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E1EAA-6036-4DB3-8328-A8873536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1C40E-8425-4650-A867-2220F418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82041-05D9-42D3-9C20-E1201286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A5036-F52A-4CD8-966D-A54D4887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05DA-B957-44D8-9B82-7D137C25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603E7-F591-4E57-918E-567C0D16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BA557-7DD1-4170-9B75-93D2CEE6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68BB1-D89E-457E-930B-8AC9EC19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54E8E-590F-45C6-8552-DC1728EE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BA37B-5D0F-433D-B623-34540BE7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B28-ABCA-4B94-9FA2-CE330E46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04B96-1E9A-43C9-B629-0A8CC8F3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5C48F-F8AA-45A2-9F0D-9E356056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51E4B-340D-40B7-B4ED-5A476964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21747-FD83-4240-AFCC-1B0B769E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001E7-9E30-4600-8CE0-6FA47FE9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F6148-FDA0-4FFE-B30F-7CA4A3D9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AD9DB-9B96-495A-B9D4-FC722C0F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F9EAC-E209-47DA-A320-711B3731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B108C-40B6-4079-890E-18CE2C4C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7A8D2-941F-471F-AE47-E65038F4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A7F-23D5-42DA-BAD6-05C4ACAF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A3211-62F0-4370-86B2-25A3CC6B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73E1A-EE66-4723-A1DF-D4B51CA9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C52FC-B01C-4D7D-90A0-46201FFC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93664-D2B5-41C1-8605-4F11C0FC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77886-FEB5-4C09-84A1-13299B35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468C2-1B03-4B80-82DA-A49B2DB6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8CE89-4239-41D5-AF8E-74E4EA6D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B8074-348D-436C-93FA-27773E1E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B07CA-3F61-448F-8A32-86C1A844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19C09-014C-48A8-B7DF-ED15FB2B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C25-7162-4A4A-9D87-14A03AA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77397-CF9A-4C83-A59A-F6FEBC63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91F05-B1F8-4D3A-B131-210FD6DB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AC7F2-BCB5-4512-ACB2-AE0A5BAD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6DF4D-7E9A-4847-ACCB-5AF8F578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0D47D-BDAF-4596-8661-DD8262AD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1E79B-CE46-4DCA-AAEB-C51C48CC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245C9-3697-49FB-B922-099107F9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A4451-B6EF-4A07-8DB8-B265450E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A2F1D-A9C8-47CE-98D0-83FA2C9E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449DE-1433-4F35-9403-AB6E19A2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085-F561-40AF-B158-8902AE63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AF751-9AD8-484A-9DE9-6472E997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14650-7EFD-4F62-ACE4-C4BA9C7D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09278-CC4F-4D7D-8832-118DA5E6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2EA4F-48B3-4C5E-AE83-A61D867D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27C5E-EF9B-4FF4-8255-2ADD7A37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5C762-EB5C-4BE6-BAE5-DEBCD8F6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1ED59-B748-4B12-93D0-C95EABF7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4BC76-45E3-49E1-80F5-14AD7409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97CCD-542E-49D0-B995-F99A0316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6CAB3-D8E6-4272-90D3-EECBA048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7680" y="275760"/>
            <a:ext cx="10976040" cy="11415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7680" y="1600200"/>
            <a:ext cx="10976040" cy="45259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7600" indent="-160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42960" indent="-12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00000" indent="-128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8040" y="6356160"/>
            <a:ext cx="2844720" cy="3632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160"/>
            <a:ext cx="3861000" cy="3632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9360" y="6356160"/>
            <a:ext cx="2844720" cy="3632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895A-DF90-4CE7-9FD0-BAD6E2E8DF43}" type="slidenum">
              <a:rPr b="0" lang="zh-CN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76B1-ECEA-4147-A2D2-C276743E9F0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4420-9C6F-486D-947E-2080AEDAA3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66AD-B07A-4535-A117-8D93E632D52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B82B-0276-4241-864F-4F6E91462E2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D327-9D9C-4A0E-947D-0A8616CC05D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B5AD-1CBE-456C-8767-80681F877BA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CE92-2AB8-4AA5-992D-DC8C4F0AC72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798B-E8DD-43D7-AFC0-9D06C669E4E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B53C-33A5-432A-8299-ABEE7C9C19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E772-AF10-4D70-8EE4-0864783DAC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3A99-4516-400B-AC0F-64A4C8A4E9A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806E-9898-426B-97B3-5E0C9FC761D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8526-1ED1-4CA2-BE2E-22C49FF1A2C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BCE4-D464-420F-B043-04B4E482133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37A3-E9F7-45D1-A72A-B1A50BD154E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5276-B9F8-456D-82EE-83699CFEBE0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E98B-89CC-4400-9D15-0C564980643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3411-9461-4A5D-9D1E-7D824F6394E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04F6-B666-4180-AF54-129304FFA10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A2A3-9173-46FC-9629-E51C916BF92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ADA1-F7EA-40FA-8450-4659335CFD8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0FCE-55D2-4A45-AE11-42CBCE85765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F1B4-D6F6-411D-BCB7-1C262563205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EE99-938F-4CE0-A8A7-359E1CAA2B6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4"/>
          <p:cNvSpPr/>
          <p:nvPr/>
        </p:nvSpPr>
        <p:spPr>
          <a:xfrm>
            <a:off x="6715080" y="0"/>
            <a:ext cx="5025960" cy="3159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rm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矩形 4"/>
          <p:cNvSpPr/>
          <p:nvPr/>
        </p:nvSpPr>
        <p:spPr>
          <a:xfrm>
            <a:off x="6715080" y="3760920"/>
            <a:ext cx="5025960" cy="3097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rm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4"/>
          <p:cNvSpPr/>
          <p:nvPr/>
        </p:nvSpPr>
        <p:spPr>
          <a:xfrm>
            <a:off x="6554880" y="0"/>
            <a:ext cx="5025960" cy="315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rm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8"/>
          <p:cNvSpPr/>
          <p:nvPr/>
        </p:nvSpPr>
        <p:spPr>
          <a:xfrm>
            <a:off x="6222960" y="3151080"/>
            <a:ext cx="5689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Calibri"/>
                <a:ea typeface="Kozuka Gothic Pro B"/>
              </a:rPr>
              <a:t>Simple, Powerful and fr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4"/>
          <p:cNvSpPr/>
          <p:nvPr/>
        </p:nvSpPr>
        <p:spPr>
          <a:xfrm>
            <a:off x="6554880" y="3760920"/>
            <a:ext cx="5025960" cy="309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rm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612720" y="1832040"/>
            <a:ext cx="569268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8000" spc="-1" strike="noStrike">
                <a:solidFill>
                  <a:srgbClr val="808080"/>
                </a:solidFill>
                <a:latin typeface="Arial"/>
                <a:ea typeface="黑体"/>
              </a:rPr>
              <a:t>职场沟通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4"/>
          <p:cNvSpPr/>
          <p:nvPr/>
        </p:nvSpPr>
        <p:spPr>
          <a:xfrm>
            <a:off x="-1023840" y="-1481040"/>
            <a:ext cx="13844520" cy="4025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3"/>
          <p:cNvSpPr/>
          <p:nvPr/>
        </p:nvSpPr>
        <p:spPr>
          <a:xfrm rot="20640000">
            <a:off x="5208480" y="488520"/>
            <a:ext cx="513000" cy="68961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4"/>
          <p:cNvSpPr/>
          <p:nvPr/>
        </p:nvSpPr>
        <p:spPr>
          <a:xfrm rot="20640000">
            <a:off x="9116640" y="469440"/>
            <a:ext cx="512640" cy="6894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5"/>
          <p:cNvSpPr/>
          <p:nvPr/>
        </p:nvSpPr>
        <p:spPr>
          <a:xfrm rot="20640000">
            <a:off x="1896840" y="479520"/>
            <a:ext cx="511200" cy="6894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-1023840" y="-1625760"/>
            <a:ext cx="13845960" cy="402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048120" y="2454120"/>
            <a:ext cx="59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Comple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2281320" y="933480"/>
            <a:ext cx="747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99ccff"/>
                </a:solidFill>
                <a:latin typeface="Arial"/>
              </a:rPr>
              <a:t>Busines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9"/>
          <p:cNvSpPr/>
          <p:nvPr/>
        </p:nvSpPr>
        <p:spPr>
          <a:xfrm rot="20640000">
            <a:off x="1746000" y="539280"/>
            <a:ext cx="512640" cy="689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10"/>
          <p:cNvSpPr/>
          <p:nvPr/>
        </p:nvSpPr>
        <p:spPr>
          <a:xfrm rot="20640000">
            <a:off x="5081400" y="539280"/>
            <a:ext cx="512640" cy="689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11"/>
          <p:cNvSpPr/>
          <p:nvPr/>
        </p:nvSpPr>
        <p:spPr>
          <a:xfrm rot="20640000">
            <a:off x="8981640" y="539280"/>
            <a:ext cx="513000" cy="689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Group 12"/>
          <p:cNvGrpSpPr/>
          <p:nvPr/>
        </p:nvGrpSpPr>
        <p:grpSpPr>
          <a:xfrm>
            <a:off x="79200" y="865080"/>
            <a:ext cx="2872080" cy="2873520"/>
            <a:chOff x="79200" y="865080"/>
            <a:chExt cx="2872080" cy="2873520"/>
          </a:xfrm>
        </p:grpSpPr>
        <p:sp>
          <p:nvSpPr>
            <p:cNvPr id="550" name="AutoShape 13"/>
            <p:cNvSpPr/>
            <p:nvPr/>
          </p:nvSpPr>
          <p:spPr>
            <a:xfrm rot="20700000">
              <a:off x="342720" y="1128600"/>
              <a:ext cx="2344680" cy="2346480"/>
            </a:xfrm>
            <a:prstGeom prst="octagon">
              <a:avLst>
                <a:gd name="adj" fmla="val 29287"/>
              </a:avLst>
            </a:prstGeom>
            <a:solidFill>
              <a:srgbClr val="99cc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AutoShape 14"/>
            <p:cNvSpPr/>
            <p:nvPr/>
          </p:nvSpPr>
          <p:spPr>
            <a:xfrm rot="20700000">
              <a:off x="516960" y="1302480"/>
              <a:ext cx="1996920" cy="1998360"/>
            </a:xfrm>
            <a:prstGeom prst="octagon">
              <a:avLst>
                <a:gd name="adj" fmla="val 2928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Text Box 15"/>
          <p:cNvSpPr/>
          <p:nvPr/>
        </p:nvSpPr>
        <p:spPr>
          <a:xfrm rot="20700000">
            <a:off x="190800" y="1363680"/>
            <a:ext cx="55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16"/>
          <p:cNvSpPr/>
          <p:nvPr/>
        </p:nvSpPr>
        <p:spPr>
          <a:xfrm rot="20700000">
            <a:off x="2660760" y="3822480"/>
            <a:ext cx="2514600" cy="1312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ff"/>
                </a:solidFill>
                <a:latin typeface="Calibri"/>
              </a:rPr>
              <a:t>Simpl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99"/>
                </a:solidFill>
                <a:latin typeface="Calibri"/>
                <a:ea typeface="黑体"/>
              </a:rPr>
              <a:t>言简意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17"/>
          <p:cNvSpPr/>
          <p:nvPr/>
        </p:nvSpPr>
        <p:spPr>
          <a:xfrm rot="20700000">
            <a:off x="5937120" y="3822480"/>
            <a:ext cx="2514600" cy="1312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ff"/>
                </a:solidFill>
                <a:latin typeface="Calibri"/>
              </a:rPr>
              <a:t>Powerf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99"/>
                </a:solidFill>
                <a:latin typeface="Calibri"/>
                <a:ea typeface="黑体"/>
              </a:rPr>
              <a:t>言必有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18"/>
          <p:cNvSpPr/>
          <p:nvPr/>
        </p:nvSpPr>
        <p:spPr>
          <a:xfrm rot="20700000">
            <a:off x="9848880" y="3823920"/>
            <a:ext cx="2514600" cy="1312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ff"/>
                </a:solidFill>
                <a:latin typeface="Calibri"/>
              </a:rPr>
              <a:t>Fr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99"/>
                </a:solidFill>
                <a:latin typeface="Calibri"/>
                <a:ea typeface="黑体"/>
              </a:rPr>
              <a:t>言人人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8688E-006 4.31373E-006 L -4.38688E-006 -0.13089 E">
                                      <p:cBhvr>
                                        <p:cTn id="42" dur="5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8688E-006 0.04701 L -4.38688E-006 0.17434 E">
                                      <p:cBhvr>
                                        <p:cTn id="44" dur="5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399">
                                      <p:cBhvr>
                                        <p:cTn id="4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399">
                                      <p:cBhvr>
                                        <p:cTn id="5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399">
                                      <p:cBhvr>
                                        <p:cTn id="5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399">
                                      <p:cBhvr>
                                        <p:cTn id="5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57025E-006 0.17451 L -0.86832 0.59215 E">
                                      <p:cBhvr>
                                        <p:cTn id="57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30926 L -0.881719 0.289352 E">
                                      <p:cBhvr>
                                        <p:cTn id="59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459">
                                      <p:cBhvr>
                                        <p:cTn id="7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"/>
          <p:cNvSpPr/>
          <p:nvPr/>
        </p:nvSpPr>
        <p:spPr>
          <a:xfrm>
            <a:off x="-3425760" y="2386080"/>
            <a:ext cx="7472160" cy="2000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-133200" y="-3565440"/>
            <a:ext cx="12779280" cy="501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35000" y="1450800"/>
            <a:ext cx="59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Si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3656160" y="534960"/>
            <a:ext cx="48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99ccff"/>
                </a:solidFill>
                <a:latin typeface="Calibri"/>
                <a:ea typeface="黑体"/>
              </a:rPr>
              <a:t>言简意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5638680" y="380880"/>
            <a:ext cx="56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Calibri"/>
              </a:rPr>
              <a:t>1</a:t>
            </a:r>
            <a:r>
              <a:rPr b="1" lang="en-US" sz="2000" spc="-1" strike="noStrike" baseline="30000">
                <a:solidFill>
                  <a:srgbClr val="336699"/>
                </a:solidFill>
                <a:latin typeface="Calibri"/>
              </a:rPr>
              <a:t>st</a:t>
            </a:r>
            <a:r>
              <a:rPr b="1" lang="en-US" sz="2000" spc="-1" strike="noStrike">
                <a:solidFill>
                  <a:srgbClr val="336699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336699"/>
                </a:solidFill>
                <a:latin typeface="Calibri"/>
              </a:rPr>
              <a:t>top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6032520" y="238140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Si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Group 8"/>
          <p:cNvGrpSpPr/>
          <p:nvPr/>
        </p:nvGrpSpPr>
        <p:grpSpPr>
          <a:xfrm>
            <a:off x="723960" y="1650960"/>
            <a:ext cx="1963440" cy="1221840"/>
            <a:chOff x="723960" y="1650960"/>
            <a:chExt cx="1963440" cy="1221840"/>
          </a:xfrm>
        </p:grpSpPr>
        <p:sp>
          <p:nvSpPr>
            <p:cNvPr id="563" name="Oval 9"/>
            <p:cNvSpPr/>
            <p:nvPr/>
          </p:nvSpPr>
          <p:spPr>
            <a:xfrm>
              <a:off x="918000" y="1870560"/>
              <a:ext cx="167040" cy="167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Oval 10"/>
            <p:cNvSpPr/>
            <p:nvPr/>
          </p:nvSpPr>
          <p:spPr>
            <a:xfrm>
              <a:off x="1103760" y="178056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Oval 11"/>
            <p:cNvSpPr/>
            <p:nvPr/>
          </p:nvSpPr>
          <p:spPr>
            <a:xfrm>
              <a:off x="1459800" y="2261880"/>
              <a:ext cx="176400" cy="176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Oval 12"/>
            <p:cNvSpPr/>
            <p:nvPr/>
          </p:nvSpPr>
          <p:spPr>
            <a:xfrm>
              <a:off x="1600200" y="184608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Oval 13"/>
            <p:cNvSpPr/>
            <p:nvPr/>
          </p:nvSpPr>
          <p:spPr>
            <a:xfrm>
              <a:off x="1073880" y="2511000"/>
              <a:ext cx="117720" cy="117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Oval 14"/>
            <p:cNvSpPr/>
            <p:nvPr/>
          </p:nvSpPr>
          <p:spPr>
            <a:xfrm>
              <a:off x="1419480" y="194580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Oval 15"/>
            <p:cNvSpPr/>
            <p:nvPr/>
          </p:nvSpPr>
          <p:spPr>
            <a:xfrm>
              <a:off x="958680" y="226188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Oval 16"/>
            <p:cNvSpPr/>
            <p:nvPr/>
          </p:nvSpPr>
          <p:spPr>
            <a:xfrm>
              <a:off x="1133640" y="204300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Oval 17"/>
            <p:cNvSpPr/>
            <p:nvPr/>
          </p:nvSpPr>
          <p:spPr>
            <a:xfrm>
              <a:off x="1427400" y="227952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Oval 18"/>
            <p:cNvSpPr/>
            <p:nvPr/>
          </p:nvSpPr>
          <p:spPr>
            <a:xfrm>
              <a:off x="1521000" y="206172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Oval 19"/>
            <p:cNvSpPr/>
            <p:nvPr/>
          </p:nvSpPr>
          <p:spPr>
            <a:xfrm>
              <a:off x="1039680" y="209988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Oval 20"/>
            <p:cNvSpPr/>
            <p:nvPr/>
          </p:nvSpPr>
          <p:spPr>
            <a:xfrm>
              <a:off x="1284120" y="205056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Oval 21"/>
            <p:cNvSpPr/>
            <p:nvPr/>
          </p:nvSpPr>
          <p:spPr>
            <a:xfrm>
              <a:off x="723960" y="230436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Oval 22"/>
            <p:cNvSpPr/>
            <p:nvPr/>
          </p:nvSpPr>
          <p:spPr>
            <a:xfrm>
              <a:off x="1828080" y="1862280"/>
              <a:ext cx="176400" cy="176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Oval 23"/>
            <p:cNvSpPr/>
            <p:nvPr/>
          </p:nvSpPr>
          <p:spPr>
            <a:xfrm>
              <a:off x="1652400" y="165096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Oval 24"/>
            <p:cNvSpPr/>
            <p:nvPr/>
          </p:nvSpPr>
          <p:spPr>
            <a:xfrm>
              <a:off x="1092240" y="190476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Oval 25"/>
            <p:cNvSpPr/>
            <p:nvPr/>
          </p:nvSpPr>
          <p:spPr>
            <a:xfrm rot="5640000">
              <a:off x="2346840" y="1780560"/>
              <a:ext cx="167040" cy="167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Oval 26"/>
            <p:cNvSpPr/>
            <p:nvPr/>
          </p:nvSpPr>
          <p:spPr>
            <a:xfrm rot="5640000">
              <a:off x="2489400" y="197676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Oval 27"/>
            <p:cNvSpPr/>
            <p:nvPr/>
          </p:nvSpPr>
          <p:spPr>
            <a:xfrm rot="5640000">
              <a:off x="1911600" y="2295360"/>
              <a:ext cx="176040" cy="176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Oval 28"/>
            <p:cNvSpPr/>
            <p:nvPr/>
          </p:nvSpPr>
          <p:spPr>
            <a:xfrm rot="5640000">
              <a:off x="2336400" y="246204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Oval 29"/>
            <p:cNvSpPr/>
            <p:nvPr/>
          </p:nvSpPr>
          <p:spPr>
            <a:xfrm rot="5640000">
              <a:off x="2302200" y="227988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Oval 30"/>
            <p:cNvSpPr/>
            <p:nvPr/>
          </p:nvSpPr>
          <p:spPr>
            <a:xfrm rot="5640000">
              <a:off x="2057040" y="179748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Oval 31"/>
            <p:cNvSpPr/>
            <p:nvPr/>
          </p:nvSpPr>
          <p:spPr>
            <a:xfrm rot="5640000">
              <a:off x="2263680" y="198684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Oval 32"/>
            <p:cNvSpPr/>
            <p:nvPr/>
          </p:nvSpPr>
          <p:spPr>
            <a:xfrm rot="5640000">
              <a:off x="2007360" y="226332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Oval 33"/>
            <p:cNvSpPr/>
            <p:nvPr/>
          </p:nvSpPr>
          <p:spPr>
            <a:xfrm rot="5640000">
              <a:off x="2179440" y="237312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Oval 34"/>
            <p:cNvSpPr/>
            <p:nvPr/>
          </p:nvSpPr>
          <p:spPr>
            <a:xfrm rot="5640000">
              <a:off x="2175120" y="189072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Oval 35"/>
            <p:cNvSpPr/>
            <p:nvPr/>
          </p:nvSpPr>
          <p:spPr>
            <a:xfrm rot="5640000">
              <a:off x="2153880" y="213264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Oval 36"/>
            <p:cNvSpPr/>
            <p:nvPr/>
          </p:nvSpPr>
          <p:spPr>
            <a:xfrm rot="5640000">
              <a:off x="2285280" y="2690280"/>
              <a:ext cx="176040" cy="176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Oval 37"/>
            <p:cNvSpPr/>
            <p:nvPr/>
          </p:nvSpPr>
          <p:spPr>
            <a:xfrm rot="5640000">
              <a:off x="2527560" y="252792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Oval 38"/>
            <p:cNvSpPr/>
            <p:nvPr/>
          </p:nvSpPr>
          <p:spPr>
            <a:xfrm rot="5640000">
              <a:off x="2366280" y="195660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Oval 39"/>
            <p:cNvSpPr/>
            <p:nvPr/>
          </p:nvSpPr>
          <p:spPr>
            <a:xfrm rot="5640000">
              <a:off x="1725840" y="2106000"/>
              <a:ext cx="63000" cy="63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Oval 40"/>
            <p:cNvSpPr/>
            <p:nvPr/>
          </p:nvSpPr>
          <p:spPr>
            <a:xfrm>
              <a:off x="1724400" y="2450520"/>
              <a:ext cx="66240" cy="66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Oval 41"/>
            <p:cNvSpPr/>
            <p:nvPr/>
          </p:nvSpPr>
          <p:spPr>
            <a:xfrm>
              <a:off x="1630440" y="2507400"/>
              <a:ext cx="106560" cy="10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Oval 42"/>
            <p:cNvSpPr/>
            <p:nvPr/>
          </p:nvSpPr>
          <p:spPr>
            <a:xfrm>
              <a:off x="1874880" y="2458080"/>
              <a:ext cx="154440" cy="154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7" name="Group 43"/>
          <p:cNvGrpSpPr/>
          <p:nvPr/>
        </p:nvGrpSpPr>
        <p:grpSpPr>
          <a:xfrm>
            <a:off x="9217080" y="1517760"/>
            <a:ext cx="2680560" cy="1666800"/>
            <a:chOff x="9217080" y="1517760"/>
            <a:chExt cx="2680560" cy="1666800"/>
          </a:xfrm>
        </p:grpSpPr>
        <p:sp>
          <p:nvSpPr>
            <p:cNvPr id="598" name="Oval 44"/>
            <p:cNvSpPr/>
            <p:nvPr/>
          </p:nvSpPr>
          <p:spPr>
            <a:xfrm>
              <a:off x="9482040" y="1817640"/>
              <a:ext cx="228240" cy="227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Oval 45"/>
            <p:cNvSpPr/>
            <p:nvPr/>
          </p:nvSpPr>
          <p:spPr>
            <a:xfrm>
              <a:off x="9735480" y="1694520"/>
              <a:ext cx="145440" cy="14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Oval 46"/>
            <p:cNvSpPr/>
            <p:nvPr/>
          </p:nvSpPr>
          <p:spPr>
            <a:xfrm>
              <a:off x="10221120" y="2351160"/>
              <a:ext cx="240840" cy="240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Oval 47"/>
            <p:cNvSpPr/>
            <p:nvPr/>
          </p:nvSpPr>
          <p:spPr>
            <a:xfrm>
              <a:off x="10412640" y="1783800"/>
              <a:ext cx="210960" cy="21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Oval 48"/>
            <p:cNvSpPr/>
            <p:nvPr/>
          </p:nvSpPr>
          <p:spPr>
            <a:xfrm>
              <a:off x="9694800" y="2691000"/>
              <a:ext cx="160560" cy="160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Oval 49"/>
            <p:cNvSpPr/>
            <p:nvPr/>
          </p:nvSpPr>
          <p:spPr>
            <a:xfrm>
              <a:off x="10166040" y="1920240"/>
              <a:ext cx="14544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Oval 50"/>
            <p:cNvSpPr/>
            <p:nvPr/>
          </p:nvSpPr>
          <p:spPr>
            <a:xfrm>
              <a:off x="9537480" y="235116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Oval 51"/>
            <p:cNvSpPr/>
            <p:nvPr/>
          </p:nvSpPr>
          <p:spPr>
            <a:xfrm>
              <a:off x="9776160" y="205272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Oval 52"/>
            <p:cNvSpPr/>
            <p:nvPr/>
          </p:nvSpPr>
          <p:spPr>
            <a:xfrm>
              <a:off x="10177200" y="237528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Oval 53"/>
            <p:cNvSpPr/>
            <p:nvPr/>
          </p:nvSpPr>
          <p:spPr>
            <a:xfrm>
              <a:off x="10305000" y="2078280"/>
              <a:ext cx="145440" cy="14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Oval 54"/>
            <p:cNvSpPr/>
            <p:nvPr/>
          </p:nvSpPr>
          <p:spPr>
            <a:xfrm>
              <a:off x="9648360" y="2130120"/>
              <a:ext cx="145440" cy="14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Oval 55"/>
            <p:cNvSpPr/>
            <p:nvPr/>
          </p:nvSpPr>
          <p:spPr>
            <a:xfrm>
              <a:off x="9981720" y="2062800"/>
              <a:ext cx="210960" cy="21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Oval 56"/>
            <p:cNvSpPr/>
            <p:nvPr/>
          </p:nvSpPr>
          <p:spPr>
            <a:xfrm>
              <a:off x="9217080" y="2409120"/>
              <a:ext cx="14544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10724040" y="1805760"/>
              <a:ext cx="240840" cy="240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10484280" y="1517760"/>
              <a:ext cx="210960" cy="21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9719640" y="1863720"/>
              <a:ext cx="145440" cy="14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 rot="5640000">
              <a:off x="11431800" y="1694160"/>
              <a:ext cx="227880" cy="228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 rot="5640000">
              <a:off x="11626560" y="1961640"/>
              <a:ext cx="14508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 rot="5640000">
              <a:off x="10837800" y="2396880"/>
              <a:ext cx="240480" cy="240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 rot="5640000">
              <a:off x="11418480" y="2624400"/>
              <a:ext cx="210600" cy="210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 rot="5640000">
              <a:off x="11371320" y="2375640"/>
              <a:ext cx="14544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 rot="5640000">
              <a:off x="11036160" y="171720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Oval 66"/>
            <p:cNvSpPr/>
            <p:nvPr/>
          </p:nvSpPr>
          <p:spPr>
            <a:xfrm rot="5640000">
              <a:off x="11318040" y="197568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Oval 67"/>
            <p:cNvSpPr/>
            <p:nvPr/>
          </p:nvSpPr>
          <p:spPr>
            <a:xfrm rot="5640000">
              <a:off x="10968120" y="235260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Oval 68"/>
            <p:cNvSpPr/>
            <p:nvPr/>
          </p:nvSpPr>
          <p:spPr>
            <a:xfrm rot="5640000">
              <a:off x="11203560" y="2502360"/>
              <a:ext cx="14508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Oval 69"/>
            <p:cNvSpPr/>
            <p:nvPr/>
          </p:nvSpPr>
          <p:spPr>
            <a:xfrm rot="5640000">
              <a:off x="11197440" y="1844640"/>
              <a:ext cx="14508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Oval 70"/>
            <p:cNvSpPr/>
            <p:nvPr/>
          </p:nvSpPr>
          <p:spPr>
            <a:xfrm rot="5640000">
              <a:off x="11169720" y="2175120"/>
              <a:ext cx="210600" cy="210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Oval 71"/>
            <p:cNvSpPr/>
            <p:nvPr/>
          </p:nvSpPr>
          <p:spPr>
            <a:xfrm rot="5640000">
              <a:off x="11347560" y="2935800"/>
              <a:ext cx="240480" cy="240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Oval 72"/>
            <p:cNvSpPr/>
            <p:nvPr/>
          </p:nvSpPr>
          <p:spPr>
            <a:xfrm rot="5640000">
              <a:off x="11679480" y="2714040"/>
              <a:ext cx="210600" cy="210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Oval 73"/>
            <p:cNvSpPr/>
            <p:nvPr/>
          </p:nvSpPr>
          <p:spPr>
            <a:xfrm rot="5640000">
              <a:off x="11458440" y="1935000"/>
              <a:ext cx="14544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Oval 74"/>
            <p:cNvSpPr/>
            <p:nvPr/>
          </p:nvSpPr>
          <p:spPr>
            <a:xfrm rot="5640000">
              <a:off x="10584360" y="2139120"/>
              <a:ext cx="8604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Oval 75"/>
            <p:cNvSpPr/>
            <p:nvPr/>
          </p:nvSpPr>
          <p:spPr>
            <a:xfrm>
              <a:off x="10582200" y="2608560"/>
              <a:ext cx="90360" cy="90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Oval 76"/>
            <p:cNvSpPr/>
            <p:nvPr/>
          </p:nvSpPr>
          <p:spPr>
            <a:xfrm>
              <a:off x="10454400" y="2685960"/>
              <a:ext cx="145440" cy="145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Oval 77"/>
            <p:cNvSpPr/>
            <p:nvPr/>
          </p:nvSpPr>
          <p:spPr>
            <a:xfrm>
              <a:off x="10787760" y="2618640"/>
              <a:ext cx="210960" cy="21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Group 78"/>
          <p:cNvGrpSpPr/>
          <p:nvPr/>
        </p:nvGrpSpPr>
        <p:grpSpPr>
          <a:xfrm>
            <a:off x="7945560" y="1617840"/>
            <a:ext cx="1639440" cy="1019160"/>
            <a:chOff x="7945560" y="1617840"/>
            <a:chExt cx="1639440" cy="1019160"/>
          </a:xfrm>
        </p:grpSpPr>
        <p:sp>
          <p:nvSpPr>
            <p:cNvPr id="633" name="Oval 79"/>
            <p:cNvSpPr/>
            <p:nvPr/>
          </p:nvSpPr>
          <p:spPr>
            <a:xfrm>
              <a:off x="8107560" y="1801080"/>
              <a:ext cx="139680" cy="139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Oval 80"/>
            <p:cNvSpPr/>
            <p:nvPr/>
          </p:nvSpPr>
          <p:spPr>
            <a:xfrm>
              <a:off x="8262360" y="1725840"/>
              <a:ext cx="88920" cy="88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Oval 81"/>
            <p:cNvSpPr/>
            <p:nvPr/>
          </p:nvSpPr>
          <p:spPr>
            <a:xfrm>
              <a:off x="8559720" y="2127240"/>
              <a:ext cx="147240" cy="146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Oval 82"/>
            <p:cNvSpPr/>
            <p:nvPr/>
          </p:nvSpPr>
          <p:spPr>
            <a:xfrm>
              <a:off x="8676720" y="1780560"/>
              <a:ext cx="12888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Oval 83"/>
            <p:cNvSpPr/>
            <p:nvPr/>
          </p:nvSpPr>
          <p:spPr>
            <a:xfrm>
              <a:off x="8237520" y="2335320"/>
              <a:ext cx="98280" cy="97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Oval 84"/>
            <p:cNvSpPr/>
            <p:nvPr/>
          </p:nvSpPr>
          <p:spPr>
            <a:xfrm>
              <a:off x="8525880" y="1863720"/>
              <a:ext cx="8892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Oval 85"/>
            <p:cNvSpPr/>
            <p:nvPr/>
          </p:nvSpPr>
          <p:spPr>
            <a:xfrm>
              <a:off x="8141400" y="212724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Oval 86"/>
            <p:cNvSpPr/>
            <p:nvPr/>
          </p:nvSpPr>
          <p:spPr>
            <a:xfrm>
              <a:off x="8287560" y="194472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Oval 87"/>
            <p:cNvSpPr/>
            <p:nvPr/>
          </p:nvSpPr>
          <p:spPr>
            <a:xfrm>
              <a:off x="8532720" y="214200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Oval 88"/>
            <p:cNvSpPr/>
            <p:nvPr/>
          </p:nvSpPr>
          <p:spPr>
            <a:xfrm>
              <a:off x="8610840" y="1960560"/>
              <a:ext cx="88920" cy="88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Oval 89"/>
            <p:cNvSpPr/>
            <p:nvPr/>
          </p:nvSpPr>
          <p:spPr>
            <a:xfrm>
              <a:off x="8209080" y="1992240"/>
              <a:ext cx="88920" cy="88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Oval 90"/>
            <p:cNvSpPr/>
            <p:nvPr/>
          </p:nvSpPr>
          <p:spPr>
            <a:xfrm>
              <a:off x="8413200" y="1951200"/>
              <a:ext cx="12888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Oval 91"/>
            <p:cNvSpPr/>
            <p:nvPr/>
          </p:nvSpPr>
          <p:spPr>
            <a:xfrm>
              <a:off x="7945560" y="2162880"/>
              <a:ext cx="8892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Oval 92"/>
            <p:cNvSpPr/>
            <p:nvPr/>
          </p:nvSpPr>
          <p:spPr>
            <a:xfrm>
              <a:off x="8867160" y="1793880"/>
              <a:ext cx="147240" cy="146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Oval 93"/>
            <p:cNvSpPr/>
            <p:nvPr/>
          </p:nvSpPr>
          <p:spPr>
            <a:xfrm>
              <a:off x="8720640" y="1617840"/>
              <a:ext cx="12888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Oval 94"/>
            <p:cNvSpPr/>
            <p:nvPr/>
          </p:nvSpPr>
          <p:spPr>
            <a:xfrm>
              <a:off x="8253000" y="1829520"/>
              <a:ext cx="88920" cy="88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Oval 95"/>
            <p:cNvSpPr/>
            <p:nvPr/>
          </p:nvSpPr>
          <p:spPr>
            <a:xfrm rot="5640000">
              <a:off x="9300240" y="1725480"/>
              <a:ext cx="139320" cy="139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Oval 96"/>
            <p:cNvSpPr/>
            <p:nvPr/>
          </p:nvSpPr>
          <p:spPr>
            <a:xfrm rot="5640000">
              <a:off x="9419040" y="1889280"/>
              <a:ext cx="8856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Oval 97"/>
            <p:cNvSpPr/>
            <p:nvPr/>
          </p:nvSpPr>
          <p:spPr>
            <a:xfrm rot="5640000">
              <a:off x="8936640" y="2154960"/>
              <a:ext cx="146880" cy="147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Oval 98"/>
            <p:cNvSpPr/>
            <p:nvPr/>
          </p:nvSpPr>
          <p:spPr>
            <a:xfrm rot="5640000">
              <a:off x="9291600" y="2294640"/>
              <a:ext cx="12888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Oval 99"/>
            <p:cNvSpPr/>
            <p:nvPr/>
          </p:nvSpPr>
          <p:spPr>
            <a:xfrm rot="5640000">
              <a:off x="9262440" y="2142360"/>
              <a:ext cx="8892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Oval 100"/>
            <p:cNvSpPr/>
            <p:nvPr/>
          </p:nvSpPr>
          <p:spPr>
            <a:xfrm rot="5640000">
              <a:off x="9057960" y="173952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val 101"/>
            <p:cNvSpPr/>
            <p:nvPr/>
          </p:nvSpPr>
          <p:spPr>
            <a:xfrm rot="5640000">
              <a:off x="9230400" y="189756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val 102"/>
            <p:cNvSpPr/>
            <p:nvPr/>
          </p:nvSpPr>
          <p:spPr>
            <a:xfrm rot="5640000">
              <a:off x="9016560" y="212796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Oval 103"/>
            <p:cNvSpPr/>
            <p:nvPr/>
          </p:nvSpPr>
          <p:spPr>
            <a:xfrm rot="5640000">
              <a:off x="9160200" y="2219760"/>
              <a:ext cx="8856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Oval 104"/>
            <p:cNvSpPr/>
            <p:nvPr/>
          </p:nvSpPr>
          <p:spPr>
            <a:xfrm rot="5640000">
              <a:off x="9156600" y="1817280"/>
              <a:ext cx="8856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Oval 105"/>
            <p:cNvSpPr/>
            <p:nvPr/>
          </p:nvSpPr>
          <p:spPr>
            <a:xfrm rot="5640000">
              <a:off x="9140040" y="2019600"/>
              <a:ext cx="12852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Oval 106"/>
            <p:cNvSpPr/>
            <p:nvPr/>
          </p:nvSpPr>
          <p:spPr>
            <a:xfrm rot="5640000">
              <a:off x="9248400" y="2484720"/>
              <a:ext cx="146880" cy="147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Oval 107"/>
            <p:cNvSpPr/>
            <p:nvPr/>
          </p:nvSpPr>
          <p:spPr>
            <a:xfrm rot="5640000">
              <a:off x="9451800" y="2349000"/>
              <a:ext cx="12852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Oval 108"/>
            <p:cNvSpPr/>
            <p:nvPr/>
          </p:nvSpPr>
          <p:spPr>
            <a:xfrm rot="5640000">
              <a:off x="9315720" y="1872720"/>
              <a:ext cx="8892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Oval 109"/>
            <p:cNvSpPr/>
            <p:nvPr/>
          </p:nvSpPr>
          <p:spPr>
            <a:xfrm rot="5640000">
              <a:off x="8782200" y="1997280"/>
              <a:ext cx="52560" cy="52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Oval 110"/>
            <p:cNvSpPr/>
            <p:nvPr/>
          </p:nvSpPr>
          <p:spPr>
            <a:xfrm>
              <a:off x="8780760" y="2284560"/>
              <a:ext cx="55080" cy="55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Oval 111"/>
            <p:cNvSpPr/>
            <p:nvPr/>
          </p:nvSpPr>
          <p:spPr>
            <a:xfrm>
              <a:off x="8702280" y="2332080"/>
              <a:ext cx="88920" cy="8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Oval 112"/>
            <p:cNvSpPr/>
            <p:nvPr/>
          </p:nvSpPr>
          <p:spPr>
            <a:xfrm>
              <a:off x="8906400" y="2291040"/>
              <a:ext cx="12888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Text Box 113"/>
          <p:cNvSpPr/>
          <p:nvPr/>
        </p:nvSpPr>
        <p:spPr>
          <a:xfrm>
            <a:off x="5628960" y="2425680"/>
            <a:ext cx="573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许多时候，我们都急着把自己的观点表达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想说的话就像茶壶里的饺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我们需要言简意赅，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Simple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！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Simple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！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Simple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5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 -0 L -0 -0.095826 E">
                                      <p:cBhvr>
                                        <p:cTn id="119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21" dur="3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23" dur="3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25" dur="3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90833 E">
                                      <p:cBhvr>
                                        <p:cTn id="127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-0.287865 0.3275 E">
                                      <p:cBhvr>
                                        <p:cTn id="130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 rot="16200000">
            <a:off x="-5192280" y="-2863800"/>
            <a:ext cx="12490560" cy="7029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3"/>
          <p:cNvSpPr/>
          <p:nvPr/>
        </p:nvSpPr>
        <p:spPr>
          <a:xfrm rot="16200000">
            <a:off x="-5290920" y="-2865600"/>
            <a:ext cx="12496680" cy="7029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-10296360" y="-5575320"/>
            <a:ext cx="22507560" cy="7029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152280" y="1503360"/>
            <a:ext cx="551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Powerfu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4721400" y="534960"/>
            <a:ext cx="74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Calibri"/>
                <a:ea typeface="黑体"/>
              </a:rPr>
              <a:t>言必有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6099120" y="380880"/>
            <a:ext cx="56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2000" spc="-1" strike="noStrike">
                <a:solidFill>
                  <a:srgbClr val="336699"/>
                </a:solidFill>
                <a:latin typeface="Calibri"/>
              </a:rPr>
              <a:t>2</a:t>
            </a:r>
            <a:r>
              <a:rPr b="1" lang="zh-CN" sz="2000" spc="-1" strike="noStrike" baseline="30000">
                <a:solidFill>
                  <a:srgbClr val="336699"/>
                </a:solidFill>
                <a:latin typeface="Calibri"/>
              </a:rPr>
              <a:t>nd</a:t>
            </a:r>
            <a:r>
              <a:rPr b="1" lang="en-US" sz="2000" spc="-1" strike="noStrike">
                <a:solidFill>
                  <a:srgbClr val="336699"/>
                </a:solidFill>
                <a:latin typeface="Calibri"/>
              </a:rPr>
              <a:t> top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8"/>
          <p:cNvSpPr/>
          <p:nvPr/>
        </p:nvSpPr>
        <p:spPr>
          <a:xfrm>
            <a:off x="5407560" y="2425680"/>
            <a:ext cx="58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说空话只能让</a:t>
            </a: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team members</a:t>
            </a: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一头雾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团队沟通需要效率，需要有力量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交流需要言之有物，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Powerful! Powerful! Powerfu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640">
                                      <p:cBhvr>
                                        <p:cTn id="143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2"/>
          <p:cNvGrpSpPr/>
          <p:nvPr/>
        </p:nvGrpSpPr>
        <p:grpSpPr>
          <a:xfrm>
            <a:off x="10590120" y="-2974680"/>
            <a:ext cx="2524320" cy="6825600"/>
            <a:chOff x="10590120" y="-2974680"/>
            <a:chExt cx="2524320" cy="6825600"/>
          </a:xfrm>
        </p:grpSpPr>
        <p:sp>
          <p:nvSpPr>
            <p:cNvPr id="676" name="Rectangle 3"/>
            <p:cNvSpPr/>
            <p:nvPr/>
          </p:nvSpPr>
          <p:spPr>
            <a:xfrm rot="20640000">
              <a:off x="11662920" y="-3036960"/>
              <a:ext cx="513000" cy="688032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Rectangle 4"/>
            <p:cNvSpPr/>
            <p:nvPr/>
          </p:nvSpPr>
          <p:spPr>
            <a:xfrm rot="20640000">
              <a:off x="11528280" y="-2966760"/>
              <a:ext cx="513720" cy="6880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Group 5"/>
          <p:cNvGrpSpPr/>
          <p:nvPr/>
        </p:nvGrpSpPr>
        <p:grpSpPr>
          <a:xfrm>
            <a:off x="10577880" y="-2152080"/>
            <a:ext cx="2143800" cy="6739560"/>
            <a:chOff x="10577880" y="-2152080"/>
            <a:chExt cx="2143800" cy="6739560"/>
          </a:xfrm>
        </p:grpSpPr>
        <p:sp>
          <p:nvSpPr>
            <p:cNvPr id="679" name="Rectangle 6"/>
            <p:cNvSpPr/>
            <p:nvPr/>
          </p:nvSpPr>
          <p:spPr>
            <a:xfrm rot="20640000">
              <a:off x="11575080" y="-2257200"/>
              <a:ext cx="202320" cy="688032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Rectangle 7"/>
            <p:cNvSpPr/>
            <p:nvPr/>
          </p:nvSpPr>
          <p:spPr>
            <a:xfrm rot="20640000">
              <a:off x="11522160" y="-2187360"/>
              <a:ext cx="202680" cy="6880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Group 8"/>
          <p:cNvGrpSpPr/>
          <p:nvPr/>
        </p:nvGrpSpPr>
        <p:grpSpPr>
          <a:xfrm>
            <a:off x="10360080" y="-1011960"/>
            <a:ext cx="2522880" cy="6824880"/>
            <a:chOff x="10360080" y="-1011960"/>
            <a:chExt cx="2522880" cy="6824880"/>
          </a:xfrm>
        </p:grpSpPr>
        <p:sp>
          <p:nvSpPr>
            <p:cNvPr id="682" name="Rectangle 9"/>
            <p:cNvSpPr/>
            <p:nvPr/>
          </p:nvSpPr>
          <p:spPr>
            <a:xfrm rot="20640000">
              <a:off x="11432520" y="-1074600"/>
              <a:ext cx="511920" cy="688032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10"/>
            <p:cNvSpPr/>
            <p:nvPr/>
          </p:nvSpPr>
          <p:spPr>
            <a:xfrm rot="20640000">
              <a:off x="11298240" y="-1004760"/>
              <a:ext cx="512280" cy="6880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Group 11"/>
          <p:cNvGrpSpPr/>
          <p:nvPr/>
        </p:nvGrpSpPr>
        <p:grpSpPr>
          <a:xfrm>
            <a:off x="10347480" y="-188280"/>
            <a:ext cx="2143800" cy="6739560"/>
            <a:chOff x="10347480" y="-188280"/>
            <a:chExt cx="2143800" cy="6739560"/>
          </a:xfrm>
        </p:grpSpPr>
        <p:sp>
          <p:nvSpPr>
            <p:cNvPr id="685" name="Rectangle 12"/>
            <p:cNvSpPr/>
            <p:nvPr/>
          </p:nvSpPr>
          <p:spPr>
            <a:xfrm rot="20640000">
              <a:off x="11344680" y="-293400"/>
              <a:ext cx="202320" cy="688032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Rectangle 13"/>
            <p:cNvSpPr/>
            <p:nvPr/>
          </p:nvSpPr>
          <p:spPr>
            <a:xfrm rot="20640000">
              <a:off x="11291760" y="-223560"/>
              <a:ext cx="202680" cy="6880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7" name="Rectangle 4"/>
          <p:cNvSpPr/>
          <p:nvPr/>
        </p:nvSpPr>
        <p:spPr>
          <a:xfrm>
            <a:off x="-301680" y="-961920"/>
            <a:ext cx="12769920" cy="251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-281160" y="-557280"/>
            <a:ext cx="12769920" cy="9223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-271440" y="423720"/>
            <a:ext cx="12771360" cy="136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-271440" y="1260360"/>
            <a:ext cx="12771360" cy="136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3505320" y="588960"/>
            <a:ext cx="551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Fr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 Box 19"/>
          <p:cNvSpPr/>
          <p:nvPr/>
        </p:nvSpPr>
        <p:spPr>
          <a:xfrm>
            <a:off x="3981960" y="3225960"/>
            <a:ext cx="493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头脑风暴的能力是考验一个团队活力的指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团队沟通需要集思广益，需要放飞自己的思维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没有异样的声音就没有突破，</a:t>
            </a:r>
            <a:r>
              <a:rPr b="0" lang="zh-CN" sz="2400" spc="-1" strike="noStrike">
                <a:solidFill>
                  <a:srgbClr val="336699"/>
                </a:solidFill>
                <a:latin typeface="Arial"/>
                <a:ea typeface="Arial"/>
              </a:rPr>
              <a:t>Free! Free! Fre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4"/>
          <p:cNvSpPr/>
          <p:nvPr/>
        </p:nvSpPr>
        <p:spPr>
          <a:xfrm>
            <a:off x="996840" y="2805120"/>
            <a:ext cx="1019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4f81bd"/>
                </a:solidFill>
                <a:latin typeface="Arial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4000680" y="2798640"/>
            <a:ext cx="62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000" spc="-1" strike="noStrike">
                <a:solidFill>
                  <a:srgbClr val="808080"/>
                </a:solidFill>
                <a:latin typeface="Calibri"/>
              </a:rPr>
              <a:t>Keep your pace to practise and fe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2063880" y="3587760"/>
            <a:ext cx="62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Calibri"/>
              </a:rPr>
              <a:t>All things are possible until they are prov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10"/>
          <p:cNvSpPr/>
          <p:nvPr/>
        </p:nvSpPr>
        <p:spPr>
          <a:xfrm>
            <a:off x="5560920" y="2373480"/>
            <a:ext cx="1068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0" spc="-1" strike="noStrike">
                <a:solidFill>
                  <a:srgbClr val="b2b2b2"/>
                </a:solidFill>
                <a:latin typeface="Calibri"/>
              </a:rPr>
              <a:t>[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5562720" y="2373480"/>
            <a:ext cx="1066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0" spc="-1" strike="noStrike">
                <a:solidFill>
                  <a:srgbClr val="b2b2b2"/>
                </a:solidFill>
                <a:latin typeface="Calibri"/>
              </a:rPr>
              <a:t>]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mph" presetID="2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4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1615 0 E">
                                      <p:cBhvr>
                                        <p:cTn id="221" dur="2000" fill="hold"/>
                                        <p:tgtEl>
                                          <p:spTgt spid="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16823 0 E">
                                      <p:cBhvr>
                                        <p:cTn id="223" dur="2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99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6T07:42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