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B52-7B4A-4C0B-8DFF-130342FD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CC1-A56B-4E6E-954A-E4188D4B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05A-9D21-4D5D-90D7-2E5630BB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6E1-3E2B-45DB-AA56-3889FB07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3389-D3FA-4DBA-A88D-3D3FD3E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1FAD-21EF-4554-AD4A-ADCA0E73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38C4-9E86-460A-A2EB-8E6210D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B5C2-3CD1-48C3-85B4-73A6F888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1AA6-BB7E-41D1-B06C-77950147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EAA-227A-4E72-A4C5-13A66CE5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D231-F656-46E8-86EB-AD7168D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8B7-6B02-4327-9677-62A11D64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145A-34EA-4286-AF77-45C31AD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D6D2-BA31-4E4A-B0C4-A59F9B5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A2C3-4E2B-4081-AC93-09FA94D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4B59-BA78-4804-887C-2E1C4B5F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16C-2063-4DC3-A74F-41B2E739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D90-D196-4FD6-B81F-7DCC8C49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44B-C6AB-4211-B426-8332C9A0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C00-BA49-438E-AE04-E51E6A2F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070-DEA5-43EA-9ED7-9846D40D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930-D422-4101-83D0-9B5AF4C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8A4-ACD4-46CE-AF80-5235DE43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7EC-F2B7-439C-8BB6-B98C616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3F3F-AE96-4764-88F1-853435F326D3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4951-544B-4797-B7FF-60E0665665F3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5532-F490-4EF3-842A-7E4BF487C33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0E93-98A4-4888-A1CE-C19FC11A49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g_blurred_backgrounds_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妩媚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g_blurred_backgrounds_5"/>
          <p:cNvPicPr/>
          <p:nvPr/>
        </p:nvPicPr>
        <p:blipFill>
          <a:blip r:embed="rId1"/>
          <a:srcRect l="0" t="0" r="0" b="79490"/>
          <a:stretch/>
        </p:blipFill>
        <p:spPr>
          <a:xfrm>
            <a:off x="0" y="4778280"/>
            <a:ext cx="89996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640" y="240840"/>
            <a:ext cx="67867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63640" y="1403280"/>
            <a:ext cx="67867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g_blurred_backgrounds_5"/>
          <p:cNvPicPr/>
          <p:nvPr/>
        </p:nvPicPr>
        <p:blipFill>
          <a:blip r:embed="rId1"/>
          <a:srcRect l="52658" t="0" r="29523" b="0"/>
          <a:stretch/>
        </p:blipFill>
        <p:spPr>
          <a:xfrm>
            <a:off x="0" y="3240"/>
            <a:ext cx="1603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4384800" y="1990800"/>
            <a:ext cx="10587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467160" y="3392640"/>
            <a:ext cx="1587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041640" y="1990800"/>
            <a:ext cx="1060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2638440" y="117936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19625" y="14829"/>
                </a:moveTo>
                <a:cubicBezTo>
                  <a:pt x="20203" y="13564"/>
                  <a:pt x="20502" y="12190"/>
                  <a:pt x="20502" y="10800"/>
                </a:cubicBezTo>
                <a:cubicBezTo>
                  <a:pt x="20502" y="5441"/>
                  <a:pt x="16158" y="1098"/>
                  <a:pt x="10800" y="1098"/>
                </a:cubicBezTo>
                <a:cubicBezTo>
                  <a:pt x="10799" y="1098"/>
                  <a:pt x="10798" y="1098"/>
                  <a:pt x="10798" y="1098"/>
                </a:cubicBezTo>
                <a:lnTo>
                  <a:pt x="10798" y="0"/>
                </a:lnTo>
                <a:cubicBezTo>
                  <a:pt x="10798" y="0"/>
                  <a:pt x="10799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347"/>
                  <a:pt x="21267" y="13877"/>
                  <a:pt x="20624" y="15285"/>
                </a:cubicBezTo>
                <a:lnTo>
                  <a:pt x="23080" y="16407"/>
                </a:lnTo>
                <a:lnTo>
                  <a:pt x="18775" y="18012"/>
                </a:lnTo>
                <a:lnTo>
                  <a:pt x="17169" y="13708"/>
                </a:lnTo>
                <a:lnTo>
                  <a:pt x="19625" y="14829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2576520" y="1284120"/>
            <a:ext cx="3332160" cy="3332160"/>
          </a:xfrm>
          <a:custGeom>
            <a:avLst/>
            <a:gdLst>
              <a:gd name="textAreaLeft" fmla="*/ 487800 w 3332160"/>
              <a:gd name="textAreaRight" fmla="*/ 2844360 w 333216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2898" y="16429"/>
                </a:moveTo>
                <a:cubicBezTo>
                  <a:pt x="4718" y="18984"/>
                  <a:pt x="7662" y="20502"/>
                  <a:pt x="10800" y="20502"/>
                </a:cubicBezTo>
                <a:cubicBezTo>
                  <a:pt x="14265" y="20502"/>
                  <a:pt x="17468" y="18653"/>
                  <a:pt x="19201" y="15652"/>
                </a:cubicBezTo>
                <a:lnTo>
                  <a:pt x="20152" y="16201"/>
                </a:lnTo>
                <a:cubicBezTo>
                  <a:pt x="18222" y="19542"/>
                  <a:pt x="14657" y="21600"/>
                  <a:pt x="10800" y="21600"/>
                </a:cubicBezTo>
                <a:cubicBezTo>
                  <a:pt x="7307" y="21600"/>
                  <a:pt x="4030" y="19911"/>
                  <a:pt x="2003" y="17066"/>
                </a:cubicBezTo>
                <a:lnTo>
                  <a:pt x="-196" y="18633"/>
                </a:lnTo>
                <a:lnTo>
                  <a:pt x="565" y="14102"/>
                </a:lnTo>
                <a:lnTo>
                  <a:pt x="5097" y="14862"/>
                </a:lnTo>
                <a:lnTo>
                  <a:pt x="2898" y="16429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2514600" y="1179360"/>
            <a:ext cx="3333600" cy="3332160"/>
          </a:xfrm>
          <a:custGeom>
            <a:avLst/>
            <a:gdLst>
              <a:gd name="textAreaLeft" fmla="*/ 488160 w 3333600"/>
              <a:gd name="textAreaRight" fmla="*/ 2845440 w 3333600"/>
              <a:gd name="textAreaTop" fmla="*/ 487800 h 3332160"/>
              <a:gd name="textAreaBottom" fmla="*/ 2844360 h 3332160"/>
            </a:gdLst>
            <a:ahLst/>
            <a:rect l="textAreaLeft" t="textAreaTop" r="textAreaRight" b="textAreaBottom"/>
            <a:pathLst>
              <a:path w="21600" h="21600">
                <a:moveTo>
                  <a:pt x="9878" y="1141"/>
                </a:moveTo>
                <a:cubicBezTo>
                  <a:pt x="4899" y="1616"/>
                  <a:pt x="1098" y="5798"/>
                  <a:pt x="1098" y="10800"/>
                </a:cubicBezTo>
                <a:cubicBezTo>
                  <a:pt x="1098" y="12503"/>
                  <a:pt x="1546" y="14176"/>
                  <a:pt x="2397" y="15651"/>
                </a:cubicBezTo>
                <a:lnTo>
                  <a:pt x="1446" y="16200"/>
                </a:lnTo>
                <a:cubicBezTo>
                  <a:pt x="499" y="14558"/>
                  <a:pt x="0" y="12695"/>
                  <a:pt x="0" y="10800"/>
                </a:cubicBezTo>
                <a:cubicBezTo>
                  <a:pt x="0" y="5232"/>
                  <a:pt x="4232" y="577"/>
                  <a:pt x="9774" y="48"/>
                </a:cubicBezTo>
                <a:lnTo>
                  <a:pt x="9517" y="-2639"/>
                </a:lnTo>
                <a:lnTo>
                  <a:pt x="13060" y="286"/>
                </a:lnTo>
                <a:lnTo>
                  <a:pt x="10135" y="3829"/>
                </a:lnTo>
                <a:lnTo>
                  <a:pt x="9878" y="1141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 rot="5400000">
            <a:off x="910440" y="147960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16000" y="175248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66760" y="132084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 rot="5400000">
            <a:off x="911160" y="2680560"/>
            <a:ext cx="1359000" cy="95076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116000" y="2952720"/>
            <a:ext cx="95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066760" y="251928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 rot="5400000">
            <a:off x="910440" y="387684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116000" y="414972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066760" y="3718080"/>
            <a:ext cx="58374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rmAutofit fontScale="91000"/>
          </a:bodyPr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259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wg_blurred_backgrounds_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10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1T07:38:50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