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E3D-FEB6-4C8E-8E8D-D5AA0A65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AE2-EACC-4DF2-98FA-1F4228B4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40560-E89E-44FD-BFDE-0AC9CD5B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8E462-3F87-4CA5-A53D-68B7D02F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8AB0E-0D39-4E98-B693-F43577D1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E1C7A-6352-48A8-9DF1-6C04ED5C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13795-AE5B-4187-80B5-19C6B825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71713-25B3-44CF-A1C7-E498D257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2A9B6-E2CF-4D7E-81EB-0387A10D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C0D74-D211-4B22-8FE1-D6185F41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C164A-F874-4152-8B99-0B2F4C8A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2A8E2-A389-457E-B19B-F5E5BFBF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759-B2A0-4A75-8345-5D031869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00174-6DF0-4C8B-92F0-8B4909A7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BADCD-002F-4E4B-A3C9-B457B410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762A0-742A-4F00-B2D9-AB6DCAF2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E87BE-1F57-4AED-B10D-9200DE11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75224-019F-411C-A1DC-84F12BD3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1456A-5705-4768-9B3E-9BF8863C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04A1B-5B95-406E-9694-A45B8AF3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8775C-28E3-4D41-A090-B2ADE0D8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D47B9-AFCC-4262-B4DE-DAA7C0B5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8CE9D-B2D9-4672-927A-9ADD82D6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C9E-369C-4214-AF89-C8C3B29A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D63FA-D67F-468C-B8FC-68AEAA8C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1EA80-C700-4AE7-8AB5-34425486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6ACC6-481C-4B53-BE9E-363930AD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04D0E-E4DC-4515-8525-657F18E0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631DB-9782-4165-82F8-635EA3F5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B5C2D-3899-4379-BC19-14D44CC6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3C794-F6D5-43BE-A99A-9CB14A57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4C646-0390-4BCE-A04A-324A9096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356D8-F68F-4394-A8C3-B8CE5FDD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B4AAB-D845-40DB-9B13-ECAAC002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EE87-3E47-43D3-AE28-A77EF16B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E2EB5-74BA-41C6-A185-FBAC7F78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E7CFF-DF4C-4F30-B10B-28A3D734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4F50D-B46A-4DCD-ADB4-C1252EE4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9941B-A68C-4379-A508-4B0C22E3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C1EA6-636B-4125-BD88-DE8E65F1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7BBB5-DFBC-4793-9911-05600738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564C3-F69E-43AD-99C0-1B2E4DC6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F6D9E-3F10-48D1-A541-669547A5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FC22D-1247-4B44-B67E-88E18CE6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49FBC-FAFC-48B9-B055-F4781D46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A4D3-171C-47FF-B6A2-D1C19411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FB3EA-E700-46D0-840C-00D08BEE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DC686-099D-4CD3-BE84-4028A894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63350-BE91-4AC7-8018-11EB0688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D6A4B-A49D-4A3D-857C-915E69C2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356DD-7EF4-4101-9C38-EC3B0891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6FB00-A41A-4859-9A33-46BEF56A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9F689-74A2-42DE-A16D-2EFE7D6B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71094-3F86-46CD-8408-F025AE34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D1589-E375-4BFB-B1F3-1EBC17BF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7DC53-0502-4601-952A-E06E8284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E09D-89F0-4AD1-B4DE-FD782CBA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143D4-F9D0-4488-A8AD-5933DC66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BE369-65F9-4496-AE9F-F4835148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806F0-7600-4D3B-B956-CB4DCF6E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27D01-2050-41DD-B3D6-74003952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C4E07-9EEC-482F-8021-054603A4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5EA26-C4DB-49DF-8D6C-6EF06403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7AB9F-7F76-4302-8EAD-9DFC12F1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7BBA50-7C23-4794-8E02-24975626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875B18-9DA3-40CE-A5D6-A52AD703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E0CD7-4773-4158-82F3-82AFC06D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4210-3632-4901-9C4A-1AE7105C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E20C24-F521-45FF-9A0B-6E8C7407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1AACE-9D15-4E52-ABFA-E920523C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5FFA0-FE7E-4653-A17E-B8E68C84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61801-B82F-4295-AFF6-421FCFE9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139F8-9883-4926-8BB8-8995CA9B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F4608C-C6FA-4954-A6DD-B70F0EDE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7FD975-E77A-41CC-A1E6-52CD8AED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2E46BF-5041-4D14-A5D4-51D4F542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ABE39-7495-4A4E-913E-4A3CBDD6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B1A8-4FF8-484E-852B-EFB541EE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8ADA-F932-407E-BFFE-46405625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BDAA-5E03-408A-A56F-B4382E0E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B8C0-019E-4325-96CA-8B401DE2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8685-3431-44F0-8873-DCE603F5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B1DF-BBFD-4EAC-8A91-17D09522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4425-7155-43B5-B289-DF8A3051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2C55-8AF0-458C-9A2D-0B66828E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62CB-F61D-4B13-BE9F-9C4B3FE9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B1E-BD32-4CF5-A976-87BFA68C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DF8FB-EBE5-4A16-AB93-9C1E98EE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6D47-6373-4D03-A048-9F28D5D0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0E977-EBAD-4DA5-BF1A-6301D20C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245-5217-4C13-809C-DCA68F3C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F360A-B908-478F-A0CE-C5FCF0E3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0D677-6375-431B-BEBF-6F064C88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6EBA7-A215-47B6-88C7-AE6AD21E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62D3D-B007-436B-A25B-1102AEDF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E5E18-9E1A-4B67-960A-D7610C64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9FEB8-CBEF-489D-893C-635540C9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459C6-B694-4A49-8BBD-30941447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E607A-248F-4285-8FAE-F7B8CE1D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B3110-B984-4EC1-BB36-79A5E55F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12ED8-95A5-4E55-BE0E-BB0FA095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625D-2603-4A80-8EEE-3A0A1541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D47A8-485A-46A6-B717-D8DF1668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2BBE9-6849-412B-8939-164182AF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4F1BD-38DD-4187-AA68-49D17FD6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7C0FD-88A1-4549-93F7-D09F9162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178F6-10FA-48E3-87A5-9DD0C310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0FFC8-CE5C-42BB-B266-7974D2CC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CEE56-B7C6-4F55-BD61-53407667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94D97-0DB2-454F-9664-B4E5A7C4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D1444-3C7F-4CEB-9F7D-B00D833E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0B3E0-C504-4574-B149-A9FF80FC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2711-3139-4B11-A828-02A7FD14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7AFFE-D6D2-42E9-93B2-DBFF4128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2675E-1147-43D6-BB7B-71F7DCC5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C13DE-9211-4B01-B6A8-CF54977C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9BE30-8A72-443F-9613-FEED8290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9AF83-F406-4377-926F-C54CDAA4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0B2C5-DE0A-4068-AA21-37B58AF1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0E4D0-771A-443F-8FC1-ADAD4AFF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6E24C-085B-4B1F-A31B-E35F4DAB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4172C-7BA3-40B3-9B36-9D7A4013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E92B0-23E1-405D-86D1-6BFEE3BA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3FE8-157E-469E-AEDC-AF212E5B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F22DD-8F07-4D08-B0F0-9A083A29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3DA37-AF55-4173-B0BA-60F91944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2D699-161C-41C0-A5C0-CE5A61F6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5F011-C3AD-40DF-AA7F-62024EDD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5C250-E9E1-440B-B748-511C8EE5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46030-AAB0-49F8-A1BD-73DF8F81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08565-3A45-4A97-8631-98766625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BC647-32FE-4991-AFC7-5DD44EC8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C4C36-20DB-4E1B-910D-BD182603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A7C99-45FA-466F-8F05-2449AEA8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4F49-6741-40AA-A062-7CFD590B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B270A-E22E-4EA4-8ABB-3D1109AC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CB8BD-DF0C-4EF6-BB13-11A2B305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AAC6D-087D-4437-B545-A3BF51EC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DF4B9-5471-4093-BC6B-2346D753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0DFA8-A7D2-42B3-BB1F-0B6AA4D4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D2817-F55C-483A-95E7-3AE76FE8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61264-7AD1-4E64-A79D-4D18555F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021B7-201B-482E-B5FD-E7DE4D6C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FF12D-F2D8-43C0-A574-3FF0AAEF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DB742-DD23-4785-A67C-DA903932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E40-6153-430B-ADDF-71B3DB27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446E8-D158-4DBB-A316-D957E0BD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552D5-9C2B-4DB1-BF73-440D0704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B1E42-F5F9-4344-ADC2-BB61BD6E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775C3-4E01-42D5-AA92-B0B62D19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C6E4D-F648-436E-A2F6-33EAF48F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DA030-D0E1-4270-9088-4425701A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C9F23-2899-46CC-8166-1F42AD06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47D72-ACEC-4FAD-BDCA-1EE7D541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603EE-17C7-4622-85F4-027F2F07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3BD05-D24B-4B58-80D2-D938AC9B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55D1-2DC1-46C0-AD18-AB235034407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E3EA-686E-4E5A-B7CD-AE40526C1E3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B9BC-9840-4127-8D3A-8B035B3B4B39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2923-7CDA-4518-94BF-8129C9BD5FBA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59EE-7B18-494D-B9B8-79115A56A092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864E-849A-4724-A4D2-1387E487A1B2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3EC8-70BF-4575-A7FE-3CCD545F2505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FB13-CE79-4266-AA1D-97C15AE4EECE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560A-DC38-4A19-8A9C-F83393CB1EA2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8C8F-0DC3-41BE-BF62-21EC4766A5E2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0E12-EE31-4CB3-BA24-6EC89F23EBA5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8C1D-4DC9-4B1C-88B0-7B87EB69D27A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1192-32C8-4577-AD6D-0FE72A34092D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18DC-036E-4D2C-801E-0B120953337B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B153-B6E6-4FAF-8EFD-17E149B6417C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0BFE-2F16-43ED-AB8D-1F04767A2758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FDE1-1E95-476D-8234-E267DF8C6E6C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51FA-4BF7-4E2D-863D-7DA6AEDA9AAF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39A4-73A1-4B5F-94A7-CC1B406A5DC4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6555-F0AA-43D2-998F-88988F83D494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BE70-4F55-40BD-A786-AE4E054A5FD4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234A-08DC-4A87-AA47-C1AF624F93A5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0EC8-B0CF-4FAF-ADD1-D66C3CD150B4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43D4-B172-47C9-901F-1EB462D8AE4B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9769-2F36-44D5-B150-10F0A74DCD28}" type="datetime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E110-EA00-4FED-8BDA-E13C4F4FC13A}" type="slidenum"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49080" y="1488600"/>
            <a:ext cx="587844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Calibri"/>
              </a:rPr>
              <a:t>紫色典雅型</a:t>
            </a:r>
            <a:r>
              <a:rPr b="1" lang="zh-CN" sz="4800" spc="-1" strike="noStrike">
                <a:solidFill>
                  <a:srgbClr val="660066"/>
                </a:solidFill>
                <a:latin typeface="Calibri"/>
              </a:rPr>
              <a:t>PPT</a:t>
            </a:r>
            <a:r>
              <a:rPr b="1" lang="zh-CN" sz="4800" spc="-1" strike="noStrike">
                <a:solidFill>
                  <a:srgbClr val="660066"/>
                </a:solidFill>
                <a:latin typeface="Calibri"/>
              </a:rPr>
              <a:t>模板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Oval 3"/>
          <p:cNvSpPr/>
          <p:nvPr/>
        </p:nvSpPr>
        <p:spPr>
          <a:xfrm>
            <a:off x="7032600" y="3951360"/>
            <a:ext cx="1509840" cy="1512720"/>
          </a:xfrm>
          <a:prstGeom prst="ellipse">
            <a:avLst/>
          </a:prstGeom>
          <a:solidFill>
            <a:srgbClr val="660066">
              <a:alpha val="20000"/>
            </a:srgbClr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4"/>
          <p:cNvSpPr/>
          <p:nvPr/>
        </p:nvSpPr>
        <p:spPr>
          <a:xfrm>
            <a:off x="6456240" y="3951360"/>
            <a:ext cx="971640" cy="973080"/>
          </a:xfrm>
          <a:prstGeom prst="ellipse">
            <a:avLst/>
          </a:prstGeom>
          <a:solidFill>
            <a:srgbClr val="660066">
              <a:alpha val="20000"/>
            </a:srgbClr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5"/>
          <p:cNvSpPr/>
          <p:nvPr/>
        </p:nvSpPr>
        <p:spPr>
          <a:xfrm>
            <a:off x="8156520" y="4692600"/>
            <a:ext cx="771480" cy="771480"/>
          </a:xfrm>
          <a:prstGeom prst="ellipse">
            <a:avLst/>
          </a:prstGeom>
          <a:solidFill>
            <a:srgbClr val="660066">
              <a:alpha val="20000"/>
            </a:srgbClr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6"/>
          <p:cNvSpPr/>
          <p:nvPr/>
        </p:nvSpPr>
        <p:spPr>
          <a:xfrm rot="20940000">
            <a:off x="-393480" y="-523440"/>
            <a:ext cx="1506600" cy="1509480"/>
          </a:xfrm>
          <a:prstGeom prst="ellipse">
            <a:avLst/>
          </a:prstGeom>
          <a:solidFill>
            <a:srgbClr val="660066">
              <a:alpha val="20000"/>
            </a:srgbClr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7"/>
          <p:cNvSpPr/>
          <p:nvPr/>
        </p:nvSpPr>
        <p:spPr>
          <a:xfrm rot="20940000">
            <a:off x="799920" y="-307800"/>
            <a:ext cx="771480" cy="768240"/>
          </a:xfrm>
          <a:prstGeom prst="ellipse">
            <a:avLst/>
          </a:prstGeom>
          <a:solidFill>
            <a:srgbClr val="660066">
              <a:alpha val="20000"/>
            </a:srgbClr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日期占位符 3"/>
          <p:cNvSpPr/>
          <p:nvPr/>
        </p:nvSpPr>
        <p:spPr>
          <a:xfrm>
            <a:off x="45720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6B2A-A01D-4F64-A1CA-116C6699775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2"/>
          <p:cNvGrpSpPr/>
          <p:nvPr/>
        </p:nvGrpSpPr>
        <p:grpSpPr>
          <a:xfrm>
            <a:off x="1538280" y="1057320"/>
            <a:ext cx="6058080" cy="3332160"/>
            <a:chOff x="1538280" y="1057320"/>
            <a:chExt cx="6058080" cy="3332160"/>
          </a:xfrm>
        </p:grpSpPr>
        <p:sp>
          <p:nvSpPr>
            <p:cNvPr id="579" name="Rectangle 4"/>
            <p:cNvSpPr/>
            <p:nvPr/>
          </p:nvSpPr>
          <p:spPr>
            <a:xfrm>
              <a:off x="4815000" y="1844280"/>
              <a:ext cx="18568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文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6"/>
            <p:cNvSpPr/>
            <p:nvPr/>
          </p:nvSpPr>
          <p:spPr>
            <a:xfrm>
              <a:off x="3205440" y="3202560"/>
              <a:ext cx="278532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文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8"/>
            <p:cNvSpPr/>
            <p:nvPr/>
          </p:nvSpPr>
          <p:spPr>
            <a:xfrm>
              <a:off x="2462760" y="1844280"/>
              <a:ext cx="18568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文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AutoShape 9"/>
            <p:cNvSpPr/>
            <p:nvPr/>
          </p:nvSpPr>
          <p:spPr>
            <a:xfrm>
              <a:off x="1753200" y="1057320"/>
              <a:ext cx="5843160" cy="3229920"/>
            </a:xfrm>
            <a:custGeom>
              <a:avLst/>
              <a:gdLst>
                <a:gd name="textAreaLeft" fmla="*/ 855360 w 5843160"/>
                <a:gd name="textAreaRight" fmla="*/ 4987800 w 5843160"/>
                <a:gd name="textAreaTop" fmla="*/ 472680 h 3229920"/>
                <a:gd name="textAreaBottom" fmla="*/ 2757240 h 3229920"/>
              </a:gdLst>
              <a:ahLst/>
              <a:rect l="textAreaLeft" t="textAreaTop" r="textAreaRight" b="textAreaBottom"/>
              <a:pathLst>
                <a:path w="23080" h="18012">
                  <a:moveTo>
                    <a:pt x="19625" y="14829"/>
                  </a:moveTo>
                  <a:cubicBezTo>
                    <a:pt x="20203" y="13564"/>
                    <a:pt x="20502" y="12190"/>
                    <a:pt x="20502" y="10800"/>
                  </a:cubicBezTo>
                  <a:cubicBezTo>
                    <a:pt x="20502" y="5441"/>
                    <a:pt x="16158" y="1098"/>
                    <a:pt x="10800" y="1098"/>
                  </a:cubicBezTo>
                  <a:cubicBezTo>
                    <a:pt x="10799" y="1098"/>
                    <a:pt x="10798" y="1098"/>
                    <a:pt x="10798" y="1098"/>
                  </a:cubicBezTo>
                  <a:lnTo>
                    <a:pt x="10798" y="0"/>
                  </a:lnTo>
                  <a:cubicBezTo>
                    <a:pt x="10798" y="0"/>
                    <a:pt x="10799" y="0"/>
                    <a:pt x="10799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2347"/>
                    <a:pt x="21267" y="13877"/>
                    <a:pt x="20624" y="15285"/>
                  </a:cubicBezTo>
                  <a:lnTo>
                    <a:pt x="23080" y="16407"/>
                  </a:lnTo>
                  <a:lnTo>
                    <a:pt x="18775" y="18012"/>
                  </a:lnTo>
                  <a:lnTo>
                    <a:pt x="17169" y="13708"/>
                  </a:lnTo>
                  <a:lnTo>
                    <a:pt x="19625" y="14829"/>
                  </a:lnTo>
                  <a:close/>
                </a:path>
              </a:pathLst>
            </a:custGeom>
            <a:solidFill>
              <a:srgbClr val="b0bfd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1645560" y="1159560"/>
              <a:ext cx="5843160" cy="3229920"/>
            </a:xfrm>
            <a:custGeom>
              <a:avLst/>
              <a:gdLst>
                <a:gd name="textAreaLeft" fmla="*/ 855360 w 5843160"/>
                <a:gd name="textAreaRight" fmla="*/ 4987800 w 5843160"/>
                <a:gd name="textAreaTop" fmla="*/ 472680 h 3229920"/>
                <a:gd name="textAreaBottom" fmla="*/ 2757240 h 3229920"/>
              </a:gdLst>
              <a:ahLst/>
              <a:rect l="textAreaLeft" t="textAreaTop" r="textAreaRight" b="textAreaBottom"/>
              <a:pathLst>
                <a:path w="20348" h="21600">
                  <a:moveTo>
                    <a:pt x="2898" y="16429"/>
                  </a:moveTo>
                  <a:cubicBezTo>
                    <a:pt x="4718" y="18984"/>
                    <a:pt x="7662" y="20502"/>
                    <a:pt x="10800" y="20502"/>
                  </a:cubicBezTo>
                  <a:cubicBezTo>
                    <a:pt x="14265" y="20502"/>
                    <a:pt x="17468" y="18653"/>
                    <a:pt x="19201" y="15652"/>
                  </a:cubicBezTo>
                  <a:lnTo>
                    <a:pt x="20152" y="16201"/>
                  </a:lnTo>
                  <a:cubicBezTo>
                    <a:pt x="18222" y="19542"/>
                    <a:pt x="14657" y="21600"/>
                    <a:pt x="10800" y="21600"/>
                  </a:cubicBezTo>
                  <a:cubicBezTo>
                    <a:pt x="7307" y="21600"/>
                    <a:pt x="4030" y="19911"/>
                    <a:pt x="2003" y="17066"/>
                  </a:cubicBezTo>
                  <a:lnTo>
                    <a:pt x="-196" y="18633"/>
                  </a:lnTo>
                  <a:lnTo>
                    <a:pt x="565" y="14102"/>
                  </a:lnTo>
                  <a:lnTo>
                    <a:pt x="5097" y="14862"/>
                  </a:lnTo>
                  <a:lnTo>
                    <a:pt x="2898" y="16429"/>
                  </a:lnTo>
                  <a:close/>
                </a:path>
              </a:pathLst>
            </a:custGeom>
            <a:solidFill>
              <a:srgbClr val="b0bfd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utoShape 11"/>
            <p:cNvSpPr/>
            <p:nvPr/>
          </p:nvSpPr>
          <p:spPr>
            <a:xfrm>
              <a:off x="1538280" y="1057320"/>
              <a:ext cx="5843160" cy="3229920"/>
            </a:xfrm>
            <a:custGeom>
              <a:avLst/>
              <a:gdLst>
                <a:gd name="textAreaLeft" fmla="*/ 855360 w 5843160"/>
                <a:gd name="textAreaRight" fmla="*/ 4987800 w 5843160"/>
                <a:gd name="textAreaTop" fmla="*/ 472680 h 3229920"/>
                <a:gd name="textAreaBottom" fmla="*/ 2757240 h 3229920"/>
              </a:gdLst>
              <a:ahLst/>
              <a:rect l="textAreaLeft" t="textAreaTop" r="textAreaRight" b="textAreaBottom"/>
              <a:pathLst>
                <a:path w="13060" h="18839">
                  <a:moveTo>
                    <a:pt x="9878" y="1141"/>
                  </a:moveTo>
                  <a:cubicBezTo>
                    <a:pt x="4899" y="1616"/>
                    <a:pt x="1098" y="5798"/>
                    <a:pt x="1098" y="10800"/>
                  </a:cubicBezTo>
                  <a:cubicBezTo>
                    <a:pt x="1098" y="12503"/>
                    <a:pt x="1546" y="14176"/>
                    <a:pt x="2397" y="15651"/>
                  </a:cubicBezTo>
                  <a:lnTo>
                    <a:pt x="1446" y="16200"/>
                  </a:lnTo>
                  <a:cubicBezTo>
                    <a:pt x="499" y="14558"/>
                    <a:pt x="0" y="12695"/>
                    <a:pt x="0" y="10800"/>
                  </a:cubicBezTo>
                  <a:cubicBezTo>
                    <a:pt x="0" y="5232"/>
                    <a:pt x="4232" y="577"/>
                    <a:pt x="9774" y="48"/>
                  </a:cubicBezTo>
                  <a:lnTo>
                    <a:pt x="9517" y="-2639"/>
                  </a:lnTo>
                  <a:lnTo>
                    <a:pt x="13060" y="286"/>
                  </a:lnTo>
                  <a:lnTo>
                    <a:pt x="10135" y="3829"/>
                  </a:lnTo>
                  <a:lnTo>
                    <a:pt x="9878" y="1141"/>
                  </a:lnTo>
                  <a:close/>
                </a:path>
              </a:pathLst>
            </a:custGeom>
            <a:solidFill>
              <a:srgbClr val="b0bfd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日期占位符 3"/>
          <p:cNvSpPr/>
          <p:nvPr/>
        </p:nvSpPr>
        <p:spPr>
          <a:xfrm>
            <a:off x="45720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133A-0432-4FBE-8950-02C0C8823C7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Calibri"/>
              </a:rPr>
              <a:t>标题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Calibri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日期占位符 3"/>
          <p:cNvSpPr/>
          <p:nvPr/>
        </p:nvSpPr>
        <p:spPr>
          <a:xfrm>
            <a:off x="45720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14CB-823E-4274-B326-FF7C0493BD1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187280" y="1574640"/>
          <a:ext cx="6851520" cy="3127320"/>
        </p:xfrm>
        <a:graphic>
          <a:graphicData uri="http://schemas.openxmlformats.org/drawingml/2006/table">
            <a:tbl>
              <a:tblPr/>
              <a:tblGrid>
                <a:gridCol w="1141560"/>
                <a:gridCol w="1141200"/>
                <a:gridCol w="1141560"/>
                <a:gridCol w="1141200"/>
                <a:gridCol w="1141560"/>
                <a:gridCol w="1144440"/>
              </a:tblGrid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0066"/>
                      </a:solidFill>
                    </a:lnL>
                    <a:lnR w="1440">
                      <a:solidFill>
                        <a:srgbClr val="660066"/>
                      </a:solidFill>
                    </a:lnR>
                    <a:lnT w="1440">
                      <a:solidFill>
                        <a:srgbClr val="660066"/>
                      </a:solidFill>
                    </a:lnT>
                    <a:lnB w="1440">
                      <a:solidFill>
                        <a:srgbClr val="660066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590" name="Text Box 54"/>
          <p:cNvSpPr/>
          <p:nvPr/>
        </p:nvSpPr>
        <p:spPr>
          <a:xfrm>
            <a:off x="1411560" y="593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Arial"/>
                <a:ea typeface="微软雅黑"/>
              </a:rPr>
              <a:t>相关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日期占位符 3"/>
          <p:cNvSpPr/>
          <p:nvPr/>
        </p:nvSpPr>
        <p:spPr>
          <a:xfrm>
            <a:off x="45720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D153-A95C-4D9D-AAFF-B3D26CC0D21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"/>
          <p:cNvSpPr/>
          <p:nvPr/>
        </p:nvSpPr>
        <p:spPr>
          <a:xfrm>
            <a:off x="3492360" y="1128600"/>
            <a:ext cx="0" cy="2376720"/>
          </a:xfrm>
          <a:prstGeom prst="line">
            <a:avLst/>
          </a:prstGeom>
          <a:ln w="63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5435640" y="1128600"/>
            <a:ext cx="0" cy="2376720"/>
          </a:xfrm>
          <a:prstGeom prst="line">
            <a:avLst/>
          </a:prstGeom>
          <a:ln w="63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3987360" y="13446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66"/>
                </a:solidFill>
                <a:latin typeface="Estrangelo Edessa"/>
                <a:ea typeface="微软雅黑"/>
              </a:rPr>
              <a:t>谢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3987360" y="22971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66"/>
                </a:solidFill>
                <a:latin typeface="Estrangelo Edessa"/>
                <a:ea typeface="微软雅黑"/>
              </a:rPr>
              <a:t>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6"/>
          <p:cNvSpPr/>
          <p:nvPr/>
        </p:nvSpPr>
        <p:spPr>
          <a:xfrm>
            <a:off x="7032600" y="3951360"/>
            <a:ext cx="1509840" cy="1512720"/>
          </a:xfrm>
          <a:prstGeom prst="ellipse">
            <a:avLst/>
          </a:prstGeom>
          <a:solidFill>
            <a:srgbClr val="660066">
              <a:alpha val="20000"/>
            </a:srgbClr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7"/>
          <p:cNvSpPr/>
          <p:nvPr/>
        </p:nvSpPr>
        <p:spPr>
          <a:xfrm>
            <a:off x="6456240" y="3951360"/>
            <a:ext cx="971640" cy="973080"/>
          </a:xfrm>
          <a:prstGeom prst="ellipse">
            <a:avLst/>
          </a:prstGeom>
          <a:solidFill>
            <a:srgbClr val="660066">
              <a:alpha val="20000"/>
            </a:srgbClr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8"/>
          <p:cNvSpPr/>
          <p:nvPr/>
        </p:nvSpPr>
        <p:spPr>
          <a:xfrm>
            <a:off x="8156520" y="4692600"/>
            <a:ext cx="771480" cy="771480"/>
          </a:xfrm>
          <a:prstGeom prst="ellipse">
            <a:avLst/>
          </a:prstGeom>
          <a:solidFill>
            <a:srgbClr val="660066">
              <a:alpha val="20000"/>
            </a:srgbClr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600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Box 7"/>
            <p:cNvSpPr/>
            <p:nvPr/>
          </p:nvSpPr>
          <p:spPr>
            <a:xfrm rot="20926800">
              <a:off x="2360160" y="2964960"/>
              <a:ext cx="388980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9:30:48Z</dcterms:created>
  <dc:creator>yellownancy</dc:creator>
  <dc:description/>
  <dc:language>en-US</dc:language>
  <cp:lastModifiedBy>a</cp:lastModifiedBy>
  <dcterms:modified xsi:type="dcterms:W3CDTF">2015-01-14T17:15:43Z</dcterms:modified>
  <cp:revision>1</cp:revision>
  <dc:subject/>
  <dc:title>紫色典雅型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