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785-7825-40DA-88C0-7EC9D58C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ABB-3986-4F5B-9B9D-B74B0311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2F0-6039-479B-9A45-C58FE3C8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5AC-E911-4BF0-AE85-7433739A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DE4C-3008-4856-941A-D41489AB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A757-3D83-4E50-BBB2-194165DC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C854-0AEA-452D-8AB9-7231598E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3355-CDE1-48CD-8DC8-B2B946EE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75DD-9601-4D69-9EC8-D70B8808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4D97-016E-4F6E-8056-AD130069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053D-CFE2-412D-A342-3A68E68C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657-17CA-48E1-BD09-876A079D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0B0B-7713-4C81-9A8C-BB95A291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166C-8212-4AC2-B808-92B090A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F0F3-75E4-4E24-AB35-F8D98283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5E3F-535A-489A-A6BB-B3E69E07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53B3-E600-4BC9-B2D7-4F9A61F1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5F7-9185-4976-AC92-B1D21730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6D8-3DD8-46D5-A729-A9206436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84A-7B3F-4613-9B00-FF8490EF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A80-532D-430A-A69C-6621235E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031-D2FF-4877-A7FE-07A13AB1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EB6-4605-45C2-8758-1795FB87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C7E-2869-46CD-A0D6-14B67B5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1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0FEF-4273-4C88-9A78-21DC2079AD7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978D-96D8-45DE-BC33-9C1B8ED640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F12A-EFD7-4250-AF7C-047082FB08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0943-2ADB-4A52-9427-B18EE9213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9"/>
          <p:cNvSpPr/>
          <p:nvPr/>
        </p:nvSpPr>
        <p:spPr>
          <a:xfrm flipH="1">
            <a:off x="358920" y="2133720"/>
            <a:ext cx="1620720" cy="143964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8"/>
          <p:cNvSpPr/>
          <p:nvPr/>
        </p:nvSpPr>
        <p:spPr>
          <a:xfrm flipH="1">
            <a:off x="358920" y="4508640"/>
            <a:ext cx="1620720" cy="144144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3"/>
          <p:cNvSpPr/>
          <p:nvPr/>
        </p:nvSpPr>
        <p:spPr>
          <a:xfrm flipH="1">
            <a:off x="3419280" y="333360"/>
            <a:ext cx="3816360" cy="3390840"/>
          </a:xfrm>
          <a:prstGeom prst="line">
            <a:avLst/>
          </a:prstGeom>
          <a:ln w="1396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25"/>
          <p:cNvSpPr/>
          <p:nvPr/>
        </p:nvSpPr>
        <p:spPr>
          <a:xfrm flipH="1">
            <a:off x="3708360" y="2251080"/>
            <a:ext cx="1619280" cy="1440000"/>
          </a:xfrm>
          <a:prstGeom prst="line">
            <a:avLst/>
          </a:prstGeom>
          <a:ln w="3816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26"/>
          <p:cNvSpPr/>
          <p:nvPr/>
        </p:nvSpPr>
        <p:spPr>
          <a:xfrm flipH="1">
            <a:off x="2610000" y="5084640"/>
            <a:ext cx="1619280" cy="1440000"/>
          </a:xfrm>
          <a:prstGeom prst="line">
            <a:avLst/>
          </a:prstGeom>
          <a:ln w="5724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27"/>
          <p:cNvSpPr/>
          <p:nvPr/>
        </p:nvSpPr>
        <p:spPr>
          <a:xfrm flipH="1">
            <a:off x="7164360" y="4365720"/>
            <a:ext cx="1619280" cy="143964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2"/>
          <p:cNvSpPr/>
          <p:nvPr/>
        </p:nvSpPr>
        <p:spPr>
          <a:xfrm>
            <a:off x="1403280" y="836640"/>
            <a:ext cx="5256360" cy="1440000"/>
          </a:xfrm>
          <a:prstGeom prst="roundRect">
            <a:avLst>
              <a:gd name="adj" fmla="val 16667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公司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角三角形 16"/>
          <p:cNvSpPr/>
          <p:nvPr/>
        </p:nvSpPr>
        <p:spPr>
          <a:xfrm rot="16200000">
            <a:off x="5433840" y="1126800"/>
            <a:ext cx="1155600" cy="1295640"/>
          </a:xfrm>
          <a:prstGeom prst="rtTriangle">
            <a:avLst/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7"/>
          <p:cNvSpPr/>
          <p:nvPr/>
        </p:nvSpPr>
        <p:spPr>
          <a:xfrm>
            <a:off x="1403280" y="3429000"/>
            <a:ext cx="6461280" cy="2521080"/>
          </a:xfrm>
          <a:prstGeom prst="roundRect">
            <a:avLst>
              <a:gd name="adj" fmla="val 16667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1c0e"/>
                </a:solidFill>
                <a:latin typeface="微软雅黑"/>
                <a:ea typeface="微软雅黑"/>
              </a:rPr>
              <a:t>作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FE17-282A-40B3-AD89-37ED428F1BDE}" type="datetime5">
              <a:rPr b="1" lang="zh-CN" sz="2400" spc="-1" strike="noStrike">
                <a:solidFill>
                  <a:srgbClr val="331c0e"/>
                </a:solidFill>
                <a:latin typeface="微软雅黑"/>
                <a:ea typeface="微软雅黑"/>
              </a:rPr>
              <a:t>2026.07.28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角三角形 21"/>
          <p:cNvSpPr/>
          <p:nvPr/>
        </p:nvSpPr>
        <p:spPr>
          <a:xfrm rot="5400000">
            <a:off x="1488960" y="3227400"/>
            <a:ext cx="1627200" cy="1944720"/>
          </a:xfrm>
          <a:prstGeom prst="rtTriangle">
            <a:avLst/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对象 1"/>
          <p:cNvSpPr/>
          <p:nvPr/>
        </p:nvSpPr>
        <p:spPr>
          <a:xfrm>
            <a:off x="843120" y="985680"/>
            <a:ext cx="7459560" cy="488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3768840" y="2625840"/>
            <a:ext cx="1606320" cy="1606320"/>
          </a:xfrm>
          <a:prstGeom prst="ellipse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546120" y="2247840"/>
            <a:ext cx="3379680" cy="2362320"/>
          </a:xfrm>
          <a:custGeom>
            <a:avLst/>
            <a:gdLst>
              <a:gd name="textAreaLeft" fmla="*/ 0 w 3379680"/>
              <a:gd name="textAreaRight" fmla="*/ 3380040 w 337968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1" y="0"/>
                </a:lnTo>
                <a:lnTo>
                  <a:pt x="21600" y="10800"/>
                </a:lnTo>
                <a:lnTo>
                  <a:pt x="197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 flipH="1">
            <a:off x="5154480" y="2255760"/>
            <a:ext cx="3378240" cy="2360520"/>
          </a:xfrm>
          <a:custGeom>
            <a:avLst/>
            <a:gdLst>
              <a:gd name="textAreaLeft" fmla="*/ 360 w 3378240"/>
              <a:gd name="textAreaRight" fmla="*/ 3378960 w 337824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1" y="0"/>
                </a:lnTo>
                <a:lnTo>
                  <a:pt x="21600" y="10800"/>
                </a:lnTo>
                <a:lnTo>
                  <a:pt x="197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96880" y="4809960"/>
            <a:ext cx="2995560" cy="533520"/>
          </a:xfrm>
          <a:prstGeom prst="rect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541840" y="4809960"/>
            <a:ext cx="2995560" cy="533520"/>
          </a:xfrm>
          <a:prstGeom prst="rect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96880" y="1495440"/>
            <a:ext cx="2995560" cy="533520"/>
          </a:xfrm>
          <a:prstGeom prst="rect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5504040" y="1495440"/>
            <a:ext cx="2995560" cy="533520"/>
          </a:xfrm>
          <a:prstGeom prst="rect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1c0e"/>
                </a:solidFill>
                <a:latin typeface="微软雅黑"/>
                <a:ea typeface="微软雅黑"/>
              </a:rPr>
              <a:t>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"/>
          <p:cNvSpPr/>
          <p:nvPr/>
        </p:nvSpPr>
        <p:spPr>
          <a:xfrm flipH="1">
            <a:off x="358560" y="1917720"/>
            <a:ext cx="2197080" cy="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3"/>
          <p:cNvSpPr/>
          <p:nvPr/>
        </p:nvSpPr>
        <p:spPr>
          <a:xfrm flipH="1">
            <a:off x="5940360" y="2852640"/>
            <a:ext cx="2772000" cy="180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4"/>
          <p:cNvSpPr/>
          <p:nvPr/>
        </p:nvSpPr>
        <p:spPr>
          <a:xfrm flipH="1">
            <a:off x="358920" y="5084640"/>
            <a:ext cx="8353440" cy="1800"/>
          </a:xfrm>
          <a:prstGeom prst="line">
            <a:avLst/>
          </a:prstGeom>
          <a:ln w="11448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9"/>
          <p:cNvSpPr/>
          <p:nvPr/>
        </p:nvSpPr>
        <p:spPr>
          <a:xfrm flipH="1">
            <a:off x="7740360" y="4797360"/>
            <a:ext cx="971640" cy="0"/>
          </a:xfrm>
          <a:prstGeom prst="line">
            <a:avLst/>
          </a:prstGeom>
          <a:ln w="3816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2"/>
          <p:cNvSpPr/>
          <p:nvPr/>
        </p:nvSpPr>
        <p:spPr>
          <a:xfrm flipH="1">
            <a:off x="358560" y="1628640"/>
            <a:ext cx="2197080" cy="0"/>
          </a:xfrm>
          <a:prstGeom prst="line">
            <a:avLst/>
          </a:prstGeom>
          <a:ln w="38160">
            <a:solidFill>
              <a:srgbClr val="f2d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47280" y="17002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daac"/>
                </a:solidFill>
                <a:latin typeface="Arial"/>
              </a:rPr>
              <a:t>Virt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6283800" y="17002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daac"/>
                </a:solidFill>
                <a:latin typeface="Arial"/>
              </a:rPr>
              <a:t>Vi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 rot="18240600">
            <a:off x="1190880" y="310752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 rot="3349800">
            <a:off x="3135960" y="3130560"/>
            <a:ext cx="34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 flipH="1" rot="3359400">
            <a:off x="7533720" y="310464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 flipH="1" rot="18250200">
            <a:off x="5655960" y="3132000"/>
            <a:ext cx="34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 flipH="1">
            <a:off x="6508440" y="480060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219400" y="480060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5"/>
          <p:cNvSpPr/>
          <p:nvPr/>
        </p:nvSpPr>
        <p:spPr>
          <a:xfrm>
            <a:off x="304920" y="297000"/>
            <a:ext cx="8534160" cy="6264000"/>
          </a:xfrm>
          <a:prstGeom prst="roundRect">
            <a:avLst>
              <a:gd name="adj" fmla="val 5361"/>
            </a:avLst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6"/>
          <p:cNvSpPr/>
          <p:nvPr/>
        </p:nvSpPr>
        <p:spPr>
          <a:xfrm>
            <a:off x="433440" y="419040"/>
            <a:ext cx="8277120" cy="6019920"/>
          </a:xfrm>
          <a:prstGeom prst="roundRect">
            <a:avLst>
              <a:gd name="adj" fmla="val 5361"/>
            </a:avLst>
          </a:prstGeom>
          <a:solidFill>
            <a:srgbClr val="331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395280" y="3860640"/>
            <a:ext cx="8353440" cy="2592720"/>
          </a:xfrm>
          <a:prstGeom prst="rect">
            <a:avLst/>
          </a:prstGeom>
          <a:solidFill>
            <a:srgbClr val="f2d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3628080" y="3139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daac"/>
                </a:solidFill>
                <a:latin typeface="微软雅黑"/>
                <a:ea typeface="微软雅黑"/>
              </a:rPr>
              <a:t>输入标题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1500"/>
                </a:solidFill>
                <a:latin typeface="微软雅黑"/>
                <a:ea typeface="微软雅黑"/>
              </a:rPr>
              <a:t>作者：</a:t>
            </a:r>
            <a:r>
              <a:rPr b="1" lang="en-US" sz="2800" spc="-1" strike="noStrike">
                <a:solidFill>
                  <a:srgbClr val="2a1500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2a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21:01:00Z</dcterms:created>
  <dc:creator>技术宅没心没肺</dc:creator>
  <dc:description/>
  <cp:keywords/>
  <dc:language>en-US</dc:language>
  <cp:lastModifiedBy>a</cp:lastModifiedBy>
  <dcterms:modified xsi:type="dcterms:W3CDTF">2014-07-20T06:32:25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