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C2DB9-72C7-43AD-8725-6FF233A90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70542-62B0-4240-AA21-CBC2EFD91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BBBC-94C0-4670-8301-440D8F415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4A064-4CC5-4CD4-B080-D1D2ABC97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86353-4A7F-424F-AA0D-65D94188F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3F658-E2A2-4758-900A-0981F0550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FFB0-25C2-415F-92CA-E88300669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8B07E-4F34-42DD-8D09-DEDCC5DDF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BFC67-3D91-4B1A-976A-D93228EDE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1F875-C223-4F81-A776-B619B7E95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3FE7E-22CD-47EB-9EE4-1CCE4A571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77764-3E4D-4358-9985-B331105AA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GFD GDFOPKZ RZ£DF "/>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D8488AD0-EFA8-433F-AA12-4C32B3053696}"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32BD-7BEB-49F5-B6C5-CCAB889E2E16}"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F7CB-BE2A-436A-B578-27335E1F3D4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ojoez rpz fsdfs$f$ez"/>
          <p:cNvPicPr/>
          <p:nvPr/>
        </p:nvPicPr>
        <p:blipFill>
          <a:blip r:embed="rId2"/>
          <a:stretch/>
        </p:blipFill>
        <p:spPr>
          <a:xfrm>
            <a:off x="0" y="0"/>
            <a:ext cx="9144000" cy="6858000"/>
          </a:xfrm>
          <a:prstGeom prst="rect">
            <a:avLst/>
          </a:prstGeom>
          <a:ln w="0">
            <a:noFill/>
          </a:ln>
        </p:spPr>
      </p:pic>
      <p:sp>
        <p:nvSpPr>
          <p:cNvPr id="82" name="Text Box 4"/>
          <p:cNvSpPr/>
          <p:nvPr/>
        </p:nvSpPr>
        <p:spPr>
          <a:xfrm>
            <a:off x="2050920" y="1916280"/>
            <a:ext cx="687708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9316d"/>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8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755640" y="1846440"/>
            <a:ext cx="7704000" cy="431928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18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755640" y="1846440"/>
            <a:ext cx="7704000" cy="431928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15T02:40:01Z</dcterms:modified>
  <cp:revision>3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