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732-6612-46B7-85A9-81F12D5D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43D-37E2-4774-AC83-C38EA662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AB305-E06C-475E-BA4B-74B7990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C9345-F223-4670-B3ED-95110032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4EDF-5A2A-45C5-9F95-0AFF3C8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FE610-7BE1-4851-BA7F-42A343F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CED5-2001-4695-8076-954605D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AFAFD-F480-44A8-9D02-C3F9F25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5BD41-2826-4B1C-92B2-348CD1FF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1DFB-6A3F-4220-B8A7-89734F8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A0965-6DFE-4C7B-98ED-9B79A011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0D2E7-E06A-4E4B-935E-548B8FA2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783-B7B0-476B-8121-AE48DC4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CF06B-A1B4-4D91-8306-E8C7315D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F8F12-51B7-450E-8315-179B3D4C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78672-2589-4024-8BAB-0A3A91C7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499BC-38DE-4532-8649-4DE0DCC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2D79-D36C-461B-A7B6-A901ADFE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3ADFE-FFF6-4296-804E-6BE6F7E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2A77C-79DB-44A0-97FF-F217CB7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77132-2D55-49F2-8FBC-8833E51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5A55A-A434-495E-BCDE-F5CE234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C957-C190-4B94-B1A2-161CA03C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430-87AD-4CB0-97AA-C0423868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9AD0-1316-40BC-A2E2-CDEC79CA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93EF6-351C-4AF7-B6F1-54C1736A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E4742-D744-4801-AC09-6FBB5A1E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05B4D-1DDA-4B2F-A404-431142A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4208-38DD-4EA3-B327-122E60B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373B-BF89-4F8D-95BD-8D7FD94F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7593E-141B-4608-92D9-4CF68F8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0F70B-2D76-409F-8628-32206C7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E3CC9-1157-42DA-9A2D-5DAAD57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2605-702C-4087-8C40-E3880E09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763A-FE85-4261-BCAF-DBD69E9A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733E7-856D-4010-8B67-3EC15392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D57AC-B2D1-4976-8B58-E66547F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3579-6C00-473C-B9F3-AC7CED29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0E38-DFE6-4E4E-AE62-3E836DE0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7155-EA4B-4D74-B38D-9C1EA4CD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27949-7F8F-4613-97E7-D2D6B38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B1804-E4D2-419B-94C1-E8859742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07B83-B06C-421C-8E2E-FD825CB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7735C-5637-4ADB-BE3F-9B62069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7A39-7D83-4D66-A55F-C18A96C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72C-E1B3-431F-9EA8-6822DCE4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D4B25-F24B-4C88-8419-340D702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D41F1-0657-4464-9CFD-68F8885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5675F-F49F-48F4-AEF9-8148B2E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FD6A2-9386-4191-A8B8-E3ED9178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F736B-DB88-46D7-841C-F79E700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F2E64-622A-499C-80E0-90580F28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E7D46-ADA5-4235-9815-D96A25C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9B1DD-4D6D-421E-944A-1FE617B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EC145-2C65-4EF6-90FF-6108CDC3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B3875-7D48-473D-BC4C-D253F49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A636-A470-4AF6-BD0A-F353815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6B62F-F212-4E85-8607-28C8C42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E68F4-FB15-4B3F-A88C-B5E7C79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4DB7B-000D-4E86-8B26-ABA34A9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C0A6B-3672-48C4-9DC3-7467018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60DF5-ACE1-417C-8182-3C41366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DE63A-3899-4B8B-8DC1-1A746A6C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86742-F76D-4B57-B5D5-229FAEE0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3BB3-F954-4E91-B19C-B29A8A1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BCAA-4AB3-45FC-97DE-1D5D1653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7E0-4FE9-43B6-81B8-4B314F8F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A2F6-A803-4752-A613-839704C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558-2461-4E65-B1A0-CEBC4DC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7E85-D60B-423F-9845-1398D95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C63F-B8A7-48A6-80E2-12E935A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2282-0EC0-4550-BEAF-68938B9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90A-2FEB-4293-88D0-FD7ABAD1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4859-DC5C-4992-A81D-0B6DB3B2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A02D-E908-49D9-B5AB-6A33BF7E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15C4-BACF-4EC3-AE0D-CB34007E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E993-9EE6-4E3F-943C-FD0C4F68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C065-ECBD-4ED9-8FF7-A388EDE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9A8A-6D98-4E07-8ABA-54890BA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4D0-B8EC-4B1A-8F41-0BD3E33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C316-1A42-410C-9F37-B6F1AEF8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CE32-BA3A-49AD-A03D-6155C0B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32EE-ED8F-4CEB-A1F3-2C67D23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4C94-3479-4C49-B591-2865A9E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09DB-A091-46B7-B44B-EFE2AF5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C6E7-4EA1-4D59-BD1A-BCDB3F4B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0AAF-AD0A-445B-BCB0-0C657060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802A-ABB4-42BD-986E-9057021B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CA23-C164-426B-B73C-057B572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1421-B40E-400B-B807-D77B4152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7AC-180C-48C1-B4FD-4F1A76D8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0C0E-F993-457B-A2D7-1800A8A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9D37-7583-4CA5-84E0-898FDF98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1466-BD0C-4669-B0E3-B23543F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19C1-E1DF-4DD6-B5FD-06978E42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5FE7-7767-4383-9FE8-13B0F06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DC67-6BC8-4617-9AFF-CDE80F9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9D28-523F-4AE9-8538-C8C1F52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A621-CC33-4ADE-8588-C84B665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652E-BCF3-429D-B8A5-2E2B43B1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D8DF-08A2-4608-AAFF-30924328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BC5-B7E0-4FA5-8DD0-CBFB2F4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3098-5E45-4912-849A-9E0AB75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184F-8782-4F96-9DC9-C07F639F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7B33-6B0D-4689-8507-5713B1A8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0670-613E-4A43-A57C-E807E2F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A285-7B6E-4883-9C13-D18E87B0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F5E4-0078-4424-A91C-4C82584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282F-0C91-4E26-9CB0-1A0662A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84FE-458F-453E-B37A-A2BBAF0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65C0-3C3F-4350-8197-8DF0141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294A-48BE-410A-A312-E46CC852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9FE-8D8C-4B1D-A9A0-9397B868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9C33-22C6-47DF-A2F2-7254F066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98D1D-F5C6-4453-A2AC-DFA4D40C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FA51-327D-4C3C-B642-E5958B8C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5938-0F03-4375-970D-0C48187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E483-16FC-418F-95F5-C20A6C2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3FBFE-D689-4463-8D64-0A81044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7898E-2938-40F9-9B39-F529E6C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BAB09-DA4F-4A5D-8323-D8BF5C6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3A8E-662D-4E4B-9ABA-8DED729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2EA7-6A76-4F6B-99EB-D33E863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436-B50A-42A1-86E9-1B67151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A537-7738-4008-9B43-0AC49978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4FD1-ABDA-4D6E-8FDC-D250B0CF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6A418-AC88-495A-BFB1-F3465539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4E37-A053-45AF-B737-C465CE1E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27E7-BD2F-48CD-8ECF-F2631DFE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BB908-4481-428D-86A5-E2DB4411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6C67-8FEA-4607-85F3-5A7CF36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37E9A-31F5-4545-AC2A-A4AAE8F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97519-3CCA-491F-A68A-FAA08E3F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DFC44-7D06-4558-BEFC-734F72E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F02-63EE-491B-8AD2-5EA8DAA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EB03-82F6-410A-87F0-75F6B75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2F58-D66A-47E9-AAEA-A1BDCB2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FB73-8401-459A-B9EB-12DFF73B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458E-F0D4-40CC-A55E-A4B58B6F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EBFF0-0E20-49A4-8280-F9CBB209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639A1-1FBD-4C42-B288-0DD2B19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2835-29FF-428E-97C3-8AD07546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0C231-C58B-40E9-82A1-5C31599C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53F8-8DCC-4CF0-90BF-B2DB2FA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D1B5-5F40-4089-ACA3-DB22D4D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3EA-6C5A-4FC4-8D06-FA007C7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EC6B-7147-4E70-8011-69FE960D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7371-0EC7-4B49-95AD-0B360B6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319B-0B4E-44FC-865A-F0AFFD89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71E3-3AFB-4FEF-90E8-1757A11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70ADB-A76F-482D-BEB9-C3AC273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8AE4D-539D-4C0F-9706-1A5884A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DEFB4-3CA4-4CEF-996B-D690C0BF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72D9C-2577-4779-8D4A-64B1B648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B920E-F915-4A53-8B65-17CA62F7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35421-AB60-4D84-BE40-49E38B1F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34D-ABB9-4416-ABB3-E27A28828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CAC-07EE-47A7-B25F-D456B35E8A9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E82-10E2-4CF1-91ED-E3DF9575A02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ACD-0C9B-4D93-B5B4-2905C82F040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FD68-69CC-4B32-95A5-67A4A770BE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23F-A2A8-444A-823B-494518978E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A087-E32C-4F1C-99A0-443934DA720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28A-B87A-43D1-9E7F-C70E78994FD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E29-8F85-4734-85BC-5E9E57D2587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FCC2-DD25-4FF7-8E58-83275152A9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6DD3-23B8-4161-8953-19ACEE7122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88F-4560-41E7-BDDF-A7FCC9D6961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A16-04AF-4FB5-8102-60F42EA0716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18D2-ABBE-4EB4-8D1A-9B07D19633A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DEB-475A-43B3-ACF2-6937D5EA949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0F01-6127-4D43-8DE6-CA7B8B4098D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8AF-3256-4E81-8808-4202887ADD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7C3-981F-49A4-9F8A-E68DE8B7580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7B0-8987-493D-A65C-914CB47107B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9E7-6246-4FA2-B4FB-09E9C3A1986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A73-BF09-4D63-9DE7-018551D11A7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152-ADAC-4676-B64E-F41C9D50334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DEC-0178-40D4-B93F-0EC0ECFC550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C1BD-4F24-4A63-8E3B-25DD8EBE07F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632-0689-40A4-8855-CC4BA511B1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36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5"/>
          <p:cNvSpPr/>
          <p:nvPr/>
        </p:nvSpPr>
        <p:spPr>
          <a:xfrm>
            <a:off x="6826320" y="2838600"/>
            <a:ext cx="551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请输入文字</a:t>
            </a: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1779480" y="749160"/>
            <a:ext cx="1757520" cy="1527120"/>
            <a:chOff x="1779480" y="749160"/>
            <a:chExt cx="1757520" cy="1527120"/>
          </a:xfrm>
        </p:grpSpPr>
        <p:sp>
          <p:nvSpPr>
            <p:cNvPr id="540" name="TextBox 10"/>
            <p:cNvSpPr/>
            <p:nvPr/>
          </p:nvSpPr>
          <p:spPr>
            <a:xfrm>
              <a:off x="2212560" y="1816560"/>
              <a:ext cx="10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目录</a:t>
              </a:r>
              <a:endParaRPr b="0" lang="en-US" sz="2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1" name="矩形 11"/>
            <p:cNvSpPr/>
            <p:nvPr/>
          </p:nvSpPr>
          <p:spPr>
            <a:xfrm>
              <a:off x="1779480" y="183960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2" name="矩形 12"/>
            <p:cNvSpPr/>
            <p:nvPr/>
          </p:nvSpPr>
          <p:spPr>
            <a:xfrm>
              <a:off x="2301840" y="749160"/>
              <a:ext cx="1235160" cy="1008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45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3"/>
          <p:cNvGrpSpPr/>
          <p:nvPr/>
        </p:nvGrpSpPr>
        <p:grpSpPr>
          <a:xfrm>
            <a:off x="1542960" y="244440"/>
            <a:ext cx="1757520" cy="1488960"/>
            <a:chOff x="1542960" y="244440"/>
            <a:chExt cx="1757520" cy="1488960"/>
          </a:xfrm>
        </p:grpSpPr>
        <p:sp>
          <p:nvSpPr>
            <p:cNvPr id="548" name="TextBox 10"/>
            <p:cNvSpPr/>
            <p:nvPr/>
          </p:nvSpPr>
          <p:spPr>
            <a:xfrm>
              <a:off x="1960200" y="1280160"/>
              <a:ext cx="13244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9" name="矩形 11"/>
            <p:cNvSpPr/>
            <p:nvPr/>
          </p:nvSpPr>
          <p:spPr>
            <a:xfrm>
              <a:off x="1542960" y="133452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50" name="矩形 12"/>
            <p:cNvSpPr/>
            <p:nvPr/>
          </p:nvSpPr>
          <p:spPr>
            <a:xfrm>
              <a:off x="2065320" y="244440"/>
              <a:ext cx="1235160" cy="1008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551" name="TextBox 10"/>
          <p:cNvSpPr/>
          <p:nvPr/>
        </p:nvSpPr>
        <p:spPr>
          <a:xfrm>
            <a:off x="3565440" y="1201680"/>
            <a:ext cx="27957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请输入文字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4197240" y="1819440"/>
            <a:ext cx="17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感谢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观赏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4T07:56:17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