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6AD-8D9D-419E-86C3-5E2A6D12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CEC-0550-4491-B848-A72F7612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8B301-E78A-4AE5-90BD-765161A2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1B461-1EE5-4F10-AEED-C5018B9F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22CBB-0B87-4F69-BD43-E59A1F20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13CF2-7B6D-4922-9FFE-92624748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96D18-C9FF-45DE-99BC-DFB7DDF3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30E58-8DAB-4692-9106-3F5AE752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9921D-7917-4FFB-BB1F-CF837434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A6953-D519-458B-B6E4-143E29173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3FEADA-8621-4E5E-84CB-0ED88099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8E069-85DD-4CC9-8D78-D8FB4DA17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E534-507A-4A51-B74B-4FDFAAC9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FB1A8-DBF8-4E0C-B504-6B74D6B2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A8ADF-69F3-4B96-8AEC-B8B77C5E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A3A80D-3D6E-4265-9664-5DEDF904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2B5B6-6A3D-46C5-B166-BEF20A42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8C234-C102-4F5F-B31D-822922B7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D4520-5551-49B2-AC67-4E4BC5FF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05BB8-A327-4669-9ED9-482EF66D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E09B7-5FCB-419E-9D93-EB85942C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1F450-1BD5-4AAE-B281-151C53FF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A0830-FE64-47F8-91A0-84BEDB6B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72C5-10C5-4C23-B169-513CAB9F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52724-5D4A-476A-800E-995B8DCAF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14891-F7EE-47D5-961B-A339E8F01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F7AD4-07E8-44F8-82B4-464E249F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37E83-234A-441C-841A-8C3CF349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E1104-415B-46BF-9FB0-BB5A04CB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7AD57-7C86-41E1-82BC-49C2C9DB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62527-6A31-4CCD-A2B3-1487CA40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B4F47-B396-43F4-9E5F-5609E361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4A8D6-16F5-408A-9F0B-FBBBAFE5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4FAB7-D117-44C7-ACA7-66C17B56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0163-5C32-4090-9776-C67F962F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C9FA1-1DB8-46C6-9986-72C660E1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A2C00-FE60-4ED5-9F31-A0EB0CD3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0C7B2-1C24-4503-A828-5F33EF8E5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77BE5A-1A33-46D4-A238-97A2DD23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417A6-8B39-46CA-BD48-3E6016CA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CA7E4-5F96-4857-B98F-94726514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4E686-19D3-4E8B-9521-672A9825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27445-A30F-465A-8AB3-4142E80D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9FB90-D31F-4F2B-960E-237D0F6B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4B28C-CC78-4492-98ED-0D4C1F119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5E33-B2E3-460A-A77B-1944E435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3EE9E-8BDF-4CC5-9DBD-42EFC2E7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713F2-3F20-47DD-87F0-8EE870BC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D34231-3E65-4DB8-BDEA-C15EE121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7F1AF-90D2-4789-A68A-F768972FB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C2169-CAB6-4070-948B-D1B1D768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B5CD5-A7D7-4874-9B03-ED8722510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C5A00-625D-49D7-B275-68BE8539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87C1A-747E-499B-8006-32F3965C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CF4AF2-D8E7-414F-A158-61D20B19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9EE408-E6E7-4053-8327-09E32598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0BA8-014D-47C9-B1BF-CB712A60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B413E-783F-4C1F-B335-55E82DEE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F097BE-2BBA-4F3F-9383-DD27FA0D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3A433-66BC-407F-B393-D1784DA0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DD4663-B0DD-4507-87F1-EF659769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756D88-67B0-4347-8C8D-8F68ACFA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0E51D-AEB4-4E0E-BEE9-FE1836416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4AE0D2-4698-422E-86D2-38EF7B55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691C9-3762-4AFB-BD63-8175359C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C6485-3E85-44F5-BBD5-B38B9304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183E39-A33B-4D8A-A83F-880F028AD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D19-B023-4623-B034-6F024720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D1FE17-5BB2-4446-8EA8-93945F79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CE752-13A8-4857-BBB9-F60CF46E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CED382-B742-4D12-AD40-78F2811B6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06E16-5C10-4B69-AD2E-AF325CA6B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CE67D1-495A-4FE0-A5AD-A5349C49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018E90-3E36-4C84-ABA5-CB6829F8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5242C8-EB4D-44CC-85B4-6632BDFA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371A0-CA09-44FD-B0AF-57CD3B6F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FE577-6716-4A41-B468-E167EB2A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71F6-CAEB-4A73-B9E7-35A29D1D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CDAF-CBA7-4898-A441-22AF25AC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9083-A2DA-4D86-93E4-45BC2740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F9E-20A6-43E2-83FD-93E152B3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DB0D-3467-46B3-9F57-741C2AE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4D69-87E6-417F-AE22-49AD02EF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B195-54F4-4BBA-9FB8-7DB71A4E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22D9-FB8B-41FD-BEEB-98BF917C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3C96-C030-4D75-A6DE-06FB3F8F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48C6-EC4B-480C-BFE5-271085B8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B9D6E-F730-4D11-A7BE-FFA94C36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35578-4AE8-485D-A386-8E8A29B5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1BF10-F985-4DE3-A454-4F2C1601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2DCA3-08C6-4668-8650-F643F3C0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140F-045B-481F-B457-3FF5A400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17026-2A82-4288-9169-F3177020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069BA-071D-4794-951C-0AC0DACE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52C6-B222-4A8E-82E6-F3C5E053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25C7-DAF0-4FD5-B86B-394C3C68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E2A9E-AD55-4F4A-A7C3-76ED6AD2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41A6-6F14-4261-A168-24EECED45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A213C-C989-43CF-A97A-1AF68B69A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EDDD9-E7AF-4326-A1AD-1D8AEB2A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79923-75CE-4CE3-B396-F81BB6D3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A249-29B6-468A-99FC-DDEB6CD4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EB88-CA00-4DFA-95AE-DBAA8176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4394-6651-4556-88A4-B9406304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8306-C60D-4022-B259-664B884A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CD2C6-148B-4E9F-8AD4-57B241E8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ABE64-9B73-4650-B39D-ED449DEB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358E-177F-49EA-B35D-5968715D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4AE8C-4E3A-4F60-8AD1-DF467F65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24853-8AB9-47A2-A43A-E81D640F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F394A-B881-437F-BD2E-C37444897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C2A53-7B15-4018-8F62-A2B0CAC6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EB25A-0478-4249-98AD-FA6729A47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AF7-6E5F-4F0C-A363-B09AF8E8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F4B25-759D-4D02-9A91-788278EF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9F058-771A-443A-AB35-FF779617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5D113-B8A6-4E7C-8E61-7AF4B763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08523-77C4-40D9-9B85-3DFEECDA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7ACB-549A-4DB5-A695-D4305B0B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241DB-8228-441F-A63C-DD95E879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96DF4-D35A-4DB9-8B6C-ABEFA03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C8411-007A-4384-8886-157D1A6F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C15BA-079A-4859-A029-ECDBB3AD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EC02A-2E2D-4680-97C1-2F5E8D44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513-A7D7-4ECF-A225-47740DBF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0FA59-6ADD-4284-9C6E-0764E66E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4E5E1-9002-4F0D-8838-4D9E2FB5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F7E89-1F1C-4AB6-954A-D22F1D93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B8827-D0B2-49B1-ADB7-3274BE26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6C81B-C662-40EE-86DA-681663F1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EEE6E-B36A-4B1B-900A-F69F74FDF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4DF5F-4925-45D1-85FB-2136CFBF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4C1D0-1BE0-456D-A98B-E5A86759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39344-338A-4204-87DC-C6A1EC89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68408-EE31-47D9-8600-2FF5A6E2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A5CD-7251-4252-A827-52E29E70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F2231-E3F6-43D2-AA81-1EB9C7B5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3012B-3986-40BE-9ADA-78380282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4CB61-9912-483A-B505-4B89A039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E47FD-A210-468A-9398-C80589605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5FDE9-D990-4788-B348-E891A1B9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08033-DCD9-4A9C-982D-7D1F2E2F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1E956-C7E9-4107-B0D5-D4285237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183E3-49C9-4C2D-BE9A-792F30B4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436B1-5190-4548-9061-47665A7E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EC661-1300-4FC1-B398-59FA102A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016A-57FB-453A-A061-86EC92F1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C6CCF-8F46-472B-8F67-E67FC0BA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B38BF-171F-4915-B80A-1A7C32B5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28378-72D2-46AE-82BA-EBF9B2CC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5E5D5-76E9-4D47-BE5A-0931E280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9340D-7B60-47F3-B18D-447EEB8B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5F863-8964-456C-BB45-50E901C8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CD0BE-97B9-4D32-BA5F-8E4C6893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0C8FE-78A6-43A3-A44C-7E626C58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694AA-4F11-4C02-8BE2-D1647B97D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B3112-4D86-4A8E-9C11-1A765578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3AEE-B7B5-4F5A-9B58-20F0F57E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A6454-2FDB-48F5-A64C-5D610A67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8519D-F3D5-47C1-86B7-85AE26AA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CD5F4-06E6-48F6-8D5D-0C009BA8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6CEB8-5EF2-4667-B351-D2A4AA7B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3C072-9AC6-44F2-B835-0CA2CEC5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129D6-5347-4432-A07C-54FE2BE8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DF84FF-03F9-4849-B69A-B04338A09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DD2DFC-3C7F-4D5F-B355-CA13858EA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5A386-BEF2-454F-8443-077D298A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47E98-0682-46B3-9176-B520A595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33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E81E-2FDF-4CA7-91E5-8613C0A76DF4}" type="slidenum"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A5E4-BA82-45D2-80C3-2A727DF19B9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DE71-0180-4083-A57A-4DDE7E82A48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4BE8-C43D-4B71-9699-606A03B04F3F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8C47-48C7-4327-9307-4E676BEC8A0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8C3B-2C53-4ED4-BAAC-E714376641FB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FDCEB-C02F-45BA-A202-D9F1C3337B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DE25-11DD-4D76-9D13-57911699CA08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3F90-C242-4FA0-8DFB-E25DDB51359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18FA-8C50-4E85-8E70-57F5248E203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5E609-6D2F-47FE-B929-98067F2875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EB88-316D-43B5-B859-A97F3EC6BAB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ECE-3854-4F70-9209-BDB814292D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705360"/>
            <a:ext cx="28958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A1A4-8AE2-4F7B-9CFB-C22CA00C134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1B20-C2EC-4680-8F55-6FE0D9EDDB9C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34DF-65CD-4F2D-B53B-561E8B3592E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442D-0A56-4CAD-A6E4-8D87EC3E2997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D45-BAD8-4BA7-B065-B21F88222F4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B414-AED3-4E0D-9AD8-3527DAD7D8B5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8F9D-15CA-4E15-8F36-4D6013A6C2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E543-4D41-40DA-8B5C-E1CD945B5696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8945-F855-4DB2-B908-4672C43DEA8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B071-2B9F-4E8D-B440-F99443C5077D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7D5-E154-4834-8F30-373F9B9ADC8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8344-5F01-419F-8865-269FBEB07632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9A76-3305-47DF-B257-C26B5888B5A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and came the rain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0" y="4723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41907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0" y="4693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839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661080" y="6237360"/>
            <a:ext cx="237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黑体"/>
              </a:rPr>
              <a:t> 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免费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</a:t>
            </a:r>
            <a:r>
              <a:rPr b="0" lang="zh-CN" sz="1600" spc="-1" strike="noStrike">
                <a:solidFill>
                  <a:srgbClr val="ffffff"/>
                </a:solidFill>
                <a:latin typeface="华文中宋"/>
                <a:ea typeface="华文中宋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19:30:51Z</dcterms:created>
  <dc:creator>WPS Office</dc:creator>
  <dc:description>WPS Office</dc:description>
  <cp:keywords>WPS Office</cp:keywords>
  <dc:language>en-US</dc:language>
  <cp:lastModifiedBy>a</cp:lastModifiedBy>
  <dcterms:modified xsi:type="dcterms:W3CDTF">2015-01-14T13:43:26Z</dcterms:modified>
  <cp:revision>5</cp:revision>
  <dc:subject/>
  <dc:title>and came the rai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