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96C-795E-4FFC-BE09-63EFC7D0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8D3-ACB4-4A86-8CEC-63FE75E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E58-42FA-4D4E-A373-78B65EE1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BBD-63E9-4233-981B-514B3D0A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1707-E1F1-4B90-BF9C-590345B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FA9-B1D4-4C6B-B7D6-F0FD64F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600-3395-4B7B-BC4C-FE6E69F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595-5521-4C3B-8483-FE144D0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9D0-A1F1-440E-9DCC-37867AC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C00-E0D3-489B-BC01-43D17551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54A-CC74-4129-9332-53C8593E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E39-DF06-4D70-8BE8-E5EF353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172-1702-4EC3-AF6E-000AFED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2B6D-777C-45F4-8DCA-6608D0F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8B53-45BF-4321-A3E0-E3DC91B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6FA-B07B-4BF6-A729-C8823147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9140-0739-4140-8D22-5890048A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FE7-ED98-492A-9CCC-93B16869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DDA-2594-49D7-AD6E-58DFD48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260-88A7-428B-AB09-385A911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90F-3A48-4BBB-BF21-5828F3D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C16-2515-49BD-B6FD-169A058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913-6495-4C1C-983C-4652E49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7A2-55FA-4411-993A-72B6C09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21D8-90E8-43F2-9D5F-C4A8C498D5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C6A5-CBFE-4CE4-BCB0-116E37DDBB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1EA-11E8-432B-8BDB-D66526D9D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4905" t="0" r="0" b="6708"/>
          <a:stretch/>
        </p:blipFill>
        <p:spPr>
          <a:xfrm>
            <a:off x="0" y="1469880"/>
            <a:ext cx="7684920" cy="5388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9380000">
            <a:off x="2368080" y="2482560"/>
            <a:ext cx="64771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9272c"/>
                </a:solidFill>
                <a:latin typeface="Arial Black"/>
              </a:rPr>
              <a:t>Insert the title of your presentatio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9380000">
            <a:off x="5382720" y="3492360"/>
            <a:ext cx="383220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sert the subtitle of your presentation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ACC-B611-4A4B-A2A7-B09047F87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d26"/>
                </a:solidFill>
                <a:latin typeface="Arial Black"/>
              </a:rPr>
              <a:t>Example with a hist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222880" y="2565360"/>
            <a:ext cx="35971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Iaculis libero et elit nec, morbi nulla velit a, arcu dictum commodo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b0d26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568520" y="1413000"/>
            <a:ext cx="60069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0d26"/>
                </a:solidFill>
                <a:latin typeface="Verdana"/>
              </a:rPr>
              <a:t>Lorem ipsum dolor sit amet, in nec erat ac et, integer diam ultrices ut n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0d26"/>
                </a:solidFill>
                <a:latin typeface="Verdana"/>
              </a:rPr>
              <a:t>Consectetuer pede orci a, accumsan at ante sed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944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d26"/>
                </a:solidFill>
                <a:latin typeface="Verdana"/>
                <a:ea typeface="Verdana"/>
              </a:rPr>
              <a:t>Title of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hart 11"/>
          <p:cNvSpPr/>
          <p:nvPr/>
        </p:nvSpPr>
        <p:spPr>
          <a:xfrm>
            <a:off x="1285920" y="2643120"/>
            <a:ext cx="3857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B0F5-C0D3-492C-A14E-1E10FAE126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Arial Black"/>
              </a:rPr>
              <a:t>Example with a pie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82560" y="2565360"/>
            <a:ext cx="345456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Iaculis libero et elit nec, morbi nulla velit a, arcu dictum commodo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9272c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714680" y="1628640"/>
            <a:ext cx="5716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9272c"/>
                </a:solidFill>
                <a:latin typeface="Verdana"/>
              </a:rPr>
              <a:t>Lorem ipsum dolor sit amet, in nec erat ac et, integer diam ultrices ut n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9272c"/>
                </a:solidFill>
                <a:latin typeface="Verdana"/>
              </a:rPr>
              <a:t>Consectetuer pede orci a, accumsan at ante sed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hart 13"/>
          <p:cNvSpPr/>
          <p:nvPr/>
        </p:nvSpPr>
        <p:spPr>
          <a:xfrm>
            <a:off x="4000680" y="2143080"/>
            <a:ext cx="4976640" cy="37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24A-34D8-49FC-B4CA-DABA9064D9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e0b"/>
                </a:solidFill>
                <a:latin typeface="Arial Black"/>
              </a:rPr>
              <a:t>Example with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 rot="2700000">
            <a:off x="7097760" y="3704760"/>
            <a:ext cx="898560" cy="898560"/>
          </a:xfrm>
          <a:prstGeom prst="rect">
            <a:avLst/>
          </a:prstGeom>
          <a:solidFill>
            <a:srgbClr val="a9272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 rot="2700000">
            <a:off x="6359400" y="4425480"/>
            <a:ext cx="898560" cy="898560"/>
          </a:xfrm>
          <a:prstGeom prst="rect">
            <a:avLst/>
          </a:prstGeom>
          <a:solidFill>
            <a:srgbClr val="2b0d2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 rot="2700000">
            <a:off x="5010120" y="3704760"/>
            <a:ext cx="898560" cy="898560"/>
          </a:xfrm>
          <a:prstGeom prst="rect">
            <a:avLst/>
          </a:prstGeom>
          <a:solidFill>
            <a:srgbClr val="78967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 rot="2700000">
            <a:off x="6359400" y="2950920"/>
            <a:ext cx="898560" cy="898560"/>
          </a:xfrm>
          <a:prstGeom prst="rect">
            <a:avLst/>
          </a:prstGeom>
          <a:solidFill>
            <a:srgbClr val="f2921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9586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Lorem ipsum dolor sit amet, risus dolor nulla faucibus, elit amet duis blandit, tellus non mollis pur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Iaculis libero et elit nec, morbi nulla velit a, arcu dictum commodo am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6e0b"/>
                </a:solidFill>
                <a:latin typeface="Verdana"/>
              </a:rPr>
              <a:t>Lacus sed nulla id cillum, nulla cras vulputate ut phasellus, elit fermentum turpis vivamus pulvin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589040" y="1557360"/>
            <a:ext cx="5932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Verdana"/>
              </a:rPr>
              <a:t>Lorem ipsum dolor sit amet, in nec erat ac et, integer diam ultrices ut n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Verdana"/>
              </a:rPr>
              <a:t>Consectetuer pede orci a, accumsan at ante sed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5230440" y="4152960"/>
            <a:ext cx="863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D34C-4240-4C4E-B91E-BE0FB0BF58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rcRect l="4905" t="0" r="0" b="6708"/>
          <a:stretch/>
        </p:blipFill>
        <p:spPr>
          <a:xfrm>
            <a:off x="0" y="1469880"/>
            <a:ext cx="7684920" cy="5388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9380000">
            <a:off x="2368080" y="2482560"/>
            <a:ext cx="64771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9272c"/>
                </a:solidFill>
                <a:latin typeface="Arial Black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6A0-5E62-49EC-A9EE-258530874A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9675"/>
                </a:solidFill>
                <a:latin typeface="Arial Black"/>
              </a:rPr>
              <a:t>Template color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161640" y="2270160"/>
            <a:ext cx="3115080" cy="2184480"/>
            <a:chOff x="161640" y="2270160"/>
            <a:chExt cx="3115080" cy="2184480"/>
          </a:xfrm>
        </p:grpSpPr>
        <p:sp>
          <p:nvSpPr>
            <p:cNvPr id="211" name="Rectangle 10"/>
            <p:cNvSpPr/>
            <p:nvPr/>
          </p:nvSpPr>
          <p:spPr>
            <a:xfrm>
              <a:off x="2844000" y="227016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"/>
            <p:cNvSpPr/>
            <p:nvPr/>
          </p:nvSpPr>
          <p:spPr>
            <a:xfrm>
              <a:off x="161640" y="233244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Dark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323080" y="227016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"/>
            <p:cNvSpPr/>
            <p:nvPr/>
          </p:nvSpPr>
          <p:spPr>
            <a:xfrm>
              <a:off x="163440" y="2916360"/>
              <a:ext cx="224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Ligh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"/>
            <p:cNvSpPr/>
            <p:nvPr/>
          </p:nvSpPr>
          <p:spPr>
            <a:xfrm>
              <a:off x="161640" y="350028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Dark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163440" y="4084200"/>
              <a:ext cx="224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Text/background – Ligh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323080" y="2854080"/>
              <a:ext cx="432720" cy="43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2308680" y="3438000"/>
              <a:ext cx="432720" cy="43272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2308680" y="4021920"/>
              <a:ext cx="432720" cy="432720"/>
            </a:xfrm>
            <a:prstGeom prst="rect">
              <a:avLst/>
            </a:prstGeom>
            <a:solidFill>
              <a:srgbClr val="2b0d26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2844000" y="285408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2844000" y="343800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844000" y="4021920"/>
              <a:ext cx="432720" cy="43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623040" y="2270160"/>
            <a:ext cx="1866600" cy="3349440"/>
            <a:chOff x="3623040" y="2270160"/>
            <a:chExt cx="1866600" cy="3349440"/>
          </a:xfrm>
        </p:grpSpPr>
        <p:sp>
          <p:nvSpPr>
            <p:cNvPr id="224" name="Text Box 2"/>
            <p:cNvSpPr/>
            <p:nvPr/>
          </p:nvSpPr>
          <p:spPr>
            <a:xfrm>
              <a:off x="3623040" y="23324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"/>
            <p:cNvSpPr/>
            <p:nvPr/>
          </p:nvSpPr>
          <p:spPr>
            <a:xfrm>
              <a:off x="3623040" y="291600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"/>
            <p:cNvSpPr/>
            <p:nvPr/>
          </p:nvSpPr>
          <p:spPr>
            <a:xfrm>
              <a:off x="3623040" y="349920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"/>
            <p:cNvSpPr/>
            <p:nvPr/>
          </p:nvSpPr>
          <p:spPr>
            <a:xfrm>
              <a:off x="3623040" y="40827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"/>
            <p:cNvSpPr/>
            <p:nvPr/>
          </p:nvSpPr>
          <p:spPr>
            <a:xfrm>
              <a:off x="3623040" y="466632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"/>
            <p:cNvSpPr/>
            <p:nvPr/>
          </p:nvSpPr>
          <p:spPr>
            <a:xfrm>
              <a:off x="3623040" y="524952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ccent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4559760" y="2270160"/>
              <a:ext cx="432720" cy="432360"/>
            </a:xfrm>
            <a:prstGeom prst="rect">
              <a:avLst/>
            </a:prstGeom>
            <a:solidFill>
              <a:srgbClr val="2b0d26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4559760" y="2853360"/>
              <a:ext cx="432720" cy="432360"/>
            </a:xfrm>
            <a:prstGeom prst="rect">
              <a:avLst/>
            </a:prstGeom>
            <a:solidFill>
              <a:srgbClr val="a9272c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4559760" y="3472920"/>
              <a:ext cx="432720" cy="432360"/>
            </a:xfrm>
            <a:prstGeom prst="rect">
              <a:avLst/>
            </a:prstGeom>
            <a:solidFill>
              <a:srgbClr val="f2921d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559760" y="4020480"/>
              <a:ext cx="432720" cy="432360"/>
            </a:xfrm>
            <a:prstGeom prst="rect">
              <a:avLst/>
            </a:prstGeom>
            <a:solidFill>
              <a:srgbClr val="f6e3a7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4559760" y="4603680"/>
              <a:ext cx="432720" cy="432360"/>
            </a:xfrm>
            <a:prstGeom prst="rect">
              <a:avLst/>
            </a:prstGeom>
            <a:solidFill>
              <a:srgbClr val="789675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4559760" y="5187240"/>
              <a:ext cx="432720" cy="43236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5056920" y="22701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5056920" y="28533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5056920" y="347292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5056920" y="402048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5056920" y="460368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5056920" y="518724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36"/>
          <p:cNvGrpSpPr/>
          <p:nvPr/>
        </p:nvGrpSpPr>
        <p:grpSpPr>
          <a:xfrm>
            <a:off x="6037920" y="2270160"/>
            <a:ext cx="2542680" cy="1015920"/>
            <a:chOff x="6037920" y="2270160"/>
            <a:chExt cx="2542680" cy="1015920"/>
          </a:xfrm>
        </p:grpSpPr>
        <p:sp>
          <p:nvSpPr>
            <p:cNvPr id="243" name="Text Box 2"/>
            <p:cNvSpPr/>
            <p:nvPr/>
          </p:nvSpPr>
          <p:spPr>
            <a:xfrm>
              <a:off x="6063840" y="233244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Hyper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"/>
            <p:cNvSpPr/>
            <p:nvPr/>
          </p:nvSpPr>
          <p:spPr>
            <a:xfrm>
              <a:off x="6037920" y="291600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Followed hyper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7650000" y="2270160"/>
              <a:ext cx="432720" cy="432360"/>
            </a:xfrm>
            <a:prstGeom prst="rect">
              <a:avLst/>
            </a:prstGeom>
            <a:solidFill>
              <a:srgbClr val="00007f"/>
            </a:solidFill>
            <a:ln w="9360">
              <a:solidFill>
                <a:srgbClr val="00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"/>
            <p:cNvSpPr/>
            <p:nvPr/>
          </p:nvSpPr>
          <p:spPr>
            <a:xfrm>
              <a:off x="7650000" y="2853720"/>
              <a:ext cx="432720" cy="432360"/>
            </a:xfrm>
            <a:prstGeom prst="rect">
              <a:avLst/>
            </a:prstGeom>
            <a:solidFill>
              <a:srgbClr val="0000bf"/>
            </a:solidFill>
            <a:ln w="9360">
              <a:solidFill>
                <a:srgbClr val="2b0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8147880" y="227016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8147880" y="2853720"/>
              <a:ext cx="432720" cy="4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: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	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5BD-EC32-4E22-BEF7-9E77DE181B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60"/>
          <p:cNvSpPr/>
          <p:nvPr/>
        </p:nvSpPr>
        <p:spPr>
          <a:xfrm flipV="1">
            <a:off x="250920" y="1557360"/>
            <a:ext cx="7057800" cy="524016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2b0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necteur droit 31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necteur droit 62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7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92" name="Group 8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93" name="Rectangle 11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Ellipse 11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1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96" name="Rectangle 11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Ellipse 11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2b0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11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2b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4db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d26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A848-2EC5-4F4A-BC39-E7CA8CB39D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0d26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0d26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b0d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0d26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b0d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d26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d26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0d26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b0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4D24-0FDE-4365-8BD2-368B9399BD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cteur droit 60"/>
          <p:cNvSpPr/>
          <p:nvPr/>
        </p:nvSpPr>
        <p:spPr>
          <a:xfrm flipV="1">
            <a:off x="179280" y="1557360"/>
            <a:ext cx="7129440" cy="529272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a92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12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13" name="Rectangle 2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Ellipse 2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16" name="Rectangle 2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Ellipse 2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a92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Rectangle 2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a92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onnecteur droit 17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18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d6a6f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9272c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C50-341F-4384-80D2-49FEE0AAE3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272c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a9272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9272c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9272c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9272c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B2F-5B0D-488D-BD51-B349462929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necteur droit 60"/>
          <p:cNvSpPr/>
          <p:nvPr/>
        </p:nvSpPr>
        <p:spPr>
          <a:xfrm flipV="1">
            <a:off x="250920" y="1557360"/>
            <a:ext cx="7057800" cy="524016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f29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34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35" name="Rectangle 26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Ellipse 27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38" name="Rectangle 24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Ellipse 25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f2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23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f29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Connecteur droit 17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18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6e0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6e0b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FD90-396F-49F8-A60E-A18DF1922F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e0b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e0b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6e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e0b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06e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6e0b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6e0b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6e0b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6e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603-AF2A-44E5-AE23-F7AD1990D1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60"/>
          <p:cNvSpPr/>
          <p:nvPr/>
        </p:nvSpPr>
        <p:spPr>
          <a:xfrm flipV="1">
            <a:off x="324000" y="1557000"/>
            <a:ext cx="6984720" cy="518652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7896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8214" t="0" r="0" b="4975"/>
          <a:stretch/>
        </p:blipFill>
        <p:spPr>
          <a:xfrm>
            <a:off x="0" y="2208240"/>
            <a:ext cx="3629160" cy="464976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2565360" y="3504960"/>
            <a:ext cx="1461240" cy="1260360"/>
            <a:chOff x="2565360" y="3504960"/>
            <a:chExt cx="1461240" cy="1260360"/>
          </a:xfrm>
        </p:grpSpPr>
        <p:grpSp>
          <p:nvGrpSpPr>
            <p:cNvPr id="156" name="Group 6"/>
            <p:cNvGrpSpPr/>
            <p:nvPr/>
          </p:nvGrpSpPr>
          <p:grpSpPr>
            <a:xfrm>
              <a:off x="3053520" y="3504960"/>
              <a:ext cx="973080" cy="335520"/>
              <a:chOff x="3053520" y="3504960"/>
              <a:chExt cx="973080" cy="335520"/>
            </a:xfrm>
          </p:grpSpPr>
          <p:sp>
            <p:nvSpPr>
              <p:cNvPr id="157" name="Rectangle 17"/>
              <p:cNvSpPr/>
              <p:nvPr/>
            </p:nvSpPr>
            <p:spPr>
              <a:xfrm rot="16730400">
                <a:off x="3491280" y="3249720"/>
                <a:ext cx="191160" cy="860040"/>
              </a:xfrm>
              <a:prstGeom prst="rect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Ellipse 18"/>
              <p:cNvSpPr/>
              <p:nvPr/>
            </p:nvSpPr>
            <p:spPr>
              <a:xfrm rot="16730400">
                <a:off x="3066840" y="3518640"/>
                <a:ext cx="191160" cy="190800"/>
              </a:xfrm>
              <a:prstGeom prst="ellipse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3691440" y="3622320"/>
              <a:ext cx="335160" cy="973800"/>
              <a:chOff x="3691440" y="3622320"/>
              <a:chExt cx="335160" cy="973800"/>
            </a:xfrm>
          </p:grpSpPr>
          <p:sp>
            <p:nvSpPr>
              <p:cNvPr id="160" name="Rectangle 15"/>
              <p:cNvSpPr/>
              <p:nvPr/>
            </p:nvSpPr>
            <p:spPr>
              <a:xfrm rot="11330400">
                <a:off x="3770640" y="3631680"/>
                <a:ext cx="190800" cy="860400"/>
              </a:xfrm>
              <a:prstGeom prst="rect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Ellipse 16"/>
              <p:cNvSpPr/>
              <p:nvPr/>
            </p:nvSpPr>
            <p:spPr>
              <a:xfrm rot="11330400">
                <a:off x="3704760" y="4391280"/>
                <a:ext cx="190800" cy="191160"/>
              </a:xfrm>
              <a:prstGeom prst="ellipse">
                <a:avLst/>
              </a:prstGeom>
              <a:solidFill>
                <a:srgbClr val="789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4"/>
            <p:cNvSpPr/>
            <p:nvPr/>
          </p:nvSpPr>
          <p:spPr>
            <a:xfrm rot="19431000">
              <a:off x="2481120" y="4076640"/>
              <a:ext cx="1603440" cy="238680"/>
            </a:xfrm>
            <a:prstGeom prst="rect">
              <a:avLst/>
            </a:prstGeom>
            <a:solidFill>
              <a:srgbClr val="789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Connecteur droit 19"/>
          <p:cNvSpPr/>
          <p:nvPr/>
        </p:nvSpPr>
        <p:spPr>
          <a:xfrm flipV="1">
            <a:off x="3317760" y="3679920"/>
            <a:ext cx="4278600" cy="317808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necteur droit 20"/>
          <p:cNvSpPr/>
          <p:nvPr/>
        </p:nvSpPr>
        <p:spPr>
          <a:xfrm flipV="1">
            <a:off x="3706920" y="5850000"/>
            <a:ext cx="1357200" cy="1008000"/>
          </a:xfrm>
          <a:prstGeom prst="line">
            <a:avLst/>
          </a:prstGeom>
          <a:ln w="9360">
            <a:solidFill>
              <a:srgbClr val="7f7f7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 rot="19380000">
            <a:off x="4311720" y="4279680"/>
            <a:ext cx="408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dbfab"/>
                </a:solidFill>
                <a:latin typeface="Arial"/>
              </a:rPr>
              <a:t>Insert sub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 rot="19380000">
            <a:off x="3633840" y="1717200"/>
            <a:ext cx="562464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9675"/>
                </a:solidFill>
                <a:latin typeface="Arial Black"/>
              </a:rPr>
              <a:t>Insert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EA7-B7C4-458B-B200-A095E3B031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7133" t="0" r="0" b="0"/>
          <a:stretch/>
        </p:blipFill>
        <p:spPr>
          <a:xfrm>
            <a:off x="0" y="189000"/>
            <a:ext cx="1411200" cy="1625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9675"/>
                </a:solidFill>
                <a:latin typeface="Arial Black"/>
              </a:rPr>
              <a:t>Customize your headlin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896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9675"/>
                </a:solidFill>
                <a:latin typeface="Arial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896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9675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78967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9675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9675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89675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896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>a</cp:lastModifiedBy>
  <dcterms:modified xsi:type="dcterms:W3CDTF">2014-07-21T06:46:54Z</dcterms:modified>
  <cp:revision>1</cp:revision>
  <dc:subject/>
  <dc:title>Insert the title of your presentatio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