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A9D-81A9-4E2E-BBD4-80F1889D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918-78D3-4B5A-A579-4A96292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67D-350E-4E11-8AD2-5A3CFA7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DCD-40FD-4830-9593-C01CDA2E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29D-2683-4419-AAC4-0317602F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E39-CE8C-4ABE-A171-A91078C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279-79BB-4BC5-8A9F-DA25F95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DBD-A6A8-4F69-8838-E8AAC63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91D-E496-4881-B328-C53AAAD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9A6-F7D7-41A9-A57D-B00E3639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1C-AE20-4F73-B471-4994D741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701-87F0-4EA7-A262-AA492E1D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972C-3383-409D-9F20-0CCC4223E8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1A4-A4D5-4E5F-B1FF-3A3C5E5DA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71880" y="5072040"/>
            <a:ext cx="5929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3298680" y="57862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43e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占位符 15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4786200" cy="3000600"/>
          </a:xfrm>
          <a:prstGeom prst="rect">
            <a:avLst/>
          </a:prstGeom>
          <a:ln w="19080">
            <a:solidFill>
              <a:srgbClr val="0f243e"/>
            </a:solidFill>
            <a:miter/>
          </a:ln>
        </p:spPr>
      </p:pic>
      <p:pic>
        <p:nvPicPr>
          <p:cNvPr id="80" name="图片占位符 16" descr=""/>
          <p:cNvPicPr/>
          <p:nvPr/>
        </p:nvPicPr>
        <p:blipFill>
          <a:blip r:embed="rId2"/>
          <a:stretch/>
        </p:blipFill>
        <p:spPr>
          <a:xfrm>
            <a:off x="5929200" y="1857240"/>
            <a:ext cx="2500560" cy="3000600"/>
          </a:xfrm>
          <a:prstGeom prst="rect">
            <a:avLst/>
          </a:prstGeom>
          <a:ln w="19080">
            <a:solidFill>
              <a:srgbClr val="953734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1071360" y="5000760"/>
            <a:ext cx="7358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Western USA interconnection (Pacific Intertie) The AC/DC Pacific Intertie is the largest sing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ectricity transmission program in the United Stat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占位符 6" descr=""/>
          <p:cNvPicPr/>
          <p:nvPr/>
        </p:nvPicPr>
        <p:blipFill>
          <a:blip r:embed="rId1"/>
          <a:stretch/>
        </p:blipFill>
        <p:spPr>
          <a:xfrm>
            <a:off x="4643280" y="1714680"/>
            <a:ext cx="3500640" cy="4429080"/>
          </a:xfrm>
          <a:prstGeom prst="rect">
            <a:avLst/>
          </a:prstGeom>
          <a:ln w="19080">
            <a:solidFill>
              <a:srgbClr val="953734"/>
            </a:solidFill>
            <a:miter/>
          </a:ln>
        </p:spPr>
      </p:pic>
      <p:pic>
        <p:nvPicPr>
          <p:cNvPr id="83" name="图片占位符 11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3571920" cy="192888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928800" y="2143080"/>
            <a:ext cx="357192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Intertie includes three AC lines and 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VDC line. Together, they comprise the larges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 electricity transmission program in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ed States. The Intertie is capable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nsmitting up to 7,900 MW - 4,800 on A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d 3,100 on DC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占位符 6" descr=""/>
          <p:cNvPicPr/>
          <p:nvPr/>
        </p:nvPicPr>
        <p:blipFill>
          <a:blip r:embed="rId1"/>
          <a:stretch/>
        </p:blipFill>
        <p:spPr>
          <a:xfrm>
            <a:off x="5929200" y="2000160"/>
            <a:ext cx="2571840" cy="235764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pic>
        <p:nvPicPr>
          <p:cNvPr id="86" name="图片占位符 5" descr=""/>
          <p:cNvPicPr/>
          <p:nvPr/>
        </p:nvPicPr>
        <p:blipFill>
          <a:blip r:embed="rId2"/>
          <a:stretch/>
        </p:blipFill>
        <p:spPr>
          <a:xfrm>
            <a:off x="3286080" y="2000160"/>
            <a:ext cx="2571840" cy="2357640"/>
          </a:xfrm>
          <a:prstGeom prst="rect">
            <a:avLst/>
          </a:prstGeom>
          <a:ln w="19080">
            <a:solidFill>
              <a:srgbClr val="366092"/>
            </a:solidFill>
            <a:miter/>
          </a:ln>
        </p:spPr>
      </p:pic>
      <p:pic>
        <p:nvPicPr>
          <p:cNvPr id="87" name="图片占位符 4" descr=""/>
          <p:cNvPicPr/>
          <p:nvPr/>
        </p:nvPicPr>
        <p:blipFill>
          <a:blip r:embed="rId3"/>
          <a:stretch/>
        </p:blipFill>
        <p:spPr>
          <a:xfrm>
            <a:off x="642960" y="2000160"/>
            <a:ext cx="2571840" cy="2357640"/>
          </a:xfrm>
          <a:prstGeom prst="rect">
            <a:avLst/>
          </a:prstGeom>
          <a:ln w="19080">
            <a:solidFill>
              <a:srgbClr val="974806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642960" y="4571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over 30 years, electricity consumers on the US West Coast have benefited from a power link tha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ows large amounts of power to be transmitted between the Pacific Northwest and the Southwest.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-voltage transmission lines that make this power-sharing possible collectively are called the Pacif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t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428800" y="5214960"/>
            <a:ext cx="27860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35:00Z</dcterms:created>
  <dc:creator>User</dc:creator>
  <dc:description/>
  <cp:keywords/>
  <dc:language>en-US</dc:language>
  <cp:lastModifiedBy>a</cp:lastModifiedBy>
  <dcterms:modified xsi:type="dcterms:W3CDTF">2014-05-31T02:09:13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