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87B-7250-45B2-95BE-803177E1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6D9-B601-4259-9545-C15F3BF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8D1-C87B-4CF2-A38C-9743685E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A7F-09C8-4B59-92D5-721E3C2B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D69C-897A-4F98-A558-D3CEA9D4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291F-BA1B-4FBE-8669-88742BA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90B2-D896-4DCA-8AD1-7BAFE6E6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4BB-B7EA-46CE-A15B-1B5D032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FB2-2028-4C4C-A912-258441D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604E-6260-428C-8CD9-0872F0AB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501-AE14-496A-8AC2-1C30117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713-D724-4C26-9C2A-5C7BF6A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776-2669-442A-A55E-01103CB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04EF-231A-4591-B495-87F2188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5CB-7D07-4FD0-9780-8EEC3C1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027D-A48E-4459-AC84-48FC5813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E83-1E7D-41F7-A69D-7963385B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4C1-CAF9-4AB5-ACDE-4C28997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65B-778F-4945-A5EA-CDF6CA3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6B4-B165-4D9C-A319-8861430A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819-9B1E-450F-BF09-6F069964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613-79E9-4233-8A52-6567C3AB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943-531B-4F1F-905B-8E300F83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78D-7953-43D2-B12C-2CFBEE4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e3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62A-1A18-4BB1-9027-D8C08098AD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7610-C45C-41CD-B305-AF4646D0C9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B02B-AFEF-4A9C-BA5D-9C5635ACD85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9341-9E0A-401A-9197-EA2C735EA3F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930080" y="339840"/>
            <a:ext cx="729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7f7f"/>
                </a:solidFill>
                <a:latin typeface="方正兰亭特黑扁简体"/>
                <a:ea typeface="方正兰亭特黑扁简体"/>
              </a:rPr>
              <a:t>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7f7f"/>
                </a:solidFill>
                <a:latin typeface="方正兰亭特黑扁简体"/>
                <a:ea typeface="方正兰亭特黑扁简体"/>
              </a:rPr>
              <a:t>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-1440" y="0"/>
            <a:ext cx="8224560" cy="5164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78080" y="1766880"/>
            <a:ext cx="68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8333280" y="3651120"/>
            <a:ext cx="72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951360" y="237960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086800" y="2894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alibri"/>
              </a:rPr>
              <a:t>在此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3492360" y="0"/>
            <a:ext cx="1079640" cy="5143680"/>
          </a:xfrm>
          <a:prstGeom prst="rect">
            <a:avLst/>
          </a:prstGeom>
          <a:solidFill>
            <a:srgbClr val="bdd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404640" y="0"/>
            <a:ext cx="3662640" cy="5164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 rot="16200000">
            <a:off x="-251280" y="4206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005000" y="482760"/>
            <a:ext cx="70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067640" y="1692360"/>
            <a:ext cx="66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088160" y="2851200"/>
            <a:ext cx="66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方正粗黑宋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035960" y="4048200"/>
            <a:ext cx="66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方正粗黑宋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5292720" y="411120"/>
            <a:ext cx="71928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dd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5262480" y="1590840"/>
            <a:ext cx="719280" cy="720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bdd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283360" y="2771640"/>
            <a:ext cx="720720" cy="7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bdd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5297400" y="3951360"/>
            <a:ext cx="720720" cy="72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bdd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667200" y="5097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6667200" y="168912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6667200" y="287028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6667200" y="40496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589680" y="5256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 rot="16200000">
            <a:off x="-403560" y="3873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文章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1" descr=""/>
          <p:cNvPicPr/>
          <p:nvPr/>
        </p:nvPicPr>
        <p:blipFill>
          <a:blip r:embed="rId1"/>
          <a:stretch/>
        </p:blipFill>
        <p:spPr>
          <a:xfrm>
            <a:off x="395280" y="0"/>
            <a:ext cx="8234280" cy="5149800"/>
          </a:xfrm>
          <a:prstGeom prst="rect">
            <a:avLst/>
          </a:prstGeom>
          <a:ln w="0">
            <a:noFill/>
          </a:ln>
        </p:spPr>
      </p:pic>
      <p:sp>
        <p:nvSpPr>
          <p:cNvPr id="106" name="矩形 23"/>
          <p:cNvSpPr/>
          <p:nvPr/>
        </p:nvSpPr>
        <p:spPr>
          <a:xfrm>
            <a:off x="2098800" y="0"/>
            <a:ext cx="7045200" cy="51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e3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2" descr=""/>
          <p:cNvPicPr/>
          <p:nvPr/>
        </p:nvPicPr>
        <p:blipFill>
          <a:blip r:embed="rId2"/>
          <a:stretch/>
        </p:blipFill>
        <p:spPr>
          <a:xfrm>
            <a:off x="593640" y="771480"/>
            <a:ext cx="2044800" cy="2222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4"/>
          <p:cNvSpPr/>
          <p:nvPr/>
        </p:nvSpPr>
        <p:spPr>
          <a:xfrm>
            <a:off x="662040" y="394020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3730680" y="749160"/>
            <a:ext cx="4390920" cy="3502080"/>
            <a:chOff x="3730680" y="749160"/>
            <a:chExt cx="4390920" cy="3502080"/>
          </a:xfrm>
        </p:grpSpPr>
        <p:grpSp>
          <p:nvGrpSpPr>
            <p:cNvPr id="110" name="Group 8"/>
            <p:cNvGrpSpPr/>
            <p:nvPr/>
          </p:nvGrpSpPr>
          <p:grpSpPr>
            <a:xfrm>
              <a:off x="3730680" y="749160"/>
              <a:ext cx="4390920" cy="2743200"/>
              <a:chOff x="3730680" y="749160"/>
              <a:chExt cx="4390920" cy="2743200"/>
            </a:xfrm>
          </p:grpSpPr>
          <p:sp>
            <p:nvSpPr>
              <p:cNvPr id="111" name="Rectangle 4"/>
              <p:cNvSpPr/>
              <p:nvPr/>
            </p:nvSpPr>
            <p:spPr>
              <a:xfrm>
                <a:off x="7535880" y="1299960"/>
                <a:ext cx="585720" cy="219240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"/>
              <p:cNvSpPr/>
              <p:nvPr/>
            </p:nvSpPr>
            <p:spPr>
              <a:xfrm>
                <a:off x="6784920" y="1604880"/>
                <a:ext cx="584280" cy="1887480"/>
              </a:xfrm>
              <a:prstGeom prst="rect">
                <a:avLst/>
              </a:prstGeom>
              <a:solidFill>
                <a:srgbClr val="d99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6"/>
              <p:cNvSpPr/>
              <p:nvPr/>
            </p:nvSpPr>
            <p:spPr>
              <a:xfrm>
                <a:off x="6031080" y="1960560"/>
                <a:ext cx="585720" cy="1531800"/>
              </a:xfrm>
              <a:prstGeom prst="rect">
                <a:avLst/>
              </a:prstGeom>
              <a:solidFill>
                <a:srgbClr val="6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5278320" y="2263680"/>
                <a:ext cx="587520" cy="122868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4525920" y="2519280"/>
                <a:ext cx="585720" cy="973080"/>
              </a:xfrm>
              <a:prstGeom prst="rect">
                <a:avLst/>
              </a:prstGeom>
              <a:solidFill>
                <a:srgbClr val="bd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3773520" y="2820960"/>
                <a:ext cx="585720" cy="67140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3730680" y="749160"/>
                <a:ext cx="439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图表应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3773520" y="1116000"/>
                <a:ext cx="434808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矩形 47"/>
            <p:cNvSpPr/>
            <p:nvPr/>
          </p:nvSpPr>
          <p:spPr>
            <a:xfrm>
              <a:off x="3799800" y="3718800"/>
              <a:ext cx="532440" cy="532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bdd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8"/>
            <p:cNvSpPr/>
            <p:nvPr/>
          </p:nvSpPr>
          <p:spPr>
            <a:xfrm>
              <a:off x="4552560" y="3718800"/>
              <a:ext cx="532440" cy="532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bdd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49"/>
            <p:cNvSpPr/>
            <p:nvPr/>
          </p:nvSpPr>
          <p:spPr>
            <a:xfrm>
              <a:off x="5304960" y="3718800"/>
              <a:ext cx="532440" cy="532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bdd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0"/>
            <p:cNvSpPr/>
            <p:nvPr/>
          </p:nvSpPr>
          <p:spPr>
            <a:xfrm>
              <a:off x="6057360" y="3718800"/>
              <a:ext cx="532440" cy="532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bdd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1"/>
            <p:cNvSpPr/>
            <p:nvPr/>
          </p:nvSpPr>
          <p:spPr>
            <a:xfrm>
              <a:off x="6810120" y="3718800"/>
              <a:ext cx="532440" cy="532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bdd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2"/>
            <p:cNvSpPr/>
            <p:nvPr/>
          </p:nvSpPr>
          <p:spPr>
            <a:xfrm>
              <a:off x="7562520" y="3718800"/>
              <a:ext cx="532440" cy="532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38160">
              <a:solidFill>
                <a:srgbClr val="bdd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 rot="16200000">
            <a:off x="-403560" y="3873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文章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1" descr=""/>
          <p:cNvPicPr/>
          <p:nvPr/>
        </p:nvPicPr>
        <p:blipFill>
          <a:blip r:embed="rId1"/>
          <a:stretch/>
        </p:blipFill>
        <p:spPr>
          <a:xfrm>
            <a:off x="395280" y="0"/>
            <a:ext cx="8234280" cy="5149800"/>
          </a:xfrm>
          <a:prstGeom prst="rect">
            <a:avLst/>
          </a:prstGeom>
          <a:ln w="0">
            <a:noFill/>
          </a:ln>
        </p:spPr>
      </p:pic>
      <p:sp>
        <p:nvSpPr>
          <p:cNvPr id="127" name="矩形 23"/>
          <p:cNvSpPr/>
          <p:nvPr/>
        </p:nvSpPr>
        <p:spPr>
          <a:xfrm>
            <a:off x="2098800" y="0"/>
            <a:ext cx="7045200" cy="51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e3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2" descr=""/>
          <p:cNvPicPr/>
          <p:nvPr/>
        </p:nvPicPr>
        <p:blipFill>
          <a:blip r:embed="rId2"/>
          <a:stretch/>
        </p:blipFill>
        <p:spPr>
          <a:xfrm>
            <a:off x="593640" y="771480"/>
            <a:ext cx="2044800" cy="2222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4"/>
          <p:cNvSpPr/>
          <p:nvPr/>
        </p:nvSpPr>
        <p:spPr>
          <a:xfrm>
            <a:off x="662040" y="394020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633840" y="3486240"/>
            <a:ext cx="4708440" cy="1139760"/>
            <a:chOff x="3633840" y="3486240"/>
            <a:chExt cx="4708440" cy="1139760"/>
          </a:xfrm>
        </p:grpSpPr>
        <p:sp>
          <p:nvSpPr>
            <p:cNvPr id="131" name="AutoShape 33"/>
            <p:cNvSpPr/>
            <p:nvPr/>
          </p:nvSpPr>
          <p:spPr>
            <a:xfrm>
              <a:off x="3633840" y="3486240"/>
              <a:ext cx="4708440" cy="1139760"/>
            </a:xfrm>
            <a:prstGeom prst="roundRect">
              <a:avLst>
                <a:gd name="adj" fmla="val 125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805200" y="43693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35"/>
            <p:cNvSpPr/>
            <p:nvPr/>
          </p:nvSpPr>
          <p:spPr>
            <a:xfrm>
              <a:off x="4885560" y="38599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5192640" y="35719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75"/>
            <p:cNvSpPr/>
            <p:nvPr/>
          </p:nvSpPr>
          <p:spPr>
            <a:xfrm>
              <a:off x="3967200" y="3679920"/>
              <a:ext cx="666720" cy="666720"/>
            </a:xfrm>
            <a:prstGeom prst="ellipse">
              <a:avLst/>
            </a:prstGeom>
            <a:solidFill>
              <a:srgbClr val="eaf1d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76"/>
            <p:cNvSpPr/>
            <p:nvPr/>
          </p:nvSpPr>
          <p:spPr>
            <a:xfrm>
              <a:off x="4158360" y="3836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3633840" y="515880"/>
            <a:ext cx="4708440" cy="1139760"/>
            <a:chOff x="3633840" y="515880"/>
            <a:chExt cx="4708440" cy="1139760"/>
          </a:xfrm>
        </p:grpSpPr>
        <p:sp>
          <p:nvSpPr>
            <p:cNvPr id="138" name="AutoShape 33"/>
            <p:cNvSpPr/>
            <p:nvPr/>
          </p:nvSpPr>
          <p:spPr>
            <a:xfrm>
              <a:off x="3633840" y="515880"/>
              <a:ext cx="4708440" cy="1139760"/>
            </a:xfrm>
            <a:prstGeom prst="roundRect">
              <a:avLst>
                <a:gd name="adj" fmla="val 125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805200" y="13989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32"/>
            <p:cNvSpPr/>
            <p:nvPr/>
          </p:nvSpPr>
          <p:spPr>
            <a:xfrm>
              <a:off x="5192640" y="601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"/>
            <p:cNvSpPr/>
            <p:nvPr/>
          </p:nvSpPr>
          <p:spPr>
            <a:xfrm>
              <a:off x="3967200" y="70956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2"/>
            <p:cNvSpPr/>
            <p:nvPr/>
          </p:nvSpPr>
          <p:spPr>
            <a:xfrm>
              <a:off x="4158360" y="866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4885560" y="8895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3633840" y="2000160"/>
            <a:ext cx="4708440" cy="1139760"/>
            <a:chOff x="3633840" y="2000160"/>
            <a:chExt cx="4708440" cy="1139760"/>
          </a:xfrm>
        </p:grpSpPr>
        <p:sp>
          <p:nvSpPr>
            <p:cNvPr id="145" name="AutoShape 33"/>
            <p:cNvSpPr/>
            <p:nvPr/>
          </p:nvSpPr>
          <p:spPr>
            <a:xfrm>
              <a:off x="3633840" y="2000160"/>
              <a:ext cx="4708440" cy="1139760"/>
            </a:xfrm>
            <a:prstGeom prst="roundRect">
              <a:avLst>
                <a:gd name="adj" fmla="val 125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164" descr=""/>
            <p:cNvPicPr/>
            <p:nvPr/>
          </p:nvPicPr>
          <p:blipFill>
            <a:blip r:embed="rId5">
              <a:lum bright="18000"/>
            </a:blip>
            <a:stretch/>
          </p:blipFill>
          <p:spPr>
            <a:xfrm>
              <a:off x="3805200" y="288324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35"/>
            <p:cNvSpPr/>
            <p:nvPr/>
          </p:nvSpPr>
          <p:spPr>
            <a:xfrm>
              <a:off x="4885560" y="237384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5192640" y="208584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60"/>
            <p:cNvSpPr/>
            <p:nvPr/>
          </p:nvSpPr>
          <p:spPr>
            <a:xfrm>
              <a:off x="3967200" y="2193840"/>
              <a:ext cx="666720" cy="666720"/>
            </a:xfrm>
            <a:prstGeom prst="ellipse">
              <a:avLst/>
            </a:prstGeom>
            <a:solidFill>
              <a:srgbClr val="d6e3bc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61"/>
            <p:cNvSpPr/>
            <p:nvPr/>
          </p:nvSpPr>
          <p:spPr>
            <a:xfrm>
              <a:off x="4158360" y="2350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4" descr=""/>
          <p:cNvPicPr/>
          <p:nvPr/>
        </p:nvPicPr>
        <p:blipFill>
          <a:blip r:embed="rId1"/>
          <a:stretch/>
        </p:blipFill>
        <p:spPr>
          <a:xfrm>
            <a:off x="-1289160" y="0"/>
            <a:ext cx="2908440" cy="5595840"/>
          </a:xfrm>
          <a:prstGeom prst="rect">
            <a:avLst/>
          </a:prstGeom>
          <a:ln w="0">
            <a:noFill/>
          </a:ln>
        </p:spPr>
      </p:pic>
      <p:sp>
        <p:nvSpPr>
          <p:cNvPr id="152" name="矩形 5"/>
          <p:cNvSpPr/>
          <p:nvPr/>
        </p:nvSpPr>
        <p:spPr>
          <a:xfrm>
            <a:off x="1511280" y="0"/>
            <a:ext cx="576360" cy="5159520"/>
          </a:xfrm>
          <a:prstGeom prst="rect">
            <a:avLst/>
          </a:prstGeom>
          <a:gradFill rotWithShape="0">
            <a:gsLst>
              <a:gs pos="0">
                <a:srgbClr val="d8e3c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 rot="16200000">
            <a:off x="678600" y="329616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709560" y="50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8e3c7"/>
                </a:solidFill>
                <a:latin typeface="Calibri"/>
              </a:rPr>
              <a:t>文章</a:t>
            </a:r>
            <a:r>
              <a:rPr b="0" lang="zh-CN" sz="4000" spc="-1" strike="noStrike">
                <a:solidFill>
                  <a:srgbClr val="4f6128"/>
                </a:solidFill>
                <a:latin typeface="Calibri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3220920" y="3292560"/>
            <a:ext cx="514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个模板是个小小的主题模板，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on my way,</a:t>
            </a: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蜗牛虽小，但仍然努力前行，就象我们自已一样，虽然没有能力改变世界，但仍努力的改变自已的生活，希望每位锐友都能做一个飞奔的蜗牛，即使是面对危险（第二张图片），即使是爬到了枝干的尽头（第三张图片），最终还是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9" descr=""/>
          <p:cNvPicPr/>
          <p:nvPr/>
        </p:nvPicPr>
        <p:blipFill>
          <a:blip r:embed="rId2"/>
          <a:stretch/>
        </p:blipFill>
        <p:spPr>
          <a:xfrm>
            <a:off x="3332160" y="581040"/>
            <a:ext cx="2319480" cy="1687320"/>
          </a:xfrm>
          <a:prstGeom prst="rect">
            <a:avLst/>
          </a:prstGeom>
          <a:ln w="44280">
            <a:solidFill>
              <a:srgbClr val="bdd0a0"/>
            </a:solidFill>
            <a:miter/>
          </a:ln>
        </p:spPr>
      </p:pic>
      <p:pic>
        <p:nvPicPr>
          <p:cNvPr id="157" name="图片 10" descr=""/>
          <p:cNvPicPr/>
          <p:nvPr/>
        </p:nvPicPr>
        <p:blipFill>
          <a:blip r:embed="rId3"/>
          <a:stretch/>
        </p:blipFill>
        <p:spPr>
          <a:xfrm>
            <a:off x="5651640" y="1336680"/>
            <a:ext cx="2631960" cy="1689120"/>
          </a:xfrm>
          <a:prstGeom prst="rect">
            <a:avLst/>
          </a:prstGeom>
          <a:ln w="44280">
            <a:solidFill>
              <a:srgbClr val="bdd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4" descr=""/>
          <p:cNvPicPr/>
          <p:nvPr/>
        </p:nvPicPr>
        <p:blipFill>
          <a:blip r:embed="rId1"/>
          <a:stretch/>
        </p:blipFill>
        <p:spPr>
          <a:xfrm>
            <a:off x="-1289160" y="0"/>
            <a:ext cx="2908440" cy="5595840"/>
          </a:xfrm>
          <a:prstGeom prst="rect">
            <a:avLst/>
          </a:prstGeom>
          <a:ln w="0">
            <a:noFill/>
          </a:ln>
        </p:spPr>
      </p:pic>
      <p:sp>
        <p:nvSpPr>
          <p:cNvPr id="159" name="矩形 5"/>
          <p:cNvSpPr/>
          <p:nvPr/>
        </p:nvSpPr>
        <p:spPr>
          <a:xfrm>
            <a:off x="1511280" y="0"/>
            <a:ext cx="576360" cy="5159520"/>
          </a:xfrm>
          <a:prstGeom prst="rect">
            <a:avLst/>
          </a:prstGeom>
          <a:gradFill rotWithShape="0">
            <a:gsLst>
              <a:gs pos="0">
                <a:srgbClr val="d8e3c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 rot="16200000">
            <a:off x="678600" y="329616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709560" y="50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8e3c7"/>
                </a:solidFill>
                <a:latin typeface="Calibri"/>
              </a:rPr>
              <a:t>文章</a:t>
            </a:r>
            <a:r>
              <a:rPr b="0" lang="zh-CN" sz="4000" spc="-1" strike="noStrike">
                <a:solidFill>
                  <a:srgbClr val="4f6128"/>
                </a:solidFill>
                <a:latin typeface="Calibri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3480840" y="649080"/>
            <a:ext cx="4021560" cy="3830400"/>
            <a:chOff x="3480840" y="649080"/>
            <a:chExt cx="4021560" cy="3830400"/>
          </a:xfrm>
        </p:grpSpPr>
        <p:sp>
          <p:nvSpPr>
            <p:cNvPr id="163" name="WordArt 384"/>
            <p:cNvSpPr txBox="1"/>
            <p:nvPr/>
          </p:nvSpPr>
          <p:spPr>
            <a:xfrm>
              <a:off x="4782960" y="2292120"/>
              <a:ext cx="160776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286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1" strike="noStrike">
                  <a:ln w="0">
                    <a:noFill/>
                  </a:ln>
                  <a:solidFill>
                    <a:srgbClr val="0c0c0c"/>
                  </a:solidFill>
                  <a:latin typeface="微软雅黑"/>
                </a:rPr>
                <a:t>填写标题内容</a:t>
              </a:r>
              <a:endParaRPr b="1" lang="en-US" sz="800" spc="1" strike="noStrike">
                <a:ln w="0">
                  <a:noFill/>
                </a:ln>
                <a:solidFill>
                  <a:srgbClr val="0c0c0c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WordArt 393"/>
            <p:cNvSpPr txBox="1"/>
            <p:nvPr/>
          </p:nvSpPr>
          <p:spPr>
            <a:xfrm rot="2799000">
              <a:off x="5501520" y="155268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747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填写标题内容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5" name="WordArt 394"/>
            <p:cNvSpPr txBox="1"/>
            <p:nvPr/>
          </p:nvSpPr>
          <p:spPr>
            <a:xfrm rot="18989400">
              <a:off x="4227120" y="1575000"/>
              <a:ext cx="1420920" cy="72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747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填写标题内容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6" name="WordArt 395"/>
            <p:cNvSpPr txBox="1"/>
            <p:nvPr/>
          </p:nvSpPr>
          <p:spPr>
            <a:xfrm rot="13599000">
              <a:off x="4266000" y="284976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747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填写标题内容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7" name="WordArt 396"/>
            <p:cNvSpPr txBox="1"/>
            <p:nvPr/>
          </p:nvSpPr>
          <p:spPr>
            <a:xfrm rot="8189400">
              <a:off x="5523480" y="2831400"/>
              <a:ext cx="1420920" cy="722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747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填写标题内容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168" name="Group 20"/>
            <p:cNvGrpSpPr/>
            <p:nvPr/>
          </p:nvGrpSpPr>
          <p:grpSpPr>
            <a:xfrm>
              <a:off x="4782960" y="649080"/>
              <a:ext cx="1607760" cy="3830400"/>
              <a:chOff x="4782960" y="649080"/>
              <a:chExt cx="1607760" cy="3830400"/>
            </a:xfrm>
          </p:grpSpPr>
          <p:sp>
            <p:nvSpPr>
              <p:cNvPr id="169" name="WordArt 398"/>
              <p:cNvSpPr txBox="1"/>
              <p:nvPr/>
            </p:nvSpPr>
            <p:spPr>
              <a:xfrm>
                <a:off x="4782960" y="649080"/>
                <a:ext cx="1607760" cy="536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51942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微软雅黑"/>
                  </a:rPr>
                  <a:t>填写标题内容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0" name="WordArt 399"/>
              <p:cNvSpPr txBox="1"/>
              <p:nvPr/>
            </p:nvSpPr>
            <p:spPr>
              <a:xfrm rot="10800000">
                <a:off x="4782960" y="3943080"/>
                <a:ext cx="1607760" cy="536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51942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微软雅黑"/>
                  </a:rPr>
                  <a:t>填写标题内容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1" name="WordArt 400"/>
            <p:cNvSpPr txBox="1"/>
            <p:nvPr/>
          </p:nvSpPr>
          <p:spPr>
            <a:xfrm rot="5400000">
              <a:off x="6430320" y="2296080"/>
              <a:ext cx="1607760" cy="536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19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填写标题内容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pic>
          <p:nvPicPr>
            <p:cNvPr id="172" name="WordArt 401" descr=""/>
            <p:cNvPicPr/>
            <p:nvPr/>
          </p:nvPicPr>
          <p:blipFill>
            <a:blip r:embed="rId2"/>
            <a:stretch/>
          </p:blipFill>
          <p:spPr>
            <a:xfrm>
              <a:off x="3480840" y="1639440"/>
              <a:ext cx="724680" cy="182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/>
          <p:cNvSpPr/>
          <p:nvPr/>
        </p:nvSpPr>
        <p:spPr>
          <a:xfrm>
            <a:off x="7930080" y="339840"/>
            <a:ext cx="729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7f7f"/>
                </a:solidFill>
                <a:latin typeface="方正兰亭特黑扁简体"/>
                <a:ea typeface="方正兰亭特黑扁简体"/>
              </a:rPr>
              <a:t>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7f7f"/>
                </a:solidFill>
                <a:latin typeface="方正兰亭特黑扁简体"/>
                <a:ea typeface="方正兰亭特黑扁简体"/>
              </a:rPr>
              <a:t>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3" descr=""/>
          <p:cNvPicPr/>
          <p:nvPr/>
        </p:nvPicPr>
        <p:blipFill>
          <a:blip r:embed="rId1"/>
          <a:stretch/>
        </p:blipFill>
        <p:spPr>
          <a:xfrm>
            <a:off x="-1440" y="0"/>
            <a:ext cx="8224560" cy="5164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"/>
          <p:cNvSpPr/>
          <p:nvPr/>
        </p:nvSpPr>
        <p:spPr>
          <a:xfrm>
            <a:off x="8578080" y="1766880"/>
            <a:ext cx="68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8333280" y="3651120"/>
            <a:ext cx="72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7185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79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9:03:00Z</dcterms:created>
  <dc:creator>Windows 用户</dc:creator>
  <dc:description/>
  <cp:keywords/>
  <dc:language>en-US</dc:language>
  <cp:lastModifiedBy>a</cp:lastModifiedBy>
  <dcterms:modified xsi:type="dcterms:W3CDTF">2014-07-20T07:58:10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