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42F-B750-40BC-BECC-D616BFD7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A5B-3C3C-4854-BF4D-E49DC86D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514-11BA-4FF1-8906-E6A2B3C7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1C1-604B-4430-BD98-3807D8F9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FDAD-5262-4076-8798-21AA83C2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6754-F8F8-4910-9A89-63121719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F473-DE1A-4475-B678-7C2E1DDF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DC99-6DD5-4C13-AC25-0CB429EB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0258-C60F-464C-A075-C7CC22AD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C65-223C-4F02-A3C4-2DC36B48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3082-6AD1-4A96-B2ED-DBAF5D2D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754-0F01-41DA-9B3A-A919A10C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A6C7-454C-46BC-95DF-B8158EF6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4A1A-9D86-4515-8A21-DE749B98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A311-3B3E-49C6-A8A6-44A10FC7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7B70-3574-4476-970E-17861E84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026C-CE31-4124-9F3E-742F2F1E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871F-A2C8-4A96-A1C8-8B3BA970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88DE-61B0-4049-A4A7-134D5402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6619-AAF6-4D44-B230-EA4F8988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1FCD5-41BA-4D0D-A186-5EFF822C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3D6D-2C47-48CD-A8A0-67DCC713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47A-B7B8-46E1-9BCC-690972EE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6C2B-8136-473E-B62E-2AB19A9B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A7B4-1841-4581-A9B0-9B2D5EEB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DE511-DAC0-4533-8072-D7609087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471CE-FE24-4401-B062-42048FE6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FFE4-80EF-47A0-9CCD-2295C7CB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0C73-B180-434E-A3AF-8E291BD8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602E-C63E-4EF5-BDD7-C29ADD30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3FC-3EDD-44C2-B860-C89939AE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84D-8D19-454F-A53D-FF7000C5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E32-E16E-4648-8EA3-424784E4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398-E324-4D94-9D66-4DE06CB0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11F-3B55-41A9-BC51-1BB45929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1EB1-E239-409F-B38A-97EE4857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4774-273F-42D3-B3D0-1E9A0917228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83AE-D979-4DB0-8269-A15911EA016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D4EE-2593-45B8-8F3F-FEBF999B46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5D78-467F-4C6F-AC77-10B160D6D1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7672320" y="620640"/>
            <a:ext cx="118584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77777"/>
                </a:solidFill>
                <a:latin typeface="Arial"/>
                <a:ea typeface="华文仿宋"/>
              </a:rPr>
              <a:t>放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474320" y="1413000"/>
            <a:ext cx="39348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tangChe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目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7537680" y="692280"/>
            <a:ext cx="850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131000" y="1365120"/>
            <a:ext cx="3106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幻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自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那個一直桎梏在籠中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过度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5003640" y="38037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200560" y="4438800"/>
            <a:ext cx="248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skerville Old Face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5840" y="52560"/>
            <a:ext cx="3144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内容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60440" y="333360"/>
            <a:ext cx="238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7360" y="1263600"/>
            <a:ext cx="6848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放飛就是遠離城市的喧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擺脫日常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家庭和事業的羈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縱情於山水之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不同的錦繡風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各地的風俗人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滿足好奇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求知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增加閱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賞心悅目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结束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5280480" y="1974960"/>
            <a:ext cx="164268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謝謝觀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0T04:57:32Z</dcterms:modified>
  <cp:revision>1</cp:revision>
  <dc:subject/>
  <dc:title>PowerPoint 演示文稿</dc:title>
</cp:coreProperties>
</file>