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FD3-BF3C-45EE-941A-69E514F0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BBF-F618-461C-8098-502CE767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6E4-36B1-4C88-9704-4D266656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4FA-A965-4C27-85B8-152EB627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1FA0-D787-42E1-9E2C-07058015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0DCB-F455-4158-8EF0-31188B6D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4A7D-3557-4F6E-8A96-BD42541C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7E79-187C-4A08-AA5C-AE52A387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82F1-4374-4495-BB75-2191F8AF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2BA5-69B4-4F43-AF67-D600812C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D262-4E4A-440F-8FA0-00A182A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B6A-4325-4B8C-A262-D7B348A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AA81-A9AD-4A3F-837E-12734C4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3B5D-2E3A-4589-BBA7-D2D7B465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4E74-093C-482A-B9B7-C26DBE51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8623-8359-4CCC-AEEF-556468E5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F57B-C655-417D-8190-55358678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85DD-D38B-4FAE-9C6A-8741EEAC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43CE-5E0E-48B5-BF3A-33AF0D99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E873-B325-40FF-AE23-545A6784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EDE5-DACC-403D-B70A-4129E0B5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DF97-47AE-4355-9252-BE5C2C9D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964-FDF2-42FE-9145-8550D312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5C18-C829-4743-AADB-3102B98C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4D86-A9E7-4DA3-87BF-29DE3631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04B1-25B7-41A5-B795-A1EFF456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84C5-94F7-4A2F-8192-D455FB8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1A6F-7B8F-4720-9A5C-A4D5DD90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DF30-655B-44C1-AAFE-53731E52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AD43-8533-429D-8E69-F651C41A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7D19-70DC-4E2B-936E-DD5BA80F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8FF68-9814-4433-A83A-42D3ECA0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5736-165F-4E9D-9E0F-68150A40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5E6-CF2D-4240-A6D5-B185B90B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DC56-024F-48CC-98D2-7D501DB5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6A09-6258-4C5C-AE09-9C7D285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674D3-828E-426E-8DA7-B360494A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4ADFB-AF06-4CFC-AF4E-A7123508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B246-101E-4BC5-B4BF-8E18AC1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4F6D-AA69-4054-8331-D8604F6D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7F98-FAAE-488A-89AB-B17E401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FD14-DF62-473A-AAA5-4829D66A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B53B-0139-46BF-996B-716DC4C8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BA77-B99D-42E0-8BB7-B83A67A0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E18-2F0B-4DDD-9778-CCFE6B41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B4F7F-C15A-47D9-BA45-E298A199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E364-863A-4529-A825-A69D1BFD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75963-BBC8-4F74-BAD1-6E822EA5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B9BA-7B16-4AD0-A32B-63FE0296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A0D3A-3443-4A89-A867-2DD9063A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37C5-B750-481B-B92F-B74BE78D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88F1-ECD6-4084-80DD-5E7DDE0D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3D986-85F5-45C9-AD7D-6170BFC9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C302F-FD81-4EA9-9F6E-20CACE9D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81CC-4423-487F-B3B8-AE361D40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CB6-B2AC-4B3C-9971-D890CD32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7F383-6860-4F06-8001-3F080664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A17B9-4CDB-477C-9633-367F1090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03D11-757F-4639-8BCE-AEE17412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93B45-86BE-4DD0-B190-B41BA919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B81DF-7691-4AE5-A715-56642F07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C40E4-4E59-409F-BC99-1E7B6B87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283D9-4B17-4F71-8D1D-0203F267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5F587-64FC-4B20-8CBC-F74F31C9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DC0D7-0450-4D7F-9052-48C86DA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2AD46-DAF9-48CA-A951-49646451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5A8-94B1-4222-8F28-B0761BE3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30A91-C1BC-49DA-8D1D-08F1BF86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7E5BC-E238-49DE-ACF5-24C81732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AAAF7-5804-4DC6-A2AD-BE0948C4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2CBA-90D8-4C86-9FE5-B4B3C79D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C514F-CEA2-4B1C-BA85-B9E59A34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8147A-C1D1-451D-9161-92159CC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BA22-EAC6-4C3B-BCE2-7E67A0F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FF3AD-9F3C-4BA9-B05A-1C3F5DAC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72CD5-77AF-4C3A-8272-02CA0100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F48C1-CB05-43F3-AD53-9ED7AEED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C4E-C3FB-4B81-87FF-B13E604E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4839-CBC5-4CEF-B9B6-F4C7ADEE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70016-FE69-4529-B9C6-E830F61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6B0DE-E83B-4B81-9370-690AA6BA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A3D9-ADF8-41CB-882D-BEF4CEC4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A101-D598-49CB-AEBD-C73D31AB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EC3-62A2-47DA-AEBF-E8501D79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2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10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06020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1640" y="2495520"/>
            <a:ext cx="5616360" cy="36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1050-6DAD-4A5B-B18D-703ABBFD6A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3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10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3158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73280" y="2676600"/>
            <a:ext cx="5562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56EA-5083-45BD-85E7-8035968FE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图片4"/>
          <p:cNvPicPr/>
          <p:nvPr/>
        </p:nvPicPr>
        <p:blipFill>
          <a:blip r:embed="rId2"/>
          <a:stretch/>
        </p:blipFill>
        <p:spPr>
          <a:xfrm>
            <a:off x="0" y="-9684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3280" y="1123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2c2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62c2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73280" y="2412720"/>
            <a:ext cx="556272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62c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c2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2c22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062c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c2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2c22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062c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c2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2c22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062c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c2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2c22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062c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c2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2c22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c2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2c22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c2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2c2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8428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250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A917-06BC-4C80-9512-2271CF2F56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10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3280" y="1267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673280" y="2557080"/>
            <a:ext cx="556272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D72B-7353-464F-84AC-B1A25EB562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图片6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10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81200" y="10602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692360" y="2349360"/>
            <a:ext cx="5338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F06B-7D98-4CA3-8320-82E9A8F839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0AC-8961-4ED4-991B-349417BECE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7F20-3631-4760-B960-64DCB0FA8D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图片1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68000" y="106020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331640" y="2495520"/>
            <a:ext cx="5616360" cy="36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B9DF-D2C8-48AC-AF13-2D15149973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68000" y="106020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31640" y="2495520"/>
            <a:ext cx="5616360" cy="36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3280" y="1267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73280" y="2557080"/>
            <a:ext cx="556272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3280" y="13158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3280" y="2676600"/>
            <a:ext cx="5562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81200" y="10602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92360" y="2349360"/>
            <a:ext cx="5338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3280" y="1123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62c2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3280" y="2412720"/>
            <a:ext cx="556272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62c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0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02:03:48Z</dcterms:created>
  <dc:creator>Administrator</dc:creator>
  <dc:description/>
  <cp:keywords/>
  <dc:language>en-US</dc:language>
  <cp:lastModifiedBy>a</cp:lastModifiedBy>
  <dcterms:modified xsi:type="dcterms:W3CDTF">2014-07-23T08:05:5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