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B22-621F-4870-B08F-42D3A57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CD0-56BD-4B18-94B7-414D46A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7B5-F3D0-4D1F-84AB-70560BAB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876-ACA1-4B9F-87A9-41E1A345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41F-C7BF-40B5-8A61-7D510876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5984-AC10-4974-9AB2-5C1F936A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4AA4-69E8-4AD0-B0BA-E10420E7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662C-5416-4E72-A2BF-0D30AAB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6F3-8B8E-47B3-9082-8150D75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D8D3-CDE1-4BBB-8A3B-C32AE7A6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D02-B123-46C3-B026-458DE1A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134-F997-4756-8D9D-C5F36C6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3C2-5990-4201-B397-AF45322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1D7-46F3-4E18-9FAD-6C46E55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F5F6-83C2-4C52-B60D-05911D2D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C3C-DC69-4CD5-B88D-F654CBE4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C7B9-BB7B-4BD6-9C0D-8A39D31E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6D9-6CFC-4E8E-AAA9-BE74E872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0BB-5FD5-4C98-B0E4-E3F8DD49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5D1-C5C7-46F0-A9B0-CFDA951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544-9506-467B-8045-B61E54D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F8E-ACC3-4AAF-AD97-247E96F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C53-2F94-4A11-AB8D-B63936D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A92-8697-42E3-B958-059FAAA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95E-EE46-4D5E-B353-6461255E29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F9D-F6BA-46C0-AB15-EB3825409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129-E641-4289-AAE0-23C927D4C9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3D7D-716A-41E2-B6ED-80E2C0E70D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XN_001001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XN_00100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XN_00100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XN_00100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XN_001006"/>
          <p:cNvPicPr/>
          <p:nvPr/>
        </p:nvPicPr>
        <p:blipFill>
          <a:blip r:embed="rId1"/>
          <a:stretch/>
        </p:blipFill>
        <p:spPr>
          <a:xfrm>
            <a:off x="12600" y="549360"/>
            <a:ext cx="91407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XN_00100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XN_00100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3T17:53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