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5AC-2AC2-4027-BD2C-EFAE24F4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E68-C3A6-4519-8164-0A06E94E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969-C056-42CE-816B-DC8A0758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817-BA63-4362-B5D3-47A1F82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611D-FF05-4C02-AB54-F7943215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78A-2B54-46DC-AE55-4CD5965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F368-4283-430E-A41B-3FFC9670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CFF5-B1EF-41A1-A9CA-01790CF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F546-960C-46EC-A2D4-347DDEA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3D02-5A92-46C3-8CDD-21AAC4C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10A7-05C2-46CC-82B1-9EBBED7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21F-24D2-49A5-BE5A-0A9AEF35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4947-7DB0-4524-84B8-D8177DA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D99-16A2-4EC9-8835-C9399CB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3EB8-A458-4725-8F20-4F35D46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709-CFC0-4C90-966A-E0097C18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7B0-B97C-4304-8391-ACE06292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E9A1-013D-40CB-A1FF-22415AFC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0402-4992-45AC-95B5-E09A529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EC3A-F7D1-4227-9A40-205F908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9CC3-11D2-40BC-8183-A818B3AE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60D7-B56F-4653-8419-3032441A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39C-A40A-4A3E-8DC2-A66B50E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04F4-746F-4451-A062-F9FFBDB1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5444-2318-410B-B5BF-4BCF10F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3DCE-DDBE-4B1D-A280-459ED30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0DE7-6CC6-4BA7-9122-7EB8606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BBC9-90B2-4B78-BAC1-AEC1A83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2DD4-076D-4A8A-B460-4E95D1A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4315-3716-41D0-880A-F8DAC8E6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D01-E4E1-46D0-8C74-D17F7842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C5F-DB52-4CB6-9A9A-B7F81B35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DC3-CBF2-4DB0-A56A-98B238C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DFF-2FFE-48B8-A32F-CA3DC27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860-35FF-49F5-9400-798EF2B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E53-4E8D-447B-BFFF-919E2F4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F738-5469-4FD2-98F5-7DF282B4E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9E4E-3E74-43EA-B578-633BC783F04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199-5366-49FA-97A2-F8957BCE4B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58F1-CCB5-4BCE-AE81-F637B31CA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TENNIS</a:t>
            </a:r>
            <a:br>
              <a:rPr sz="4400"/>
            </a:b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OUTLINE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Eurostile"/>
                <a:ea typeface="宋体"/>
              </a:rPr>
              <a:t>Elements</a:t>
            </a:r>
            <a:endParaRPr b="0" lang="en-US" sz="48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9000" y="9903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4" descr="tennis_outline_prt"/>
          <p:cNvPicPr/>
          <p:nvPr/>
        </p:nvPicPr>
        <p:blipFill>
          <a:blip r:embed="rId1"/>
          <a:stretch/>
        </p:blipFill>
        <p:spPr>
          <a:xfrm>
            <a:off x="6477120" y="4667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tennis_outline_qx"/>
          <p:cNvPicPr/>
          <p:nvPr/>
        </p:nvPicPr>
        <p:blipFill>
          <a:blip r:embed="rId2"/>
          <a:stretch/>
        </p:blipFill>
        <p:spPr>
          <a:xfrm>
            <a:off x="3657600" y="2381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6" descr="tennis_outline_sld"/>
          <p:cNvPicPr/>
          <p:nvPr/>
        </p:nvPicPr>
        <p:blipFill>
          <a:blip r:embed="rId3"/>
          <a:stretch/>
        </p:blipFill>
        <p:spPr>
          <a:xfrm>
            <a:off x="3657600" y="4667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7" descr="tennis_outline_trs"/>
          <p:cNvPicPr/>
          <p:nvPr/>
        </p:nvPicPr>
        <p:blipFill>
          <a:blip r:embed="rId4"/>
          <a:stretch/>
        </p:blipFill>
        <p:spPr>
          <a:xfrm>
            <a:off x="6477120" y="2381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8" descr="outline"/>
          <p:cNvPicPr/>
          <p:nvPr/>
        </p:nvPicPr>
        <p:blipFill>
          <a:blip r:embed="rId5"/>
          <a:stretch/>
        </p:blipFill>
        <p:spPr>
          <a:xfrm>
            <a:off x="228600" y="2590920"/>
            <a:ext cx="32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1:04:36Z</dcterms:created>
  <dc:creator>eclipse</dc:creator>
  <dc:description/>
  <cp:keywords/>
  <dc:language>en-US</dc:language>
  <cp:lastModifiedBy>a</cp:lastModifiedBy>
  <dcterms:modified xsi:type="dcterms:W3CDTF">2014-07-31T04:33:43Z</dcterms:modified>
  <cp:revision>2</cp:revision>
  <dc:subject/>
  <dc:title>TENNIS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