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whoosh.wav" ContentType="audio/x-wav"/>
  <Override PartName="/ppt/media/chimes.wav" ContentType="audio/x-wav"/>
  <Override PartName="/ppt/media/type.wav" ContentType="audio/x-wav"/>
  <Override PartName="/ppt/media/wind.wav" ContentType="audio/x-wav"/>
  <Override PartName="/ppt/media/camera.wav" ContentType="audio/x-wav"/>
  <Override PartName="/ppt/media/image3.jpeg" ContentType="image/jpeg"/>
  <Override PartName="/ppt/media/click.wav" ContentType="audio/x-wav"/>
  <Override PartName="/ppt/media/laser.wav" ContentType="audio/x-wav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067-06A8-43F7-8088-243E6F9C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B63-3757-48E6-ACC6-B547711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15B-E866-4E2F-9665-2E242B40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9E0-6185-4626-9C85-AC3F6758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636-5E6E-439A-BBBD-2D0D022D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566E-15E1-47AF-BC31-B6BA1B5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07DD-098A-47AF-A221-82CE59B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D8A6-F0F2-42A7-81A5-77B42D4E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7BDA-86FD-4A48-965E-B419883D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E36F-69B2-4265-A05E-B7A8F910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C34A-15B0-4156-A54C-01BDE56C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9F3-9FA1-4CCD-A64C-7D8C4E98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5229-664A-4FFB-B611-1E3F87F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ABCC-D2C8-4E4C-B55B-18680842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EEE3-3D6B-4BB4-A1B3-3D833158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FD38-F4CA-4EBA-9F3B-ED143468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ECFC-AE77-44C5-B2DC-1AFBBFF9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7939-126A-4EC7-9153-B0B0CE86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E341-A93E-4F24-A8F9-52FF11CB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6E44-2F6C-4697-8067-C3717CDC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5AED-9180-4FB6-BA5C-5FC48F4F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3224-2B89-4DA2-875D-E3C08AE9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34F-C6B0-4E33-BC5D-12690492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B949-04C7-4BC8-963B-1A107A2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1C9D-D731-454B-8715-A3E7203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58F0-3FB4-47E6-970F-587FA406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7233-CF06-49EB-A4E1-DC88B01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E94A-F965-4743-8159-C98E16DB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21F1-574B-4C4B-BB51-4F1F0B08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A19A-7CAD-4260-AEF7-659F7501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32D-A44C-4E5F-90BD-C41A7341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FCB-D429-4562-8A71-1452375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A13-2F4E-43BF-9823-32BC461D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1B2-4A5E-4AEC-ADA8-1C17F11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69D-7AA8-4840-96B9-CED350F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3F7-B174-4F16-B7C2-400041C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6EE6-BF8F-43CD-BF24-FF9FBCBEB4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5437-E901-47C9-A91A-4E9E58B8E1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0B70-8AF2-4DA2-A4F1-F8B409FDDC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0455-2C55-4B4F-B2B5-D8FF912421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分 数 与 除 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068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Arial"/>
              </a:rPr>
              <a:t>分子</a:t>
            </a:r>
            <a:r>
              <a:rPr b="0" lang="zh-CN" sz="3200" spc="-1" strike="noStrike">
                <a:solidFill>
                  <a:srgbClr val="99ff66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99ff66"/>
                </a:solidFill>
                <a:latin typeface="Arial"/>
              </a:rPr>
              <a:t>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3080" y="2495160"/>
            <a:ext cx="86727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除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除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÷b=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你知道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6210360" y="3986280"/>
                <a:ext cx="11412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7" name="Oval 4"/>
          <p:cNvSpPr/>
          <p:nvPr/>
        </p:nvSpPr>
        <p:spPr>
          <a:xfrm>
            <a:off x="4464000" y="633240"/>
            <a:ext cx="2521080" cy="7812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4500720" y="98100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724360" y="63324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132000" y="227664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2278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3132000" y="2494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4560" y="63288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圆的一份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3573360" y="4861080"/>
            <a:ext cx="176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560" y="12024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¾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¼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½=1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题答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¾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¼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÷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½=1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-7920" y="19080"/>
            <a:ext cx="9137520" cy="68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20" y="691920"/>
            <a:ext cx="909648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  <a:ea typeface="仿宋_GB2312"/>
              </a:rPr>
              <a:t>一定要多多练习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920" y="692280"/>
            <a:ext cx="9096480" cy="47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400" spc="-1" strike="noStrike">
                <a:solidFill>
                  <a:srgbClr val="33ccff"/>
                </a:solidFill>
                <a:latin typeface="Arial"/>
                <a:ea typeface="微软雅黑"/>
              </a:rPr>
              <a:t>今天你学会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7:47:15Z</dcterms:created>
  <dc:creator>Administrator</dc:creator>
  <dc:description/>
  <cp:keywords/>
  <dc:language>en-US</dc:language>
  <cp:lastModifiedBy>a</cp:lastModifiedBy>
  <dcterms:modified xsi:type="dcterms:W3CDTF">2014-05-31T02:10:17Z</dcterms:modified>
  <cp:revision>1</cp:revision>
  <dc:subject/>
  <dc:title>分 数 与 除 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