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BF5-9F5F-4074-A58B-41D4AA6B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750-8AB5-43B0-BD42-C64FADA9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4D9-634E-4D1A-B153-2F70501B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B6E-7CA8-4239-A8E1-859EF23C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0350-677D-404F-92F0-59555029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C214-32FC-425B-B361-38F7CE6D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4A98-451C-4508-A7AC-83935004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C500-C0D3-4FBC-A35C-0BA8D5B8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0162-C703-409A-800F-E3CCC38D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36C3-FF76-4F29-BD37-2D1DC684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E65F-D518-46AE-BFB3-791E7577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8EE-44B6-4FD0-907F-65E2DE1E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B9A1-A852-48A3-AC19-1119C0E9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5F73-158B-4D1F-8E23-68AFB91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330C-1E8D-47C3-B787-16A9B2A6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0865-BD2A-492E-8BB6-EC4FA5B6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691F-75C1-4EAF-8605-3CF4FDF6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4F0-3DAB-45F7-82FA-6B024E3A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568-3D16-4E08-BD82-60A0F150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190-77CA-47F3-BBD3-301A3896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DFD-9147-4EF4-9236-6AED9049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624-5E41-432B-A155-B1437D09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3C4-3997-4E31-AA6A-2B7EA436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D4A-F8D5-4A4C-A1D0-AF4055B7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E753-D1F7-4075-982F-FAD81405A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1F75-D91B-4AC1-B334-77E1B7D149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6872-C557-4C99-A20A-9F3DD73A44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58f8c5494eef01ff772eac9e1fe9925bc3171d5c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58f8c5494eef01ff772eac9e1fe9925bc3171d5c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2276640"/>
            <a:ext cx="9144000" cy="23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2637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9999"/>
                </a:solidFill>
                <a:latin typeface="Pump Demi Bold LET"/>
                <a:ea typeface="PMingLiU-ExtB"/>
              </a:rPr>
              <a:t>T </a:t>
            </a:r>
            <a:r>
              <a:rPr b="1" lang="zh-CN" sz="9600" spc="-1" strike="noStrike">
                <a:solidFill>
                  <a:srgbClr val="99cc00"/>
                </a:solidFill>
                <a:latin typeface="Pump Demi Bold LET"/>
                <a:ea typeface="PMingLiU-ExtB"/>
              </a:rPr>
              <a:t>h </a:t>
            </a:r>
            <a:r>
              <a:rPr b="1" lang="zh-CN" sz="9600" spc="-1" strike="noStrike">
                <a:solidFill>
                  <a:srgbClr val="ff3300"/>
                </a:solidFill>
                <a:latin typeface="Pump Demi Bold LET"/>
                <a:ea typeface="PMingLiU-ExtB"/>
              </a:rPr>
              <a:t>a </a:t>
            </a:r>
            <a:r>
              <a:rPr b="1" lang="zh-CN" sz="9600" spc="-1" strike="noStrike">
                <a:solidFill>
                  <a:srgbClr val="ffcc00"/>
                </a:solidFill>
                <a:latin typeface="Pump Demi Bold LET"/>
                <a:ea typeface="PMingLiU-ExtB"/>
              </a:rPr>
              <a:t>n </a:t>
            </a:r>
            <a:r>
              <a:rPr b="1" lang="zh-CN" sz="9600" spc="-1" strike="noStrike">
                <a:solidFill>
                  <a:srgbClr val="996633"/>
                </a:solidFill>
                <a:latin typeface="Pump Demi Bold LET"/>
                <a:ea typeface="PMingLiU-ExtB"/>
              </a:rPr>
              <a:t>k</a:t>
            </a:r>
            <a:r>
              <a:rPr b="1" lang="zh-CN" sz="9600" spc="-1" strike="noStrike">
                <a:solidFill>
                  <a:srgbClr val="000000"/>
                </a:solidFill>
                <a:latin typeface="Pump Demi Bold LET"/>
                <a:ea typeface="PMingLiU-ExtB"/>
              </a:rPr>
              <a:t>   </a:t>
            </a:r>
            <a:r>
              <a:rPr b="1" lang="zh-CN" sz="9600" spc="-1" strike="noStrike">
                <a:solidFill>
                  <a:srgbClr val="9966ff"/>
                </a:solidFill>
                <a:latin typeface="Pump Demi Bold LET"/>
                <a:ea typeface="PMingLiU-ExtB"/>
              </a:rPr>
              <a:t>y </a:t>
            </a:r>
            <a:r>
              <a:rPr b="1" lang="zh-CN" sz="9600" spc="-1" strike="noStrike">
                <a:solidFill>
                  <a:srgbClr val="00ffff"/>
                </a:solidFill>
                <a:latin typeface="Pump Demi Bold LET"/>
                <a:ea typeface="PMingLiU-ExtB"/>
              </a:rPr>
              <a:t>o </a:t>
            </a:r>
            <a:r>
              <a:rPr b="1" lang="zh-CN" sz="9600" spc="-1" strike="noStrike">
                <a:solidFill>
                  <a:srgbClr val="cc00ff"/>
                </a:solidFill>
                <a:latin typeface="Pump Demi Bold LET"/>
                <a:ea typeface="PMingLiU-ExtB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197000"/>
            <a:ext cx="9144000" cy="43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250920" y="981000"/>
            <a:ext cx="8642160" cy="935280"/>
          </a:xfrm>
          <a:prstGeom prst="roundRect">
            <a:avLst>
              <a:gd name="adj" fmla="val 16667"/>
            </a:avLst>
          </a:prstGeom>
          <a:solidFill>
            <a:srgbClr val="fffff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50920" y="2276640"/>
            <a:ext cx="8713800" cy="4032000"/>
          </a:xfrm>
          <a:prstGeom prst="roundRect">
            <a:avLst>
              <a:gd name="adj" fmla="val 16667"/>
            </a:avLst>
          </a:prstGeom>
          <a:solidFill>
            <a:srgbClr val="fffff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116000" y="0"/>
            <a:ext cx="705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124000" y="0"/>
            <a:ext cx="7020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9:56:13Z</dcterms:created>
  <dc:creator>lucky</dc:creator>
  <dc:description/>
  <cp:keywords/>
  <dc:language>en-US</dc:language>
  <cp:lastModifiedBy>a</cp:lastModifiedBy>
  <dcterms:modified xsi:type="dcterms:W3CDTF">2014-07-29T06:51:0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