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E9E-D5B0-4B4D-B67E-52F1750F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C05C-51D7-4221-81C5-31DE62D0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D1A1-0D54-456A-B8B4-A487C466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A3A6-F41A-4147-B573-5894A388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3A8E-4910-4182-99FE-B33B0AB9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174F-CAA3-45F8-B02B-25A92E38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F490-3F93-4615-816C-EBB7365E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9A0A-AA22-461B-A6C9-AF711DB3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77E9-33A0-4EA5-89C1-7C02BC2F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736C-1AD2-499F-80D3-DAF0F9A1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59D2-98C2-44E0-A5E7-F82E73AD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0B8-3ADE-4F15-8A10-E1FAC7FF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0111-862C-4A08-A5AD-9403CD69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C84D-99FA-44D0-A1DB-B9F91F63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4B3E-F79A-4031-986D-FCB7CA48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EE8E-9FCF-4789-B0C3-F0E52273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4348-9B73-49A5-9738-645B8BD3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43081-8102-4F36-932F-6A058051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F661C-EF4F-4414-8E41-31279742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E52A3-A22A-4B94-9EFB-4694918F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64A9C-CED2-4ACD-ABD8-559FE45C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B0FD8-DB16-4BF3-98CE-04668F53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4C5B-F106-40C1-9CB2-5270059B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39B1D-1DB5-481E-8BEA-3B93811B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1807E-28C8-4F5A-91B8-C55B6732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8482B-B6C7-4EAC-891D-4199EAC7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5B85E-3376-4B2F-8739-877AC5E8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C2D21-3771-4F1E-A53D-0182C2C9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65974-3332-4DC8-9E52-62F1E69E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B998C-5CDD-43ED-8D49-E71E136A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967E7-CFDB-48C0-A07F-D021F89A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25DE7-003E-4AF2-A0E2-B1D7BF37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B8EC0-712B-4181-9C70-66FDAFD9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2EA-6C3E-42EB-B5D2-093B22D2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810AF-5292-4215-9F02-0ED9D806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D9F34-C1EE-4C4D-A60C-6DAF34AF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67AB2-377A-4875-AA00-A29C027C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BE286-2336-463F-BDF8-E6DF15E0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1366D-5766-4A33-839D-57C12E2C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5195A-53FF-48AE-B810-7413458E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6C994-743D-4E3E-B1C7-9CF3ABDA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48AF3-38F1-4ACA-97D0-91E22EC8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252F1-3D09-4F4F-BAA1-84038D11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D18-02CC-4E3E-BE17-3D6B8AEC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7D6-E224-4C69-9A2E-F13E02EA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793E-D788-48A6-A0B2-394572F1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88F4-5BEC-4F5D-846B-A7FD6CB6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E25-A808-47CA-BEBB-9EA76606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9"/>
          <p:cNvGrpSpPr/>
          <p:nvPr/>
        </p:nvGrpSpPr>
        <p:grpSpPr>
          <a:xfrm>
            <a:off x="-4680" y="-4680"/>
            <a:ext cx="9155160" cy="83880"/>
            <a:chOff x="-4680" y="-4680"/>
            <a:chExt cx="9155160" cy="83880"/>
          </a:xfrm>
        </p:grpSpPr>
        <p:pic>
          <p:nvPicPr>
            <p:cNvPr id="2" name="矩形 9" descr=""/>
            <p:cNvPicPr/>
            <p:nvPr/>
          </p:nvPicPr>
          <p:blipFill>
            <a:blip r:embed="rId3"/>
            <a:stretch/>
          </p:blipFill>
          <p:spPr>
            <a:xfrm>
              <a:off x="-4680" y="-4680"/>
              <a:ext cx="9155160" cy="8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5"/>
            <p:cNvSpPr/>
            <p:nvPr/>
          </p:nvSpPr>
          <p:spPr>
            <a:xfrm>
              <a:off x="1440" y="1440"/>
              <a:ext cx="9142560" cy="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矩形 10"/>
          <p:cNvGrpSpPr/>
          <p:nvPr/>
        </p:nvGrpSpPr>
        <p:grpSpPr>
          <a:xfrm>
            <a:off x="-4680" y="36360"/>
            <a:ext cx="4583160" cy="79200"/>
            <a:chOff x="-4680" y="36360"/>
            <a:chExt cx="4583160" cy="79200"/>
          </a:xfrm>
        </p:grpSpPr>
        <p:pic>
          <p:nvPicPr>
            <p:cNvPr id="5" name="矩形 10" descr=""/>
            <p:cNvPicPr/>
            <p:nvPr/>
          </p:nvPicPr>
          <p:blipFill>
            <a:blip r:embed="rId4"/>
            <a:stretch/>
          </p:blipFill>
          <p:spPr>
            <a:xfrm>
              <a:off x="-4680" y="36360"/>
              <a:ext cx="458316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1440" y="41040"/>
              <a:ext cx="45705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47A2-60DF-4525-ADB2-831C142780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9916-A482-46AD-8372-A8E44FD0A97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E8EF-CD97-4605-8962-006DF9DF386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9DA3-DB97-4AE8-933C-95FF053A1E3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464A-CE41-496D-829B-C4269EC348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714240" y="1000080"/>
            <a:ext cx="84297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d0721c"/>
                </a:solidFill>
                <a:latin typeface="Arial"/>
                <a:ea typeface="宋体"/>
              </a:rPr>
              <a:t>非谓语动词</a:t>
            </a:r>
            <a:r>
              <a:rPr b="1" lang="en-US" sz="8800" spc="-1" strike="noStrike">
                <a:solidFill>
                  <a:srgbClr val="d0721c"/>
                </a:solidFill>
                <a:latin typeface="Arial"/>
                <a:ea typeface="宋体"/>
              </a:rPr>
              <a:t>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d0721c"/>
                </a:solidFill>
                <a:latin typeface="Arial"/>
                <a:ea typeface="宋体"/>
              </a:rPr>
              <a:t>动词不定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721c"/>
                </a:solidFill>
                <a:latin typeface="Arial"/>
                <a:ea typeface="宋体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0" y="0"/>
            <a:ext cx="2133720" cy="1523880"/>
          </a:xfrm>
          <a:prstGeom prst="flowChartMultidocument">
            <a:avLst/>
          </a:prstGeom>
          <a:solidFill>
            <a:srgbClr val="477a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-74520" y="228600"/>
            <a:ext cx="251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作宾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04920" y="2708280"/>
            <a:ext cx="77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She asked m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to stay t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76320" y="1828800"/>
            <a:ext cx="64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18.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她叫我呆在这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76320" y="3581280"/>
            <a:ext cx="802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19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请允许我介绍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Mr. White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给你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380880" y="4572000"/>
            <a:ext cx="807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lease allow m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to introduce Mr. White to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line-71"/>
          <p:cNvPicPr/>
          <p:nvPr/>
        </p:nvPicPr>
        <p:blipFill>
          <a:blip r:embed="rId1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0" y="285840"/>
            <a:ext cx="92869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179280" y="404640"/>
            <a:ext cx="835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四、不定式作宾语补足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1.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常见动词有：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invite, tell, want, encourage, advise, order, require, force, beg, cause, allow, permit, forbid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（禁止）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, warn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（警告）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, remind, teach, call on (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号召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depend on (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指望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would like / love (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想要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prefer, expect, wish, (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但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hope 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不带复合宾语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　注：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宋体"/>
              </a:rPr>
              <a:t>help sb (to) do sth.</a:t>
            </a: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Eg: I wish you to enter a key un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428760" y="357120"/>
            <a:ext cx="8286480" cy="69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使役动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have, let, mak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，其后跟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不带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to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的不定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宾语补足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：当这些词用于被动结构时，则要加上不定式符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e was often heard </a:t>
            </a:r>
            <a:r>
              <a:rPr b="1" lang="en-US" sz="2400" spc="-1" strike="noStrike">
                <a:solidFill>
                  <a:srgbClr val="0080ff"/>
                </a:solidFill>
                <a:latin typeface="Arial"/>
                <a:ea typeface="宋体"/>
              </a:rPr>
              <a:t>to s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foreign so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人们常听他唱外国歌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吾看）</a:t>
            </a:r>
            <a:r>
              <a:rPr b="0" lang="zh-CN" sz="2400" spc="-1" strike="noStrike">
                <a:solidFill>
                  <a:srgbClr val="51848e"/>
                </a:solidFill>
                <a:latin typeface="华文新魏"/>
                <a:ea typeface="华文新魏"/>
              </a:rPr>
              <a:t>五个看：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see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watch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notice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observe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look at</a:t>
            </a:r>
            <a:r>
              <a:rPr b="0" lang="en-US" sz="2400" spc="-1" strike="noStrike">
                <a:solidFill>
                  <a:srgbClr val="51848e"/>
                </a:solidFill>
                <a:latin typeface="华文新魏"/>
                <a:ea typeface="华文新魏"/>
              </a:rPr>
              <a:t>；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厅）</a:t>
            </a:r>
            <a:r>
              <a:rPr b="0" lang="zh-CN" sz="2400" spc="-1" strike="noStrike">
                <a:solidFill>
                  <a:srgbClr val="51848e"/>
                </a:solidFill>
                <a:latin typeface="华文新魏"/>
                <a:ea typeface="华文新魏"/>
              </a:rPr>
              <a:t>二听：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listen to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h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感觉</a:t>
            </a:r>
            <a:r>
              <a:rPr b="0" lang="zh-CN" sz="2400" spc="-1" strike="noStrike">
                <a:solidFill>
                  <a:srgbClr val="51848e"/>
                </a:solidFill>
                <a:latin typeface="华文新魏"/>
                <a:ea typeface="华文新魏"/>
              </a:rPr>
              <a:t>：</a:t>
            </a:r>
            <a:r>
              <a:rPr b="0" lang="en-US" sz="2400" spc="-1" strike="noStrike">
                <a:solidFill>
                  <a:srgbClr val="51848e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feel </a:t>
            </a:r>
            <a:br>
              <a:rPr sz="2400"/>
            </a:b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注意：感官动词＋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sb + do / doing / done  (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别表示全过程、正在发生、被动完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) e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I heard her </a:t>
            </a:r>
            <a:r>
              <a:rPr b="1" lang="en-US" sz="2400" spc="-1" strike="noStrike">
                <a:solidFill>
                  <a:srgbClr val="0080ff"/>
                </a:solidFill>
                <a:latin typeface="Arial"/>
                <a:ea typeface="宋体"/>
              </a:rPr>
              <a:t>sin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 English song when I passed by her room yester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I often hear her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  <a:ea typeface="宋体"/>
              </a:rPr>
              <a:t>s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this s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I can’t make myself </a:t>
            </a:r>
            <a:r>
              <a:rPr b="1" lang="en-US" sz="2400" spc="-1" strike="noStrike">
                <a:solidFill>
                  <a:srgbClr val="0080ff"/>
                </a:solidFill>
                <a:latin typeface="Arial"/>
                <a:ea typeface="宋体"/>
              </a:rPr>
              <a:t>understoo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无法让别人理解我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2"/>
          <p:cNvSpPr/>
          <p:nvPr/>
        </p:nvSpPr>
        <p:spPr>
          <a:xfrm>
            <a:off x="285840" y="285840"/>
            <a:ext cx="871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).Though he had often made his little sister ____, today he was made ____ by his little sis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. cry, to cry   B. crying, crying   C. cry, cry   D. to cry, c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3). They knew her very well. They had seen her ___ up from childhoo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. grow   B. grew   C. was growing   D.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4)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school doesn’t allow the students ______ (use) the mobile phone in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He didn’t keep on asking me the time any longer as he had had his watch ______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A. to repair   B. repaired   C. repairing   D.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3059280" y="364500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721512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1979640" y="6922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6084720" y="242100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357120" y="357120"/>
            <a:ext cx="8286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re are five pairs ____, but 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 at a loss which to choos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. to be chosen   B. to choose from   C. to choose   D. for choosing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re are always people to ____ if you feel like a cha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A. talk to  B. talk   C. speak about   D. speak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3786120" y="357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4786200" y="17859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214200" y="2643120"/>
            <a:ext cx="8929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五、不定式作定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常用句型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have / there be… / with +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宾语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+ to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定式修饰一些表示方向、原因、时间、机会、权利等抽象名词如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bilit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ambi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抱负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ffor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努力，尝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ee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ailur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失败，不及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pportunit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ch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r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力，压力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omi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许诺，希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coura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勇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as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理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decis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决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ho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法，方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determina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决心，决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otiv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机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ruggl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奋斗，努力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is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希望，愿望，祝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g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 don’t trust his promise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to come for a vis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e is looking for a chance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to go abro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is brother expressed his wish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to become a doc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2"/>
          <p:cNvSpPr/>
          <p:nvPr/>
        </p:nvSpPr>
        <p:spPr>
          <a:xfrm>
            <a:off x="0" y="0"/>
            <a:ext cx="2133720" cy="1523880"/>
          </a:xfrm>
          <a:prstGeom prst="flowChartMultidocument">
            <a:avLst/>
          </a:prstGeom>
          <a:solidFill>
            <a:srgbClr val="477a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-74520" y="228600"/>
            <a:ext cx="251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作定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80880" y="2727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Do you have anything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to sa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76320" y="1935000"/>
            <a:ext cx="76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2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有什么要说的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76320" y="38098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3. Betty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是第一个知道这真相的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380880" y="4876920"/>
            <a:ext cx="81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Betty was the first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to know the tr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line-7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142920" y="928800"/>
            <a:ext cx="861048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3.He spoke loudly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(so as / in order) to be hear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4.They jumped with joy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to hear the new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5.I’m too tired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to wal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any further tonigh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5786280" y="17146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目的状语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5143680" y="23572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143680" y="3500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原因状语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4071960" y="3643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5334120" y="49291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结果状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"/>
          <p:cNvSpPr/>
          <p:nvPr/>
        </p:nvSpPr>
        <p:spPr>
          <a:xfrm>
            <a:off x="4357800" y="521496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1" descr="line-7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214200" y="142920"/>
            <a:ext cx="8929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六、不定式作状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定式作目的、原因、结果状语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a.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作目的状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o do, in order to do,  so as to do 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用于句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b.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原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不定式常放在表示情绪反应的形容词后。如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appy, sorry, glad, sad, surprised, disappointe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定式不放在句首。如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am sorry to hear that your father is il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c. 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结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常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only to do…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来表示末曾预料到或令人不快的情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其动作发生在谓语动作之后。另外　固定结构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oo… to do, enough to do, so / such… as to do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，不定式也作结果状语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d.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在形容词后作状语，只用不定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如：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 book is easy to read. (=It is easy to read the book.)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714240" y="71424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七、不定式的独立结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tell you the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be 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begin / start with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be hone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sum u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be brie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be frank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3"/>
          <p:cNvSpPr/>
          <p:nvPr/>
        </p:nvSpPr>
        <p:spPr>
          <a:xfrm>
            <a:off x="1828800" y="7632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动词不定式的时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380880" y="37497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. I opened  the door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to ent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the room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80880" y="467676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 Mr. Smith is going to attend the meeting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to be he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tomorr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609480" y="1143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㈠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般式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( to do 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5"/>
          <p:cNvSpPr/>
          <p:nvPr/>
        </p:nvSpPr>
        <p:spPr>
          <a:xfrm>
            <a:off x="4419720" y="762120"/>
            <a:ext cx="4724280" cy="2514600"/>
          </a:xfrm>
          <a:prstGeom prst="cloudCallout">
            <a:avLst>
              <a:gd name="adj1" fmla="val -56416"/>
              <a:gd name="adj2" fmla="val 7462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不定式的一般式所表示的动作（状态）同时（或几乎同时）发生，或之后发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Maiandra GD"/>
              </a:rPr>
              <a:t>不定式在句中充当成分</a:t>
            </a:r>
            <a:endParaRPr b="0" lang="en-US" sz="40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50752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1.To see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s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to believe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2.The old woman hopes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to travel to Yangshan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3.The doctor persuaded the patient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to give up smoking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4.Tom has much work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to do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5.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He sat down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to have a rest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6. 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To be honest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, I know nothing about it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4714920" y="10717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主语和表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143160" y="2214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宾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4071960" y="35002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宾语补足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6286680" y="41432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定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6357960" y="4786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状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3429000" y="6000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独立成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228600" y="8827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进行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 to be do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0" y="41497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I am very glad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to be workin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with yo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0" y="547524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. He is said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to be comin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"/>
          <p:cNvSpPr/>
          <p:nvPr/>
        </p:nvSpPr>
        <p:spPr>
          <a:xfrm>
            <a:off x="3657600" y="1371600"/>
            <a:ext cx="5257800" cy="2514600"/>
          </a:xfrm>
          <a:prstGeom prst="cloudCallout">
            <a:avLst>
              <a:gd name="adj1" fmla="val -45620"/>
              <a:gd name="adj2" fmla="val 7462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如果谓语表示的动作（情况）发生时，不定式所表示的动作正在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1828800" y="7632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动词不定式的时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828800" y="7632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动词不定式的时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52280" y="8380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完成式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to have do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52280" y="4149720"/>
            <a:ext cx="899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. I am sorry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to have kep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you waiting so lo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52280" y="51814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. You seemed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to have rea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the novel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writte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by Mr. Smi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4343400" y="1219320"/>
            <a:ext cx="4495680" cy="2286000"/>
          </a:xfrm>
          <a:prstGeom prst="cloudCallout">
            <a:avLst>
              <a:gd name="adj1" fmla="val -71574"/>
              <a:gd name="adj2" fmla="val 87361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如果谓语表示的动作发生在不定式之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动词不定式的语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533520" y="838080"/>
            <a:ext cx="8076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主动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to 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/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to be do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/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  <a:ea typeface="宋体"/>
              </a:rPr>
              <a:t>to have done</a:t>
            </a:r>
            <a:r>
              <a:rPr b="1" lang="en-US" sz="3200" spc="-1" strike="noStrike">
                <a:solidFill>
                  <a:srgbClr val="477ab1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52280" y="30160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 We wan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to lear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English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52280" y="3672000"/>
            <a:ext cx="88394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Robert is said____abroad, but I didn’t know what country he studied in.(NMET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have studied        B.to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.  made                        D. to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533520" y="1523880"/>
            <a:ext cx="7619760" cy="581400"/>
          </a:xfrm>
          <a:prstGeom prst="rect">
            <a:avLst/>
          </a:prstGeom>
          <a:solidFill>
            <a:srgbClr val="66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当不定式逻辑上的主语是不定式所表示的动作的执行者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0" y="4952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75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75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066680" y="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动词不定式的语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533520" y="8380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被动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to be d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/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  <a:ea typeface="宋体"/>
              </a:rPr>
              <a:t>to have been done</a:t>
            </a:r>
            <a:r>
              <a:rPr b="1" lang="en-US" sz="3200" spc="-1" strike="noStrike">
                <a:solidFill>
                  <a:srgbClr val="477ab1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428760" y="257184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 He didn’t lik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to be laughed 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571680" y="3214800"/>
            <a:ext cx="8839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 He claimed ____in the supper market when he was doing shopping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eing badly treated      B. treating ba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. to be treated badly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. to have been badly t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762120" y="1509840"/>
            <a:ext cx="731520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当不定式逻辑上的主语是不定式所表示的动作的承受者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571680" y="5929200"/>
            <a:ext cx="457200" cy="5335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75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75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2"/>
          <p:cNvSpPr/>
          <p:nvPr/>
        </p:nvSpPr>
        <p:spPr>
          <a:xfrm>
            <a:off x="-74520" y="0"/>
            <a:ext cx="2131920" cy="1523880"/>
          </a:xfrm>
          <a:prstGeom prst="flowChartMultidocument">
            <a:avLst/>
          </a:prstGeom>
          <a:solidFill>
            <a:srgbClr val="477a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-74520" y="304920"/>
            <a:ext cx="243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作主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09480" y="2422440"/>
            <a:ext cx="8915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To master a foreign languag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is really important nowaday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28760" y="4572000"/>
            <a:ext cx="7543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To give up smokin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is r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I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’s right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to give up smok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52280" y="17524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)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当今掌握一门外语真的很重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228600" y="39924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)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弃吸烟是对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line-7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755640" y="9079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不定式短语做主语时，通常放在谓语的后面，用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作形式主语，避免头重脚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900000" y="1844640"/>
            <a:ext cx="770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It’s very important to learn English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our/your duty to keep the classroom cl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042920" y="2924280"/>
            <a:ext cx="7777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+adj/n +to do s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+adj+for/of sb to do s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It’s necessar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to study hard.(√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necessary to study hard.(×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ki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to help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You are kind to help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324000" y="836640"/>
            <a:ext cx="431640" cy="576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"/>
          <p:cNvSpPr/>
          <p:nvPr/>
        </p:nvSpPr>
        <p:spPr>
          <a:xfrm>
            <a:off x="285840" y="3286080"/>
            <a:ext cx="885816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二、不定式作表语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、不定式作表语，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表示主语的内容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、在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seem / appear (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似乎，好像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)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prove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　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/ turn out (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被证明是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)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remain (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仍然是，尚待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)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等连系动词后，可用不定式作表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如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e seemed (to be ) very hap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723960" y="2224080"/>
            <a:ext cx="7500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0"/>
          <p:cNvSpPr/>
          <p:nvPr/>
        </p:nvSpPr>
        <p:spPr>
          <a:xfrm>
            <a:off x="357120" y="571680"/>
            <a:ext cx="8143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). My job is ________________ (teach) Engli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). Having a trip abroad is good for the old couple, but it remains ___________ (see) whether they will enjoy it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2500200" y="571680"/>
            <a:ext cx="44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o teach English /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5"/>
          <p:cNvSpPr/>
          <p:nvPr/>
        </p:nvSpPr>
        <p:spPr>
          <a:xfrm>
            <a:off x="4725000" y="200016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o be s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285840" y="1357200"/>
            <a:ext cx="907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三、不定式作宾语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a 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部分及物动词必须用不定式作宾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决心学会想希望：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decide/determine, learn, want, expect/hope/w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拒绝设法愿假装：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refuse, manage, care, pret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主动答应选计划：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offer, promise, choose,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同意请求帮一帮：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agree, ask/beg,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428760" y="428760"/>
            <a:ext cx="81439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宋体"/>
              </a:rPr>
              <a:t>6).She pretended ____________(not see) me when I passed b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3079440" y="4287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not to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428760" y="478620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7). Fred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没有钱，所以他决定找一份工作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8). 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他答应不告述任何人这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838440" y="5214960"/>
            <a:ext cx="73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Fred didn’t have any money, so he decided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  <a:ea typeface="黑体"/>
              </a:rPr>
              <a:t>to look for a job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571680" y="585792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He promised not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  <a:ea typeface="黑体"/>
              </a:rPr>
              <a:t>to tell anyone about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b36"/>
                </a:solidFill>
                <a:latin typeface="Maiandra GD"/>
              </a:rPr>
              <a:t>B </a:t>
            </a:r>
            <a:r>
              <a:rPr b="0" lang="zh-CN" sz="4000" spc="-1" strike="noStrike">
                <a:solidFill>
                  <a:srgbClr val="001b36"/>
                </a:solidFill>
                <a:latin typeface="Maiandra GD"/>
              </a:rPr>
              <a:t>用</a:t>
            </a:r>
            <a:r>
              <a:rPr b="0" lang="zh-CN" sz="4000" spc="-1" strike="noStrike">
                <a:solidFill>
                  <a:srgbClr val="001b36"/>
                </a:solidFill>
                <a:latin typeface="Maiandra GD"/>
              </a:rPr>
              <a:t>it</a:t>
            </a:r>
            <a:r>
              <a:rPr b="0" lang="zh-CN" sz="4000" spc="-1" strike="noStrike">
                <a:solidFill>
                  <a:srgbClr val="001b36"/>
                </a:solidFill>
                <a:latin typeface="Maiandra GD"/>
              </a:rPr>
              <a:t>作形式宾语（代替不定式）的动词有：</a:t>
            </a:r>
            <a:endParaRPr b="0" lang="en-US" sz="40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ambria"/>
              </a:rPr>
              <a:t>Find, make, think, consider, feel, believ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Eg: She fou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mbria"/>
              </a:rPr>
              <a:t>it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difficul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mbria"/>
              </a:rPr>
              <a:t>to learn physic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e teacher thinks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it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necessary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to say it again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结构为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主语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动词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宾补（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n/adj+to do sth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My mother makes it a rule to take a walk every morning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214200" y="2286000"/>
            <a:ext cx="921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、介词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but / except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（除了）后接不定式：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have no choice but to do sth.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　没有别的选择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只好做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…</a:t>
            </a:r>
            <a:br>
              <a:rPr sz="2800"/>
            </a:b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但当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but 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前有行为动词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  <a:ea typeface="宋体"/>
              </a:rPr>
              <a:t>d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时，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but 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后的不定式省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285840" y="142920"/>
            <a:ext cx="864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(9). I had no choice but_________(wait) here pati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(10). Sandy could do nothing but __________(admit) to his teacher that he was wr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4214880" y="142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o w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5786280" y="100008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ad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142920" y="3714840"/>
            <a:ext cx="90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(11). I’ve work with children before, so I know what ___ in my jo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SzPct val="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expected              B. to expect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宋体"/>
              </a:rPr>
              <a:t>C. to be expecting     D. ex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857160" y="392904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Eg: He doesn’t know when to start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Let’s discuss what to do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how to do it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an you tell me how to get to the station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b36"/>
                </a:solidFill>
                <a:latin typeface="Maiandra GD"/>
              </a:rPr>
              <a:t>5.</a:t>
            </a:r>
            <a:r>
              <a:rPr b="0" lang="zh-CN" sz="2800" spc="-1" strike="noStrike">
                <a:solidFill>
                  <a:srgbClr val="001b36"/>
                </a:solidFill>
                <a:latin typeface="Maiandra GD"/>
              </a:rPr>
              <a:t>疑问</a:t>
            </a:r>
            <a:r>
              <a:rPr b="0" lang="zh-CN" sz="2800" spc="-1" strike="noStrike">
                <a:solidFill>
                  <a:srgbClr val="001b36"/>
                </a:solidFill>
                <a:latin typeface="Maiandra GD"/>
              </a:rPr>
              <a:t>+</a:t>
            </a:r>
            <a:r>
              <a:rPr b="0" lang="zh-CN" sz="2800" spc="-1" strike="noStrike">
                <a:solidFill>
                  <a:srgbClr val="001b36"/>
                </a:solidFill>
                <a:latin typeface="Maiandra GD"/>
              </a:rPr>
              <a:t>不定式在句中做宾语的用法。英语中有一些动词 后可以跟一个疑问词的不定式做宾语，如： </a:t>
            </a:r>
            <a:r>
              <a:rPr b="0" lang="zh-CN" sz="2800" spc="-1" strike="noStrike">
                <a:solidFill>
                  <a:srgbClr val="001b36"/>
                </a:solidFill>
                <a:latin typeface="Maiandra GD"/>
              </a:rPr>
              <a:t>tell, discuss, know, show, learn, decide, wonder, explain</a:t>
            </a:r>
            <a:endParaRPr b="0" lang="en-US" sz="2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2987640" y="2421000"/>
            <a:ext cx="71640" cy="7189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01:27:42Z</dcterms:created>
  <dc:creator>xzh</dc:creator>
  <dc:description/>
  <cp:keywords/>
  <dc:language>en-US</dc:language>
  <cp:lastModifiedBy>a</cp:lastModifiedBy>
  <dcterms:modified xsi:type="dcterms:W3CDTF">2014-05-31T02:09:59Z</dcterms:modified>
  <cp:revision>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