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105-F5CA-4F6E-9DAC-4A486CA4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436-179C-4EE0-8E3A-2659B533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3A12-8FE5-4D97-9877-EED96C1A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C6F5B-4462-4528-9B7F-F1F6145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D0FB5-B40A-4321-B83E-67557C1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6EF4-10DC-4773-B084-0E0CEFFE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3D375-80CD-4A13-83B5-9BCA40C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8BECC-1A61-491C-8EBA-179CC38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2114-3238-4637-963C-EFD7AEA3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52FCF-06A6-4DF7-8442-C0438A02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7CAA-E997-4690-A151-413F86E1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00DB4-7746-485A-B742-174B1F4B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79B-99EF-4B0C-B398-0854C83F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DF31E-43A6-49EA-A1AE-84F2D2E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77B22-6833-4628-AE57-DF594FBE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2864-005D-4AD3-AFFC-27A90D9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33B7D-E825-47AF-9D92-53B23B5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76393-467D-490B-A7B7-841E94FF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A87C-BA40-44B7-B172-196A749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5DD3A-2C76-4A6E-946D-0853647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BA326-F288-4F00-A9DF-F88F0FB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D0B96-2E73-46AC-96FA-E6DB5AD3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A862-FB9E-4D9D-8C08-95650F0D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AD3-9675-49AB-ABB2-B1E6D5E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3FAF-C5E2-4539-B6B1-127D6C5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B07C-1512-434D-B411-999210A6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DE41-8018-4D8F-8670-93FAB9CC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5C7B8-0306-4728-80EB-825B320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026C8-D117-4256-BF57-7EDFD76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6422-E403-4CCD-A414-1E65531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DDDCF-BFEA-4DC0-819F-F4D70E31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3B389-57F9-4DF4-8D05-067DFC9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5D174-E198-4B0E-A056-4F10E3B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E9EFA-C66A-4ED3-AB8E-A12CC76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9D2D-BF00-4CC5-8F1B-9FE33243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FA67D-FFF5-4809-9FB1-3C8F472F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68CEF-6382-4AF0-ACB7-F62EF55A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435C-84E5-41A6-8B35-EE81CF83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1C0F9-EA5B-4FD0-AC57-63541D4B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1550-3111-4AC8-9CCB-5BEC743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C6EC-29BD-4522-AED1-766FEA27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05DC6-1354-4A6E-84FC-BDCE6FC1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00C94-D922-44D3-82F7-026C58D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65DD2-7E96-4CC3-BB95-3D63A07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0B5C-57E2-4B94-8C16-DCB8BD4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B4DC-092F-488C-A6BD-D36572BF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ACC7D-2AA5-40BC-AF37-CE79C2C1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D9C61-B176-4240-9B7D-6968F2E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88FD6-3177-4585-869C-296A7A9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B0166-726F-4522-B256-32E4D1D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F5FD2-DF51-46C5-8A7B-D9628933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78B7E-6B32-40D5-B4CD-823661CD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9E88B-6FD7-4DCD-BDEF-451CE04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C9E3C-911C-4D8B-98EA-BEC44D2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F8454-F7C8-4D8D-AE40-B786129E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26D4B-0439-4F9F-9B42-B4660E94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E196-FB38-416B-9346-316656F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33F88-186D-4073-ACA0-F27E268A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E1226-0809-4D37-BE53-3F6564D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ED9DE-F5F8-48ED-99AA-ABBF1D45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CB1A9-3782-48DB-BA92-43C8773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5D045-8CA1-4BBA-A247-1123E2BA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17F16-0226-4A43-9443-C8AF68D1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8C7C9-6DB1-4326-9C82-93F56675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9E1-914E-4E56-9974-A891AC9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2FC5-0679-4CF4-A901-E5A310E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07BC-279C-493B-8EAC-283B90A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BE8E-218F-4820-9DF0-58A6199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91D-333B-4DE9-AFAF-CE1E09F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B00-ACCE-4244-9200-D1CDA0B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EE1-97FB-4C57-8059-826D16C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EDD3-6DB0-45B8-A260-FFA3D56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E675-191E-478F-8C84-E4F76C84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012-7E94-429E-9FD3-875B53F4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1B39-161D-4309-9197-5310CEB6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5575-FB8C-45D9-BD0C-A7901F99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99E6-B5FF-4879-93C6-7E99950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A973-112F-46D0-A5A0-F9C56D4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733F-F61C-40F5-8585-BF37B44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472-14CF-4749-9C38-37ADC31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B03C-2C27-4881-98C3-8F8750AD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69FE-0268-45DD-B140-6F83822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7AF5-CCBF-4CAC-AEBD-7F26736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64CE-7784-4596-A615-BC9EA67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D1FD-B73E-4619-8694-A9D3F41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BC00-6BA4-4256-A6F2-5A874DEE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68C7-DD04-4964-B9D5-65B1071E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6F4F-0C8F-4D29-B452-A024FB61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A6A7-D97A-4763-81FB-BEA6DF39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F621-6200-4F1D-92DC-CCDDDBE5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7C6-04D6-4FAE-81F0-27AF983E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A660-3C0D-421A-977A-8DEBDBA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06246-5D60-4E4B-88E0-02D1A58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1577-7F93-46E4-901F-2DEC449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EB00-8559-4F4E-8B3C-52FC2D1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07DF-D6A9-478B-8BDC-22185E4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6A58-F11D-4781-8435-3422CA5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9553-CC63-46C9-9F3F-59179F0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2C26-D6BC-49D0-BD67-867E1D0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B7BA-12A6-4640-85DF-EB25FB0D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97F8-E3FD-4E00-8550-C2733DF2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974-48A1-4630-A887-31298146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9739-8C1F-476E-A77C-45494926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59F8-9F39-4469-9873-3EA4DC3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33E1-EE84-496B-B1ED-E8C8F37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C2FA-B85A-446B-A17E-38B6846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9C2D-0AED-42C1-A9F3-BF859673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6BAC-8AB4-4789-ACC7-2976C07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2B1B-3DA9-4B69-ABB2-7E17518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CDF2E-4DD1-4BBA-B3D9-B8AC17C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F899-6F47-4267-8188-2E3AB7D7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AC2A-BA25-4248-AB99-CD3E47A0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37B-E43D-448F-8961-8C12946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8B03-D137-4607-90BD-844D8D9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DC6BB-C15A-481C-822D-77C8FE11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A0D0-0B7F-410D-A501-62296B9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938A-3BCC-4559-8553-3D62497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6B25-C5BF-44C9-AF83-6D1C2ADE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ED3F-4318-49DB-8CBB-BDF5725C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B1BAD-4405-4D01-82D5-4557AF4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37F5-4F9C-431E-A070-1B0814D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FB1A-44D5-4206-B704-582EF469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DA40-4170-4A94-8CAF-5592B5AE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DBA-33FD-4C09-BC93-7EF3DB50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8F0A-E190-48C0-8F68-A8E1CB2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49A9A-58CF-4251-BE46-1EEEDEF9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6B92-780F-48A7-A7A8-4E67F004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4DC6-0BF5-44CA-AAE0-077FA53F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DBD96-C953-414D-8F10-AF9199EC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0C3D1-2113-44DC-B14D-FFF333E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97102-674E-4DC1-B9A8-E5FAB74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36B7-B4F0-4EDE-B0F1-1A9BE40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54638-D5AA-49C5-9D18-99F8E7A3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D655-75A6-4835-B377-3605885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CA6-0D06-4C68-B2D1-792DB9B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4232-8C86-461D-ABB0-697B52E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4E02-C7DC-4A53-A8EA-8D88279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E22EA-1354-44C9-A031-09C774F3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54330-95ED-49B7-B475-E39CAC88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F72D-A60A-425E-A431-2596572F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8D3C-3840-4000-A5CE-523BE7FF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EAE4-613F-4B59-A0CB-00D156A1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7EDE1-6361-4694-A2B1-68F0D03C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C0E5-7E4C-405D-BB55-65C1AFF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8C315-9EBA-4D51-8079-0E96459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EF4-E038-4068-A9CE-9C0B3ABE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1132-7E89-457B-91B4-E1BC2DF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CE5B9-83DF-4FC4-9B09-BCBCEF6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11AF3-3D6A-46E6-89A5-105BC3C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1D9F-ADA5-4760-A0CA-B8BD3433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DB850-A80C-4DE9-9C93-928ED03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5E3FF-F3FF-4B16-A8BE-69C100DA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BC4D-CAF6-48A1-B2D1-B506F8C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1329-D135-4B1D-8F1E-94C2D5FE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DB8DE-4CE2-4CE3-8E06-8C770813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6823-F682-4C7F-9891-A63D71F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741-79FC-4CB4-AEB5-4149235AA5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0792-AA10-4480-8033-E2029CEEB8B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FF1A-0355-4AB9-BF26-5D38F7D719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39B9-0B40-44BD-A53C-A6F96684847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E47C-DC11-46F3-9A40-E532B14FBF5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13B-ACA6-4EED-82D2-8635969AE65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E8D-BEC1-4643-AD77-5679127E06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97B6-4B06-4591-8388-2BBF40B5CD7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182F-29C7-4C45-BA94-EAFB3B94B5D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3ADA-4FCA-41FF-9D88-6BCE59F4DB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65A-81C4-4495-A877-AF317F11F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003-AC0D-4C72-A148-1A9A596682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3E2-AE57-4285-A61F-DE097D01BB0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30B-A935-4D79-9C8B-552F087DE2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4D9B-3B8D-4451-B7E0-1E90993002C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1796-14E2-42A2-8F4D-DE1A0E2892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551C-241F-432F-ACD9-E0B821D1C8F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3685-4F9F-4386-805E-C1D44FB5D90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ED6-AA8F-45D1-BE13-3A718D049E8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C3FA-E416-41B8-B44F-E2459FD7848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C84-DCAA-41D5-B83B-9169906904C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D8CC-3449-4B78-8483-CE31674285D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86A-6857-4BDA-90A4-822327CBB78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8E3-F87E-404E-86FF-28D3D5CD344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5183-F32C-4AF1-BBF2-049258F8D49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132440" y="3106800"/>
            <a:ext cx="3465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ill Sans Ultra Bold"/>
                <a:ea typeface="微软雅黑"/>
              </a:rPr>
              <a:t>飞鱼的故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4" descr="COVERFISH"/>
          <p:cNvPicPr/>
          <p:nvPr/>
        </p:nvPicPr>
        <p:blipFill>
          <a:blip r:embed="rId2"/>
          <a:stretch/>
        </p:blipFill>
        <p:spPr>
          <a:xfrm>
            <a:off x="12339720" y="409680"/>
            <a:ext cx="1319040" cy="677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521 0.087315 C -0.151684 0.196713 -0.442543 0.690679 -0.5575 0.743704 C -0.672457 0.796728 -0.726467 0.461836 -0.76026 0.405463 E">
                                      <p:cBhvr>
                                        <p:cTn id="6" dur="3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0103 0.39756 C -0.803857 0.367238 -0.957422 0.333985 -1.022628 0.215627 C -1.087834 0.097271 -1.12989 -0.224544 -1.151342 -0.312578 E">
                                      <p:cBhvr>
                                        <p:cTn id="10" dur="3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8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FISH"/>
          <p:cNvPicPr/>
          <p:nvPr/>
        </p:nvPicPr>
        <p:blipFill>
          <a:blip r:embed="rId1"/>
          <a:stretch/>
        </p:blipFill>
        <p:spPr>
          <a:xfrm rot="960000">
            <a:off x="7918200" y="4594320"/>
            <a:ext cx="3219480" cy="1787400"/>
          </a:xfrm>
          <a:prstGeom prst="rect">
            <a:avLst/>
          </a:prstGeom>
          <a:ln w="0">
            <a:noFill/>
          </a:ln>
        </p:spPr>
      </p:pic>
      <p:sp>
        <p:nvSpPr>
          <p:cNvPr id="536" name="Oval 3"/>
          <p:cNvSpPr/>
          <p:nvPr/>
        </p:nvSpPr>
        <p:spPr>
          <a:xfrm>
            <a:off x="2732040" y="1279440"/>
            <a:ext cx="509760" cy="50976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375000" y="1301760"/>
            <a:ext cx="457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32"/>
                </a:solidFill>
                <a:latin typeface="微软雅黑"/>
                <a:ea typeface="微软雅黑"/>
              </a:rPr>
              <a:t>关于深海里的简单生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2725560" y="2212920"/>
            <a:ext cx="509760" cy="50976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371760" y="2228760"/>
            <a:ext cx="422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32"/>
                </a:solidFill>
                <a:latin typeface="微软雅黑"/>
                <a:ea typeface="微软雅黑"/>
              </a:rPr>
              <a:t>有力量的旅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Oval 7"/>
          <p:cNvSpPr/>
          <p:nvPr/>
        </p:nvSpPr>
        <p:spPr>
          <a:xfrm>
            <a:off x="2733840" y="3146400"/>
            <a:ext cx="507960" cy="509760"/>
          </a:xfrm>
          <a:prstGeom prst="ellipse">
            <a:avLst/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3384720" y="3149640"/>
            <a:ext cx="3192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32"/>
                </a:solidFill>
                <a:latin typeface="微软雅黑"/>
                <a:ea typeface="微软雅黑"/>
              </a:rPr>
              <a:t>信仰自由的飞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9" descr="COVERFISH"/>
          <p:cNvPicPr/>
          <p:nvPr/>
        </p:nvPicPr>
        <p:blipFill>
          <a:blip r:embed="rId2"/>
          <a:stretch/>
        </p:blipFill>
        <p:spPr>
          <a:xfrm rot="20880000">
            <a:off x="10207440" y="4232160"/>
            <a:ext cx="1828800" cy="939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MENU"/>
          <p:cNvPicPr/>
          <p:nvPr/>
        </p:nvPicPr>
        <p:blipFill>
          <a:blip r:embed="rId3"/>
          <a:stretch/>
        </p:blipFill>
        <p:spPr>
          <a:xfrm>
            <a:off x="5326200" y="5627520"/>
            <a:ext cx="2512800" cy="608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85 -0.017671 C -0.030958 0.113595 -0.158814 0.154821 -0.292924 0.08193 C -0.430977 0.006894 -0.524008 -0.154388 -0.501435 -0.285653 C -0.478861 -0.416915 -0.571889 -0.578199 -0.709944 -0.653234 C -0.844054 -0.726124 -0.97191 -0.6849 -0.994485 -0.553636 E">
                                      <p:cBhvr>
                                        <p:cTn id="71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48 -0.008533 C -0.006172 0.162161 -0.11793 0.297337 -0.255208 0.301596 C -0.396521 0.305984 -0.510867 0.177821 -0.512543 0.007127 C -0.514217 -0.163567 -0.628563 -0.291729 -0.769876 -0.287341 C -0.907154 -0.283081 -1.018913 -0.147907 -1.017237 0.022787 E">
                                      <p:cBhvr>
                                        <p:cTn id="73" dur="3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4235400" y="2774880"/>
            <a:ext cx="720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32"/>
                </a:solidFill>
                <a:latin typeface="微软雅黑"/>
                <a:ea typeface="微软雅黑"/>
              </a:rPr>
              <a:t>信仰自由的飞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3" descr="BANNER1"/>
          <p:cNvPicPr/>
          <p:nvPr/>
        </p:nvPicPr>
        <p:blipFill>
          <a:blip r:embed="rId2"/>
          <a:stretch/>
        </p:blipFill>
        <p:spPr>
          <a:xfrm>
            <a:off x="1400040" y="3930480"/>
            <a:ext cx="9176040" cy="1051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d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迷你TITLE鱼"/>
          <p:cNvPicPr/>
          <p:nvPr/>
        </p:nvPicPr>
        <p:blipFill>
          <a:blip r:embed="rId1"/>
          <a:stretch/>
        </p:blipFill>
        <p:spPr>
          <a:xfrm>
            <a:off x="365040" y="290520"/>
            <a:ext cx="4429080" cy="33400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4916520" y="290520"/>
            <a:ext cx="89488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老船说 这海上我都看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老船说 这海浪我都触摸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老船说 这海我都聆听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生活我已全然看透 没有什么想要做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汪洋说 云你没有摘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汪洋说 深水你没有泅潜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汪洋说 对岸村庄你没去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眼泪还没有流透 笑得整夜不熄灯火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看天国 看快活 看眼角耳际开出花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看遨游 看沉没 看飞过天堂人间生的耳膜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尽管痛苦麻痹还是那么多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天空就算不蓝或许还有彩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找线索 找窗口 钻出海平面乌云的舌头要解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32"/>
                </a:solidFill>
                <a:latin typeface="微软雅黑"/>
                <a:ea typeface="微软雅黑"/>
              </a:rPr>
              <a:t>开花不结果又有什么？是鱼就一定要游泳？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4" descr="迷你鱼"/>
          <p:cNvPicPr/>
          <p:nvPr/>
        </p:nvPicPr>
        <p:blipFill>
          <a:blip r:embed="rId2"/>
          <a:stretch/>
        </p:blipFill>
        <p:spPr>
          <a:xfrm>
            <a:off x="8818560" y="6297480"/>
            <a:ext cx="473040" cy="2844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9323280" y="6200640"/>
            <a:ext cx="20955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苏打绿《飞鱼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THANKU"/>
          <p:cNvPicPr/>
          <p:nvPr/>
        </p:nvPicPr>
        <p:blipFill>
          <a:blip r:embed="rId2"/>
          <a:stretch/>
        </p:blipFill>
        <p:spPr>
          <a:xfrm>
            <a:off x="6054840" y="3067200"/>
            <a:ext cx="5200560" cy="168912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3"/>
          <p:cNvGrpSpPr/>
          <p:nvPr/>
        </p:nvGrpSpPr>
        <p:grpSpPr>
          <a:xfrm>
            <a:off x="947520" y="811440"/>
            <a:ext cx="4494600" cy="4732920"/>
            <a:chOff x="947520" y="811440"/>
            <a:chExt cx="4494600" cy="4732920"/>
          </a:xfrm>
        </p:grpSpPr>
        <p:pic>
          <p:nvPicPr>
            <p:cNvPr id="552" name="Picture 4" descr="FISH1"/>
            <p:cNvPicPr/>
            <p:nvPr/>
          </p:nvPicPr>
          <p:blipFill>
            <a:blip r:embed="rId3"/>
            <a:stretch/>
          </p:blipFill>
          <p:spPr>
            <a:xfrm rot="3540000">
              <a:off x="3238920" y="3231720"/>
              <a:ext cx="225288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5" descr="FISH2"/>
            <p:cNvPicPr/>
            <p:nvPr/>
          </p:nvPicPr>
          <p:blipFill>
            <a:blip r:embed="rId4"/>
            <a:stretch/>
          </p:blipFill>
          <p:spPr>
            <a:xfrm rot="2640000">
              <a:off x="1933560" y="3124800"/>
              <a:ext cx="1879920" cy="10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6" descr="FISH1"/>
            <p:cNvPicPr/>
            <p:nvPr/>
          </p:nvPicPr>
          <p:blipFill>
            <a:blip r:embed="rId5"/>
            <a:stretch/>
          </p:blipFill>
          <p:spPr>
            <a:xfrm rot="4020000">
              <a:off x="879840" y="3075480"/>
              <a:ext cx="145836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7" descr="FISH5"/>
            <p:cNvPicPr/>
            <p:nvPr/>
          </p:nvPicPr>
          <p:blipFill>
            <a:blip r:embed="rId6"/>
            <a:stretch/>
          </p:blipFill>
          <p:spPr>
            <a:xfrm rot="2280000">
              <a:off x="2287440" y="4476240"/>
              <a:ext cx="1328760" cy="7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8" descr="FISH7"/>
            <p:cNvPicPr/>
            <p:nvPr/>
          </p:nvPicPr>
          <p:blipFill>
            <a:blip r:embed="rId7"/>
            <a:stretch/>
          </p:blipFill>
          <p:spPr>
            <a:xfrm rot="1980000">
              <a:off x="1126800" y="1390680"/>
              <a:ext cx="2545560" cy="14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9" descr="FISH3"/>
            <p:cNvPicPr/>
            <p:nvPr/>
          </p:nvPicPr>
          <p:blipFill>
            <a:blip r:embed="rId8"/>
            <a:stretch/>
          </p:blipFill>
          <p:spPr>
            <a:xfrm rot="2100000">
              <a:off x="3533040" y="4673520"/>
              <a:ext cx="806400" cy="44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9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3T18:01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