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BC5-374A-4A2B-91C5-0C85A9CC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050-C185-407B-85F5-CD7DBADE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B97-B45F-4A8F-A91D-3C60FC63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A60-15A5-4708-92F4-8BDF95BD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6E28-1ED0-4DA7-A028-60B66DB7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CC0F-AC0C-44D5-B12C-DE3D1A67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4C5B-4780-47FA-B988-84D81E46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E331-C0AC-43B6-A983-3A4A09A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BE97-6551-4452-A42D-AA9F985F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5F4B-8D6F-4FAC-88D9-F4DE3B95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D3E2-BAEC-404D-B580-0FAC88B6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B23-FBC9-482D-AEF1-2A7F264B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896A-681A-4F8D-AC98-BDA0EBC1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1536-251E-43FE-B1DB-80BF70E4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64B3-3E74-46DD-96ED-DB748F30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5556-0BB9-48D4-954F-D00E8A54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B1AB-068D-4CD0-A34F-5756E01F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AF92-961B-498A-9B50-5D8ECB60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978E-C12B-4EFA-BBA6-DF72DD9F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0640-1BC6-4866-BAEB-5BF91514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4FF7B-39B8-432A-B2CF-012DF65E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855D-ADA3-43D8-ADE3-9971E8E0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D01-1248-4015-8DC7-055E4296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4EF1-8124-4132-A5F1-991F6017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DE05-BF6C-4B4B-B9CD-84B4D55A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749D-3BE2-4CD8-8615-1339DDEF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F5CB-CABB-43E0-A152-BF46FAA9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F8E8-568C-4155-AF3A-0EF9648A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7D8A-9326-4DBD-98CC-0135EEE1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E8F1-A105-4287-866F-2E48B5EE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A31-755D-457D-96F6-E0D18826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983-3061-4E80-8800-9ECA16C3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BEE-E22D-49C5-974C-66F6316F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F90-FCC6-4B4B-8A71-B0B37B81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BDF-C6FA-4E30-8DB1-4E2F13AF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4B7-F87D-4ECD-B3F6-05397694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54E5-DEE2-43CD-809E-72163FA102A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142C-F4B6-47EC-8595-596E6CAA60E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ED80-4B69-49A9-A052-5F71E867CBD7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72EF-9D7A-4F01-B725-9D4183F76E07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699480" y="422604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  <a:ea typeface="宋体"/>
              </a:rPr>
              <a:t>OWER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  <a:ea typeface="宋体"/>
              </a:rPr>
              <a:t>OIN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132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6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134" name="Group 7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135" name="Group 8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136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13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141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" name="Group 18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146" name="Group 19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147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24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152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" name="Group 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57" name="Group 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58" name="Group 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59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64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Group 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69" name="Group 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70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75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9" name="Group 52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180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4d4d4d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4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82" name="Group 55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83" name="Group 56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84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1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89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66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95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72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200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Group 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205" name="Group 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206" name="Group 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207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212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Group 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217" name="Group 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218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223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7" name="Group 100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228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969696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230" name="Group 1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231" name="Group 1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232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1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237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Group 1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42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43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48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Group 125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53" name="Group 126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54" name="Group 127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55" name="Group 128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56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133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61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5" name="Group 138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66" name="Group 139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67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144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72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6" name="Group 149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77" name="Group 150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78" name="Group 151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79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156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84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8" name="Group 161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89" name="Group 162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90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167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95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Group 1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300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333333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302" name="Group 1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303" name="Group 1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304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1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309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Group 186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314" name="Group 187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315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92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320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325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326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327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328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333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210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338" name="Group 211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339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216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344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49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50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51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56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Group 233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361" name="Group 234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362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39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367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1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00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75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102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77" name="Group 103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78" name="Group 104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79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84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114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89" name="Group 115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90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20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95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9" name="Group 125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400" name="Group 126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401" name="Group 127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402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403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33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408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2" name="Group 138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413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414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144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419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149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424" name="Group 150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425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426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156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431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" name="Group 161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436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437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167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42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6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63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3333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66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4d4d4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69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72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2"/>
          <p:cNvSpPr/>
          <p:nvPr/>
        </p:nvSpPr>
        <p:spPr>
          <a:xfrm>
            <a:off x="1710000" y="422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谢谢观赏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1"/>
          <p:cNvSpPr/>
          <p:nvPr/>
        </p:nvSpPr>
        <p:spPr>
          <a:xfrm>
            <a:off x="1548360" y="481500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nap ITC"/>
                <a:ea typeface="迷你简综艺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485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Box 7"/>
            <p:cNvSpPr/>
            <p:nvPr/>
          </p:nvSpPr>
          <p:spPr>
            <a:xfrm rot="20926800">
              <a:off x="2349720" y="2966040"/>
              <a:ext cx="3889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5:59:00Z</dcterms:created>
  <dc:creator>北京锐得幻演广告有限公司</dc:creator>
  <dc:description/>
  <cp:keywords/>
  <dc:language>en-US</dc:language>
  <cp:lastModifiedBy>a</cp:lastModifiedBy>
  <dcterms:modified xsi:type="dcterms:W3CDTF">2014-07-30T04:58:04Z</dcterms:modified>
  <cp:revision>348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