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7CA96-8964-4717-8F5C-EEDF7462F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AA29B-E56B-485F-A9CE-BA1D974DE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04AE0A-8259-4B7A-8CE8-39C5E3DD8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90F7DF-F15D-4B2F-A3C9-1C35E6DD9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43824D-0941-42FE-8804-790B7ACDA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BDE487-0DFB-4522-A2E7-6F630DB66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93A92B-0853-4560-84EE-43DFA832E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9B543A-5C10-4435-A9DD-FADC09F44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B6128C-0039-4AB0-9C23-76714E38E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663D26-0DB3-4CD1-B01A-ACF060D72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B33CBB-59AD-4A45-8D41-5860733B5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5E7289-31C2-478E-829E-1930EFF2F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4DB27-EEF7-48DC-9CEA-CF97C39B5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D2AFAC-4D4C-42AD-9D2E-E89B48318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43132E-37E6-465C-8E06-9D2DA4092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71E0B6-04BE-410D-8A42-8CEA8DA69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CB88BE-D426-4ACF-926D-FF2E91228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7D55AD-6685-4A91-932C-2ABDD20F6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B1C914-334A-45E1-9F00-F433BF7EA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E08B20-3E70-42AA-A4B1-2EEE27DB0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8EC241-0575-4E92-B333-2AAA4F0B4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82441B-0C43-446C-B1EE-3A65C571E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A902BF-C3E2-4511-8A55-4276632B7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586CA-97E4-41D9-BAE4-3BC919B0B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BC17E9-6CB1-4878-B6C6-FFDED556C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FC1002-CF7B-4650-B5F5-9F8E74387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C44EAE-D3FA-4611-9652-58FFCCEE4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1FFCF3-338E-44C7-A171-D4147215D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14B249-762A-4D48-A660-D30EA0E8E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865C74-2C60-4D34-892A-C9DEB069D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BEABC1-483F-4978-A60E-FBFD488A0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28DBB1-6A0C-4ABD-99E2-E36F83713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00429A-549B-41FE-A83B-270B58240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A309CD-7E58-4F72-848B-F45D7F1CF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7704B-D1A8-4D28-886A-A9A726887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DA3CFB-D1CB-4C2C-9A42-C24DFBAC3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57DE6E-E895-40B9-8258-6417BFED4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A16325-A2A2-4F46-BF78-6951971B1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BC01D2-A4EE-4F9A-B7E8-F1B9D466E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83664B-2F7F-4FC2-BB73-19FC8E137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E92961-6C55-42C0-8FBF-1C431E001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F06F05-55A8-48C1-B12C-F0EBD35E8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D82BAB-7209-4546-A860-D9D7809D3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A14FBC-5D2B-44BD-94A9-B6E090E13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EC644A-C422-4BE4-9435-238AF0FA8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8BF93-D29B-4A47-B7BF-CDFCFD39D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C5AB88-1D3D-4CAA-BFCD-C98D28087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E36F04-29B3-488D-9DF8-81904D652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116267-184A-4665-BF40-DD07E9350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C2DF6F-6D69-4C1C-BA99-4136B4B27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A69DCA-32AE-4201-8C5F-997E5892B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DF4F5C8-35D7-45D6-B04C-BAF0CD2E6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5856EB9-2A61-4CC8-9721-754C4E2EB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6FB984A-BA9B-495B-B128-F6F20D3B5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5BE3526-83D4-48C7-AFE5-64A6FBEE5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4FA2A66-B224-4E3E-B2A7-B587F76B0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EF9E1-02CE-47CB-A749-838121967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07D7DD7-D95C-4E96-915F-7F7B25192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7662B45-FE19-4522-AE26-C891B6CD0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1551BDB-7FBB-4F1C-8A1D-8FADB4728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1EEECC7-FF83-402E-8F47-B45CACD52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C280B68-A25D-4028-875C-1076B1244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48E8511-F48E-4146-920E-0A2DB0062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DBABC37-740F-412B-A08B-2C9EA7E5D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F2212-450B-4D66-8165-ACEFF1AEA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FEAE3-36A4-4387-892A-35EF39AD8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7AB2D-25E5-4B7E-9FFF-20981E053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22A7C-4BE3-4F51-80DE-73D67F625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8D329-9D88-4D63-82D5-EF0D74BFB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93487-E255-4626-9152-AE538EC39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7CD8D-64AE-4C3A-8035-EADD663B7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D090F-1AC5-487D-891E-D37405849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59B5D-47F9-4A4D-A84D-B5929EE82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0584D-DD89-4FB0-A548-AD1119360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E44466-FA19-4473-BFD6-321547A43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49DE24-4A45-4F2E-9893-CF4EEF473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68056D-EB18-467D-A571-CAC322426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93D3D3-D9BC-48D0-9448-4757AE966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6E7C62-1C5C-4C0C-880B-DFBC08304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5271D-34C5-4415-8198-966C12657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7EC896-22BA-4918-B0A3-962A4F141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6A7849-B454-460C-B603-1A5A787CC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57F8D8-9097-4705-B544-304DEE317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206B0E-ECD6-4D55-87BA-71940BDF7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123756-6CE3-4ECA-8722-74503C6FF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E81DCE-0430-4828-AE13-D26E138C8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7F7F34-41A2-4332-9A61-97D02AB6C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961B4F-9CC9-4B8F-A60C-BA7BEF1C7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198163-8D6B-464B-85E8-DDD607FA9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9F094F-5673-45BE-B653-173AE25C2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7610D-26EF-4F37-9B11-4631EADE1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D24EB0-DE95-4CEE-AA0D-1CA2A6C30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8B969E-B8F3-4D92-A542-A4E5CDB0F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ADBE78-87D2-4605-8BFA-9203389AF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8AFEF7-2685-4345-A237-1F8F207A4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974EBC-BF80-4DB3-AD8A-E3EC22AA3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CA6020-64FD-4062-AA40-4E91D8D1D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378921-DE04-4D8E-B1F9-DFBEA51F9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8DEC4D-3289-459A-BDE5-BED27C764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F98B00-8286-48AA-80AB-DA4A3571A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075B87-EB1E-41FF-9591-255950140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11249-75B9-4718-89F8-1B0B3209C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114BC2-26CD-4B7A-8B19-4BA2A1DD0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0A7AE2-326B-41CD-ABF0-70FE56374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237551-0549-4C86-8F04-A9DAC038B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3F48AB-1EB3-467A-9F13-E625FB2AF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7F4180-8AFC-455E-8C62-85D8A31F3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B661DB-9F3A-4C2B-A269-E72329169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C1E66C-0575-4F74-831E-0AEA7943D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1C73A4-B474-412D-8A2A-C61B46031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AFB479-4A6C-4D3A-B03E-1E8716279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A8EDD3-BDF3-4C2B-A96D-392B5C75A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C9DD4-ED1E-4997-98EA-17FB88134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3CA34E-9E65-41C3-AE13-334816917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CD5C4D-CDE1-4A9A-87B5-5F8844B3E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692978-9A8F-4146-A963-1C76437E2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072229-CF7A-495E-87FD-A46AE03CA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EB9097-553B-48EF-B4BE-23C3C839D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0BC8EE-BAE3-4887-900C-9AA2FEFFF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15744C-2538-49C9-BD97-2DD47F3DB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D294C5-0E49-434C-AD75-E0D424C3F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C0311C-7BAA-402F-B77E-9D24548CF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88F3C4-6C39-4392-BF6A-7E1D62434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CE22F-9B05-43F7-BB88-411FC6568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15CDE6-0A16-4484-89AC-5315A4BDF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1723BB-AAA7-46C8-82F3-254247CB7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1EE671-47EA-4CE1-A9BA-EE6F0C5F8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60C0F7-AD92-406C-8851-D30DF2453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65458C-3A69-4B4D-B10B-C6D1F3958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897588-872F-468C-BD92-94FAC9C58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B4ED90-1362-464E-A247-754F50774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411D0E-86BF-40FC-ADB8-9683E791E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551031-E122-4E81-9972-F8821F8C5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A69464-455A-4E0E-807C-BF5BEA951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0794D-3C85-4E6E-B620-154436F8E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F56044-9B84-4783-B317-8049A1D61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CAA4B4-0C42-4582-A6CE-8B8F5EDCF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27E3A6-A604-414A-B045-0EA1A1568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373E6E-BAE6-4B7B-B8D6-15CEC5001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352622-D277-403F-9973-A1597F1A9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D98730-A32B-4014-8F4B-CC3FC2F53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97A9A4-DB6B-4D62-B946-6545E9E4A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89ACF3-3ED4-449B-9193-809318734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A10FFF-7DBA-41CE-9861-1C83B69DD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16FF63-F7D8-4057-95CB-D813FC99A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0130D-7E35-4517-A37C-B72C7CACA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9A48CD-908B-43C8-9898-8902AC580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70AEEF-1B60-4FC3-B3E1-0DDB8393C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4599AF-72F4-47F4-BEBA-D0EE5D3E6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D9DC58-CE1D-4744-968A-844E9703D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F777A7-6ED6-4246-BB67-A4F5ECB26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4B2F3C-0A45-409B-AD4B-28178870D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6950D0-1DCF-4EA4-B134-E7FDBF667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95BF5A-BB2C-4C55-9B12-AFACA1571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7EC3AD-9634-487D-9AFB-24704CA1F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3E87BE-386C-4655-BD12-B755C0949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D5081-6180-4560-A1F5-07E0DC7E6597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E6D1D-A55E-4CC2-A148-6F8DA657AF3C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C0588-B0AB-4107-9642-2A1542152CF7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456CE-6711-4E98-AE4B-BC888EC94176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0B8A0-D485-4333-B7B2-4F5F040A8144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2C329-F281-45B6-B76B-1BF5A2EE9223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A6021-2E0D-409A-B368-278A3844DBA7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8A164-3CDC-4438-A709-8C1F02C4ED58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0934B-09BE-4BDA-B192-5043A3AB0A5D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BD15A-69CA-433F-8509-07FDB3AF352B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8B870-B7FF-42FC-81F0-43C5F11B8A0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A0DAA-5725-440E-AE88-07C9A7833B7F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FE2F9-9FCC-4FEB-9977-DE46FCC457C9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7DD31-6640-48A3-9D27-EF386B55CAB3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0BD34-BF44-4AB1-AEBB-9F2C80F1901B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FC0FC-9D62-46E4-89E0-EEB3EFECEB00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C9104-D335-4B2C-8F22-03F633476431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354E4-A541-4D55-A9BF-BF30028CD8A8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3B022-492F-4A92-BBB6-FCC1C0E083A4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ACFFA-A777-471B-996B-20CBE944F3AD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FA8BA-43C9-41AD-B37E-3467E3225F41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0B29D-DD8C-49BD-93C1-5B50D626AF4B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51857-5A96-4D08-954D-AA3405A3B134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AFD4E-E052-4C22-BBB8-8219625188A3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C0A65-1195-4994-BF0B-9EB3D3995249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6.jpeg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Text Box 2"/>
          <p:cNvSpPr/>
          <p:nvPr/>
        </p:nvSpPr>
        <p:spPr>
          <a:xfrm>
            <a:off x="15840" y="52560"/>
            <a:ext cx="314496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777777"/>
                </a:solidFill>
                <a:uFillTx/>
                <a:latin typeface="Calibri"/>
                <a:ea typeface="微软雅黑"/>
              </a:rPr>
              <a:t>封面页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777777"/>
                </a:solidFill>
                <a:uFillTx/>
                <a:latin typeface="Calibri"/>
                <a:ea typeface="微软雅黑"/>
              </a:rPr>
              <a:t>（设计好之后可以删掉这个文本框哦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4" name="Picture 3" descr="开始画面"/>
          <p:cNvPicPr/>
          <p:nvPr/>
        </p:nvPicPr>
        <p:blipFill>
          <a:blip r:embed="rId1"/>
          <a:stretch/>
        </p:blipFill>
        <p:spPr>
          <a:xfrm>
            <a:off x="-19080" y="6480"/>
            <a:ext cx="12198240" cy="686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Text Box 2"/>
          <p:cNvSpPr/>
          <p:nvPr/>
        </p:nvSpPr>
        <p:spPr>
          <a:xfrm>
            <a:off x="15840" y="52560"/>
            <a:ext cx="314496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777777"/>
                </a:solidFill>
                <a:uFillTx/>
                <a:latin typeface="Calibri"/>
                <a:ea typeface="微软雅黑"/>
              </a:rPr>
              <a:t>目录页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777777"/>
                </a:solidFill>
                <a:uFillTx/>
                <a:latin typeface="Calibri"/>
                <a:ea typeface="微软雅黑"/>
              </a:rPr>
              <a:t>（设计好之后可以删掉这个文本框哦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6" name="Picture 3" descr="目录"/>
          <p:cNvPicPr/>
          <p:nvPr/>
        </p:nvPicPr>
        <p:blipFill>
          <a:blip r:embed="rId1"/>
          <a:stretch/>
        </p:blipFill>
        <p:spPr>
          <a:xfrm>
            <a:off x="-9360" y="-12600"/>
            <a:ext cx="12223440" cy="687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Text Box 2"/>
          <p:cNvSpPr/>
          <p:nvPr/>
        </p:nvSpPr>
        <p:spPr>
          <a:xfrm>
            <a:off x="15840" y="52560"/>
            <a:ext cx="314496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777777"/>
                </a:solidFill>
                <a:uFillTx/>
                <a:latin typeface="Calibri"/>
                <a:ea typeface="微软雅黑"/>
              </a:rPr>
              <a:t>过渡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777777"/>
                </a:solidFill>
                <a:uFillTx/>
                <a:latin typeface="Calibri"/>
                <a:ea typeface="微软雅黑"/>
              </a:rPr>
              <a:t>（设计好之后可以删掉这个文本框哦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8" name="Picture 3" descr="过度页"/>
          <p:cNvPicPr/>
          <p:nvPr/>
        </p:nvPicPr>
        <p:blipFill>
          <a:blip r:embed="rId1"/>
          <a:stretch/>
        </p:blipFill>
        <p:spPr>
          <a:xfrm>
            <a:off x="-15840" y="-12600"/>
            <a:ext cx="12228480" cy="687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Text Box 2"/>
          <p:cNvSpPr/>
          <p:nvPr/>
        </p:nvSpPr>
        <p:spPr>
          <a:xfrm>
            <a:off x="15840" y="52560"/>
            <a:ext cx="314496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777777"/>
                </a:solidFill>
                <a:uFillTx/>
                <a:latin typeface="Calibri"/>
                <a:ea typeface="微软雅黑"/>
              </a:rPr>
              <a:t>内容页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777777"/>
                </a:solidFill>
                <a:uFillTx/>
                <a:latin typeface="Calibri"/>
                <a:ea typeface="微软雅黑"/>
              </a:rPr>
              <a:t>（设计好之后可以删掉这个文本框哦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0" name="Picture 3" descr="内容页"/>
          <p:cNvPicPr/>
          <p:nvPr/>
        </p:nvPicPr>
        <p:blipFill>
          <a:blip r:embed="rId1"/>
          <a:stretch/>
        </p:blipFill>
        <p:spPr>
          <a:xfrm>
            <a:off x="0" y="3240"/>
            <a:ext cx="12207960" cy="68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Text Box 2"/>
          <p:cNvSpPr/>
          <p:nvPr/>
        </p:nvSpPr>
        <p:spPr>
          <a:xfrm>
            <a:off x="15840" y="52560"/>
            <a:ext cx="314496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777777"/>
                </a:solidFill>
                <a:uFillTx/>
                <a:latin typeface="Calibri"/>
                <a:ea typeface="微软雅黑"/>
              </a:rPr>
              <a:t>结束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777777"/>
                </a:solidFill>
                <a:uFillTx/>
                <a:latin typeface="Calibri"/>
                <a:ea typeface="微软雅黑"/>
              </a:rPr>
              <a:t>（设计好之后可以删掉这个文本框哦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2" name="Picture 3" descr="结束页"/>
          <p:cNvPicPr/>
          <p:nvPr/>
        </p:nvPicPr>
        <p:blipFill>
          <a:blip r:embed="rId1"/>
          <a:stretch/>
        </p:blipFill>
        <p:spPr>
          <a:xfrm>
            <a:off x="-17640" y="0"/>
            <a:ext cx="12230280" cy="687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3" name="Group 2"/>
          <p:cNvGrpSpPr/>
          <p:nvPr/>
        </p:nvGrpSpPr>
        <p:grpSpPr>
          <a:xfrm>
            <a:off x="1523880" y="0"/>
            <a:ext cx="8466120" cy="6858000"/>
            <a:chOff x="1523880" y="0"/>
            <a:chExt cx="8466120" cy="6858000"/>
          </a:xfrm>
        </p:grpSpPr>
        <p:sp>
          <p:nvSpPr>
            <p:cNvPr id="544" name="矩形 4"/>
            <p:cNvSpPr/>
            <p:nvPr/>
          </p:nvSpPr>
          <p:spPr>
            <a:xfrm>
              <a:off x="214092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45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152388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6" name="TextBox 7"/>
            <p:cNvSpPr/>
            <p:nvPr/>
          </p:nvSpPr>
          <p:spPr>
            <a:xfrm rot="20926800">
              <a:off x="344484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9:31Z</dcterms:created>
  <dc:creator>zuazua W</dc:creator>
  <dc:description/>
  <cp:keywords/>
  <dc:language>en-US</dc:language>
  <cp:lastModifiedBy>a</cp:lastModifiedBy>
  <dcterms:modified xsi:type="dcterms:W3CDTF">2014-07-19T08:46:32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636</vt:lpwstr>
  </property>
</Properties>
</file>