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2493-2E2E-46FF-8043-F55B5052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B3CD-0899-44ED-A7A5-25EB9601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6FF0-B58D-4F52-97A8-5B453760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E8C-B415-4D47-9CEA-223333A0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3E5D-A02D-4AB1-81A3-6327CEFB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36CA-B530-44DD-B3FC-DF185232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599B5-5597-49FC-A3BB-49B5EA2D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6797-0AE6-4114-A59D-866FD69A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E091-700B-4C56-82DF-3D560D0A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9197-00BD-4C38-8BC3-9C28DFF7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696D-0F4A-4045-91C2-55C893B2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46D-F134-4587-B154-B133694A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4013-0A45-461A-8242-4A5D3FE4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9E89-B102-496D-ADF6-F2D964E5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F67A-E818-4397-B9F9-E5237A45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7F4D-03C8-46D8-8874-CB115094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6815-6DF7-4B9C-9F0F-AB33B941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B57B-4A22-480A-90C1-64805777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9DFC-688E-4B26-99D9-A0FB0787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83B9-CAEC-47E3-9844-3F9BC4EC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73F2-C53B-4860-9765-D746935A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202-420D-4DF6-8CCF-6B55D344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92C-2702-4155-9293-A7109C20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C31-590C-4C9F-A9E7-8D050AA0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2439-F507-4551-8305-9B9EB2D433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PTmob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3DD3-0CA4-49AF-9347-C1CCAD1E0E1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AC17-C513-415E-8184-EA3E8F0315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log.56.com/entry.php?u=xiaotu21&amp;e_id=188629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log.56.com/entry.php?u=xiaotu21&amp;e_id=188629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log.56.com/entry.php?u=xiaotu21&amp;e_id=188629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PPT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2T06:35:36Z</dcterms:created>
  <dc:creator/>
  <dc:description/>
  <cp:keywords/>
  <dc:language>en-US</dc:language>
  <cp:lastModifiedBy>a</cp:lastModifiedBy>
  <dcterms:modified xsi:type="dcterms:W3CDTF">2014-08-03T07:40:4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  <property fmtid="{D5CDD505-2E9C-101B-9397-08002B2CF9AE}" pid="3" name="Version">
    <vt:r8>1</vt:r8>
  </property>
</Properties>
</file>