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E08-5415-451D-BFC7-E95A9A33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FA7-14B5-4BDF-942C-EDCBC44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6F9-0691-4E07-AEAD-C96E3CC4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DA8-ED03-4D77-9ACD-67EAA683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8DB-C6FA-48B6-937E-FF348DE3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1619-4054-46F8-A7F1-483D0A37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3BEA-97C5-4BDA-828A-BB25EC72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3D90-C1CB-47A8-87A0-E8D148B6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2C28-A03C-48D4-A733-57F15F13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AC08-B4F0-4D33-A174-F65FEF3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E8EB-E096-445E-8600-4B83FBEA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917-85EE-4EE5-B134-A2C1253A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6A1D-2875-4C5C-AC48-9DE0088B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871-4D48-4D91-83BF-39B2F8A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F7E-DDFB-4D2A-A832-190DACC5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9AD5-3265-4924-9B17-6B2793B0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0173-564D-4102-A8EC-EC4F912C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828D-8806-4C47-B930-23D85D86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6AEE-12FA-468C-B507-A1C7B90B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CB83-E56F-4818-B600-5F146320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33D9-C06A-4B61-B885-8B1145C1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3D86-C164-438A-9DBE-B4A86731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616-F2CF-47FA-A617-06040AB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CFE7-ECF9-4847-B592-9D69A779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2664-B522-4C2C-A8BA-37127209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8E5E-D2C4-4963-9F22-3C1328B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10ED4-5BEB-41B9-BE38-6C8D09A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D72B-EA86-4426-AB5C-D9E006C4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E975-03DA-442F-9126-00C89930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1EF3-053C-4165-A784-61E2B4A3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799-564F-43A7-938A-F7530EF1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089-9578-43CA-B134-E04D52AB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2BE-FFB0-497C-92C5-2ED0BF8E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0ED-FB0E-4674-8412-557B27E2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279-B2E8-49BB-BE06-0326EC86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7FC-AE86-4CCA-80BF-FD0DD065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a8c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8a8c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6366-58BA-4821-B951-8F9566CEC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9B97-20D7-4C46-A68F-90DCAC270C1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8C63-AE4F-4906-A3D4-91DDE11D97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a8c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8a8c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C30C-5489-4CE8-9523-04DC072DF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a8c5"/>
                </a:solidFill>
                <a:latin typeface="Times New Roman"/>
                <a:ea typeface="宋体"/>
              </a:rPr>
              <a:t>GOLF</a:t>
            </a:r>
            <a:br>
              <a:rPr sz="4400"/>
            </a:br>
            <a:r>
              <a:rPr b="0" lang="en-US" sz="4400" spc="-1" strike="noStrike">
                <a:solidFill>
                  <a:srgbClr val="68a8c5"/>
                </a:solidFill>
                <a:latin typeface="Times New Roman"/>
                <a:ea typeface="宋体"/>
              </a:rPr>
              <a:t>OUTLINE</a:t>
            </a:r>
            <a:endParaRPr b="0" lang="en-US" sz="4400" spc="-1" strike="noStrike">
              <a:solidFill>
                <a:srgbClr val="68a8c5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1760" y="358128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a8c5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68a8c5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a8c5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68a8c5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68a8c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Eurostile"/>
                <a:ea typeface="宋体"/>
              </a:rPr>
              <a:t>Elements</a:t>
            </a:r>
            <a:endParaRPr b="0" lang="en-US" sz="4400" spc="-1" strike="noStrike">
              <a:solidFill>
                <a:srgbClr val="68a8c5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52320" y="8377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2" name="Picture 4" descr="golf_outline_prt"/>
          <p:cNvPicPr/>
          <p:nvPr/>
        </p:nvPicPr>
        <p:blipFill>
          <a:blip r:embed="rId1"/>
          <a:stretch/>
        </p:blipFill>
        <p:spPr>
          <a:xfrm>
            <a:off x="6248520" y="4495680"/>
            <a:ext cx="243828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3" name="Picture 5" descr="golf_outline_qx"/>
          <p:cNvPicPr/>
          <p:nvPr/>
        </p:nvPicPr>
        <p:blipFill>
          <a:blip r:embed="rId2"/>
          <a:stretch/>
        </p:blipFill>
        <p:spPr>
          <a:xfrm>
            <a:off x="3352680" y="2209680"/>
            <a:ext cx="243864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6" descr="golf_outline_sld"/>
          <p:cNvPicPr/>
          <p:nvPr/>
        </p:nvPicPr>
        <p:blipFill>
          <a:blip r:embed="rId3"/>
          <a:stretch/>
        </p:blipFill>
        <p:spPr>
          <a:xfrm>
            <a:off x="3352680" y="4495680"/>
            <a:ext cx="243864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Picture 7" descr="golf_outline_trs"/>
          <p:cNvPicPr/>
          <p:nvPr/>
        </p:nvPicPr>
        <p:blipFill>
          <a:blip r:embed="rId4"/>
          <a:stretch/>
        </p:blipFill>
        <p:spPr>
          <a:xfrm>
            <a:off x="6248520" y="2209680"/>
            <a:ext cx="243828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Picture 8" descr="outline"/>
          <p:cNvPicPr/>
          <p:nvPr/>
        </p:nvPicPr>
        <p:blipFill>
          <a:blip r:embed="rId5"/>
          <a:stretch/>
        </p:blipFill>
        <p:spPr>
          <a:xfrm>
            <a:off x="304920" y="1676520"/>
            <a:ext cx="2716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9:14:13Z</dcterms:created>
  <dc:creator>eclipse</dc:creator>
  <dc:description/>
  <cp:keywords/>
  <dc:language>en-US</dc:language>
  <cp:lastModifiedBy>a</cp:lastModifiedBy>
  <dcterms:modified xsi:type="dcterms:W3CDTF">2014-07-28T10:28:01Z</dcterms:modified>
  <cp:revision>3</cp:revision>
  <dc:subject/>
  <dc:title>GOLF OUT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