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53B0-E40F-401A-AD92-812B8906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F831-391D-4695-B161-550B0ADB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344-92A8-45F1-BEC6-1A792AD6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0A60-EFD4-4FC5-AD47-33B1E45F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58B5-318D-41FF-B708-C6F39377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F102-2CF5-4285-810C-58D49326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8D43-6993-4266-A7EF-853F39C3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443B-5B35-4906-8049-73C0A2B6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10D5-1461-43A8-8858-12E1A43F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6D3D-FF8D-41D2-B29B-3A83A11A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BE34-9CF8-41E5-8646-0CBF65F3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92F-BA4E-4921-AD0A-E04C9273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56D1-48B8-4737-BB71-313BB1F7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D2F9-78EB-43CE-ACA2-AFC7AB0F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E2BE-6BB6-4EEC-99D6-2CCEB069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14E3-187E-4594-B392-035AAB86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A65C-5047-401F-87C0-2EED5E79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EDC-46AD-4EAD-8FFD-4E7499D3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71A-437F-41EE-98EA-ACD6B30D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99FC-85BC-4AB6-8BAD-9FBF7249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4589-3B57-48AE-A610-B251596F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8D1-2522-44DE-B560-D7CB5898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E83-D7E9-4697-A95D-0BCCD0C1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4A1-5899-4813-9D1B-52733174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5395-DCC5-4F70-961B-7DC1E0527292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1CED-CBD6-4283-8FCB-FBDC880D91C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E7A2-BACF-4568-833E-B9601F2F15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4520" y="1171080"/>
            <a:ext cx="667224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595959"/>
                </a:solidFill>
                <a:latin typeface="Calibri"/>
                <a:ea typeface="宋体"/>
              </a:rPr>
              <a:t>PRESENTATION 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71640" y="1886040"/>
            <a:ext cx="521496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  <a:ea typeface="宋体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8102520" y="6692760"/>
            <a:ext cx="1006560" cy="1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928880" y="16002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857320"/>
            <a:ext cx="822960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20:19:15Z</dcterms:created>
  <dc:creator>Éric Vadeboncoeur</dc:creator>
  <dc:description/>
  <cp:keywords/>
  <dc:language>en-US</dc:language>
  <cp:lastModifiedBy>a</cp:lastModifiedBy>
  <dcterms:modified xsi:type="dcterms:W3CDTF">2014-07-17T05:53:38Z</dcterms:modified>
  <cp:revision>2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