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16B-4E20-4A9D-A00F-AA38F51E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998-D752-4C23-ABFE-E038EF0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EA98E-7CC6-4A2E-88D8-B3593D2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0DD0-653F-4D97-9247-0CC0CE2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F912-281C-4C66-A5C5-F420806A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42073-CA48-4E06-B054-715A3DA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60AC-8E57-45AA-A95F-E260792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84C77-E180-4C9A-B63F-7872A19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8BFF-69E9-46F8-A07C-FFD4341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9BF1F-3F7F-48A0-A67F-39CACB4A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E2B8-2D32-464A-AEF4-67D289FF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A0992-146B-4E2D-BB9F-6B1EC63F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E6F-4F85-439F-AA64-C5988A2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9B15D-6CBD-4121-8D96-3EB943C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EBCB9-060D-439B-8D36-91D46151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01025-BF1F-4B0B-9E72-861BE6F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67B82-BB7B-4D6F-B8E9-7DCCCA5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59EA2-5F4B-4CF5-8BAF-C38D1E0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58F6-9DF5-4578-B971-729597CA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3CC01-52F4-4CAC-AB30-FA4FCD1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F4226-47ED-4B0B-860A-5CF0722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EAA05-6401-4B8F-A811-B9D4F379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4C574-57B8-4E60-A376-EC5EDFBB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F96-D9ED-4F47-88AC-628F6FF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70FDD-B10E-4E94-A8D3-019D2E22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C6226-989B-46CA-B8B6-DDCA667E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19DD-98AB-456C-ACF4-B1BF29B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30811-D73D-4B0E-BCC8-5C9F04E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EDB1-019C-4C31-B918-3993E0A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FB6AD-D1EC-4F9C-8118-EFF31F2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02F51-6AC9-49FB-BCDB-C4CA654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0617E-E355-47A8-98E4-D464180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55D34-5701-4E1C-BE2B-F6BD31A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4992D-490A-446D-95C2-20B781B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203-9CF7-4B86-9277-34EF3DD8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3A2F-D0A2-4716-A6CF-66E87EB1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4C72-5173-4029-BD20-26DCB300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91FAD-BF5A-4B78-A577-057F31A5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8DEBF-86D6-46DE-87C1-ADF04E07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3ABB4-3132-4818-867B-9633142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73F56-7D9D-4193-9748-ADB4CE7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96723-2A8A-43D4-868D-DCAD0214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CD82-6835-4AF2-872A-38018D5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D6AFA-2388-45F7-AE50-0723DCF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6ADE-4A5A-4784-8646-FD9C44B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17DF-E386-4993-AF91-9A3E1ACC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50008-A401-48C8-9B3C-BC47DD70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43D23-2FD1-4B08-8B11-5AA8417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EEB6E-1DF0-438C-9D31-8C56ED72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EA39D-5043-470C-9AC4-42FDD54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C8EE9-D672-4A14-AFA9-AF9669C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A5C3D-C73C-4663-BBB3-19456020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0789D-CBAF-401C-8AA6-5DDA3A37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0A3C7-4B2D-407B-A466-23EA36F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86150-0B4E-45AF-B2A2-B98F195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EFACD-15B4-44A3-A8B8-7DA9AF1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238-8CD7-4D54-8BD6-28E0788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0D61E-FACC-4C2B-91D2-DD4C091F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B4D5F-CF07-49D3-B0F4-581CAC4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8A4F7-717E-4331-ABBA-DC692B7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C1604-BE3C-4CD8-AD71-1B78897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33C0-0BC0-4F86-909E-C928E46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72CDA-8BCB-4F7D-9D6E-4EB70C08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23D64-2839-477B-8735-B0C56CC4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482D3-0D40-43F9-9E8E-76E4B72E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E9883-3C5F-4805-B4F2-5374E2F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EDA9C-9589-4D54-A692-8B055E12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D73-B1B1-4A86-B71A-C9C5984F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EECDB-C541-4A62-AF1F-49DF244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DA197-0F64-4678-92D5-4A3CEA5D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36698-EEF1-4BB9-9251-6200A26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4D92F-BF97-480B-99D5-F2BC85C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3DF87-B887-44E8-929A-A933388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9119F-BBED-44A9-8777-E4E4951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0C628-A9CD-4A20-B714-DEDB3650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DA926-9A52-4256-9E47-2429DB4A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DFA14-C145-468B-B051-CFFA197C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C6C6-1141-4D10-9AB0-A1880FFC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DFF5-37EE-46FE-A15C-D31F54C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669-4D98-4625-B389-D1EA42C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E4D-674A-448C-9FD0-A043515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59D8-8341-41BE-9FA5-9861306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5B3A-9B31-4DAD-8BBE-7E2D6FB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E9A9-F045-4692-A1D8-16C967EB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53A-8711-4FE9-B74F-D55316EB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74C-CE4D-42FF-BFD1-3E3FCB4C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523C-E773-4643-8D21-D3DCE52F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5D4C-EC48-4D13-9D34-9F800A76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9DF5-0329-4630-9C61-A3DD9AC5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0074-3D2D-4DB9-ABC0-66D5A7B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FD15-2002-4129-9651-4A4AEAF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7FE-409A-471C-9C6B-B23B619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8EC7-087C-45E3-8457-0DFFE21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2193-3D1A-4F6E-BD85-48EFA3AF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D69E-A156-427B-A0D0-1852D29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60B-9EA3-41FC-BBC7-03E271C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DA15-5561-4133-A588-FF4DEAB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0D9F-E23A-498B-8155-EDABD707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4735-EFA6-4AFA-96B2-08F106BC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D314-E180-4C0F-BD95-2C422D19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49F8-F5D6-4AF2-B78B-83A8136D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8FF1-788A-49B9-8D81-B0C35434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5B8-EDAA-4C64-80D3-DB600DE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B7A8-30AD-4147-9C1D-90F89F7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47DC-36E0-4C75-B978-E6A2596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2265-4284-46E8-A009-A39EA8A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3283-98A6-40A6-92DB-B12544A1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8F77-E671-4BAA-990B-CC67627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9ED1-C255-456C-971C-4ECAF80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819A-AC86-46A0-97EB-6D7B316A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1E7A-D42C-4479-9FA8-A1862F83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7DAA-5F3C-49B1-BEF1-1CA08521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C163-F84D-4FE6-9A58-B1D0F35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DDD-38BF-47C8-9A4F-8E200CE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C449-7A55-426B-837B-BE5F3CC1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401D9-B453-4836-AC7C-8DF4BB5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2678-B726-4F3D-84BC-8FB1FB2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D51D3-4166-46C7-8DED-96F6CB2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D016-92C5-488C-B683-7B5D796E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3AEB-58CD-4CAE-AC4C-F196B73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B39A-D5E7-4DD8-A490-95EEACD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68C34-C7BB-4710-8007-EF03AE9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24CE-6D74-41B8-A472-99875E1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72C8F-446A-4885-BD06-E219645F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F3A-DDB1-4B8F-8213-0A44723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512F-5D5F-479F-8CF1-37AD507D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701C-B028-4674-B3A8-A837A49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FBC70-8F33-4A44-AB02-F15050F5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AB5A-AEC1-4958-B4FC-8547AF4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CD883-3551-4158-B229-5E0DC96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0EBF-78B0-4A16-A84A-D6BEFEF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4B5F-B9E1-452C-A44A-9080D54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514D-E84E-43D7-98E4-B72AEB8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FFC2-2307-49CF-A7F9-DC881CC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716D-CE62-4677-86FA-4D5A6A5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FD7-A4B4-44FB-93F7-1EED260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CFB4-B587-45AC-84E3-ECA6D83D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E231-8C5B-4B57-91B7-BAF2D5B1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82BB-6FA2-466A-B686-77D93BBF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708EF-BA91-4B75-9E3D-D4BBEE19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F694-5929-43A5-88C9-F429822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1BDB-BFCF-442E-8258-94A3AEC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469F2-532E-477D-B8A0-37C89F0B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6492-7AB7-47E3-B023-D3AACAB4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A508-A759-4B3B-BA20-05C8480D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55ED-9906-484A-89E4-687F398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551-FBC6-424F-8559-FCF8ADA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4E512-9262-46F3-BE10-CB43392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4A91-2C4F-4DA5-8898-0863666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271D-8C6E-4500-BBC0-9CE169A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7FAC9-723C-4D65-BF34-B4B0D114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69F3-C69F-4E81-AA9C-CA9D4C0A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053F-35EB-405C-9F25-0032D41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D55A-7DBA-40FA-88B4-A4B7FD5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99C7-8E41-4A0A-9401-E865F4D7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FE1CF-41A7-4097-A033-786A921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DB16F-6FCF-4F13-8804-3BAD66E4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D98-4F89-44BD-81EF-10EB92C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19D17-E955-4B60-9CE4-AFF64BC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E9063-2E11-46FE-BB9E-729B56B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AF4AC-3F6E-4AE4-804D-8F6CE62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42FF1-7D21-436E-86CE-214B6BA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A2D22-AF03-4BB0-A88B-FA59C4D7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CACE-4EC6-4E0F-A727-2C497C22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8221E-595E-45DB-8B01-ADCD5F93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6EDE8-FFCB-4347-865F-D7A60283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DC3C7-9454-4FFA-9844-40B84FE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0194F-93F4-4097-9424-514C2D0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E96-E8AA-4955-913E-CC87D8193A62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588-D9C6-4744-A451-28B48CF129C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00E-B670-4DAA-B42E-8F2D48FD5B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BBD4-E476-42A9-849E-AF812C29188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9F4-8ACC-4363-8FE6-ACFC4E3AC6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498-EA45-435C-AD00-DC9588A3B7C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F9E0-6CE3-4A9E-96C2-294C0C88E38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3FF-6411-400A-A671-355B559E6A45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2601-EF17-414B-A5EF-15BAC95843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F2BD-F0E0-4976-92B0-3A6F7CAD432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FDC-DD79-4838-A114-EA3114E0E55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1F09-191A-4A81-8A4E-B6F1F64637BF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69E-6E04-44EE-975C-FA70EB24311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3297-C6EB-4027-A1FB-E6692E0CFB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E2D-9B8B-4047-A79F-B962B4A3437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BDEC-BB37-4E79-A2BE-CD1C809F43A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8D8-0A2C-4821-A02C-93717ADEC63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FD49-0EC0-4A46-951D-F848B844A0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995A-8767-49AF-9976-B53EE589C84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CF5-8B33-45A8-A1FA-180312F6F9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BEE-2EED-4D66-A28B-A27B12667A4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B24-88BF-4008-B4F9-6840AD361DB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20E0-B53D-4E85-9FEE-8DB97FA95A0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101-4B8A-4FD9-8950-4F02C2007C5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DE5-2A7F-4EEA-A283-732305F3EC5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841-654E-48EE-87F2-41D913FBCC9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4211640" y="91584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搞怪万圣节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8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12:56Z</dcterms:created>
  <dc:creator>Admin</dc:creator>
  <dc:description/>
  <dc:language>en-US</dc:language>
  <cp:lastModifiedBy>a</cp:lastModifiedBy>
  <dcterms:modified xsi:type="dcterms:W3CDTF">2015-01-14T06:13:59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