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110-9B7B-474D-A2AA-A52DF426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2D2-4B7A-4826-A489-3BB78060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F0E-6D24-4CCB-84A4-EC61A69B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A4F-54B4-4BD8-A3E8-F7F7F251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2CFD-5015-4FD3-9DA2-96F22482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B1E-3966-4374-903C-06B561D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9150-B102-4886-8ACC-EC0531E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6E8A-D834-49B3-9677-2BD8169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13E-5428-45C2-B04B-887713B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E702-49D1-415C-A9CF-8CE3E2F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1C1-8B21-4BCE-9FFC-B0AEEAE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0F0-88A1-4842-867B-F08815F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A0B-3241-4F5D-AE94-7382BB3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B73A-DA1A-4331-963E-4DD2E4C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FA11-51A9-4634-840C-98F21C01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30CD-5537-45F7-A9FD-D1FBBA9D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A096-8F86-46AA-9092-76E678A2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5F3-3F20-4298-9C0D-8C6F46BA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88E-BADE-42E4-A2FA-FC255DF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501-EBF5-47FF-849A-052789F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B38-5FFF-4680-82A8-9C9C27B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357-9CE0-4115-8893-8C7855D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BA5-CB34-432A-9284-2E9815B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F47-87F7-4E49-9CD7-668C550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F4A1-6766-43A3-8200-B1DE686C60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86D5-EB2E-4691-8E18-0E70A0085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01DA-DE16-4A86-9252-88FDB0EA9C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16A-BF10-4A38-B944-8CA334269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0908-1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0908-2"/>
          <p:cNvPicPr/>
          <p:nvPr/>
        </p:nvPicPr>
        <p:blipFill>
          <a:blip r:embed="rId1"/>
          <a:stretch/>
        </p:blipFill>
        <p:spPr>
          <a:xfrm>
            <a:off x="1177920" y="2349360"/>
            <a:ext cx="67881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10908-3"/>
          <p:cNvPicPr/>
          <p:nvPr/>
        </p:nvPicPr>
        <p:blipFill>
          <a:blip r:embed="rId1"/>
          <a:stretch/>
        </p:blipFill>
        <p:spPr>
          <a:xfrm>
            <a:off x="2308320" y="1600200"/>
            <a:ext cx="452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0908-4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10908-5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19T10:09:3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