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21681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100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1432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768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100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1432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E8B-7AAF-4A70-A08E-2DBA3BFF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DA8-CBB3-4514-8EC4-1998AA4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174-054F-44C2-A8F0-1C40F67E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9A9-C090-4CC7-B5E4-F485ABE4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8BF-C891-4F24-AAA2-E03BC3E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7680" y="274320"/>
            <a:ext cx="1095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622-DF29-42F3-957A-CC6C146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187-6E00-4A90-A902-9B7668F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746-3522-45F6-AF22-1FD9610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A94-4CA5-4959-98BF-99BEDDD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B11-23A4-4EC6-9808-DCC7577F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4CD-9337-44BB-8F2B-7DE27932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100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1432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768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100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1432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3E1-D4F3-4227-A6C6-93964EC9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1FE0-9F53-453F-B52F-43E53AFA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29D4-F91B-4C37-BD0F-8124158D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E55-C658-464A-9C97-80B2FAF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D38-0413-48B8-999F-B849DC8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F4EA-25CE-4C07-9A5F-1A7AE4E6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7680" y="274320"/>
            <a:ext cx="1095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7AFC-528B-4F84-9F09-11B0EE86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7109-E504-4C44-81DA-FF95DEA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165F-A136-491C-A2E6-0EC5E49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868A-81E0-4138-9618-51A31EB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5953-D1B8-488F-801E-4457AA4F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A383-58B6-4EBC-89BF-9367D559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1100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1432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768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1100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1432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6CA1-B452-4325-AFCB-5F19D1B4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7680" y="274320"/>
            <a:ext cx="1095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1370160" y="6504120"/>
            <a:ext cx="10823400" cy="384120"/>
          </a:xfrm>
          <a:prstGeom prst="rect">
            <a:avLst/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5"/>
          <p:cNvSpPr/>
          <p:nvPr/>
        </p:nvSpPr>
        <p:spPr>
          <a:xfrm>
            <a:off x="11125080" y="6519960"/>
            <a:ext cx="108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A2F4D711-4CAC-41D8-889C-BF2EEA2BDFA8}" type="slidenum"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0768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05FA-4E3C-4335-AC30-BE68048F81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4157640" y="6244920"/>
            <a:ext cx="38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71992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353B-EB84-44B3-8BBA-11E3EB5292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0768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2B9A-A1E7-48B7-A56B-1A026C2C8C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4157640" y="6244920"/>
            <a:ext cx="38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71992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5DF3-9B66-4D22-B8E5-CF959D5D5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0"/>
            <a:ext cx="12198240" cy="4867200"/>
          </a:xfrm>
          <a:prstGeom prst="rect">
            <a:avLst/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748720" y="262080"/>
            <a:ext cx="2808360" cy="1511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企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89080" y="262080"/>
            <a:ext cx="29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谨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131840" y="3500280"/>
            <a:ext cx="76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报告</a:t>
            </a: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252360" y="196920"/>
            <a:ext cx="11665080" cy="6473880"/>
          </a:xfrm>
          <a:prstGeom prst="roundRect">
            <a:avLst>
              <a:gd name="adj" fmla="val 0"/>
            </a:avLst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54200" y="47484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-467280" y="228600"/>
            <a:ext cx="21913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26faa"/>
                </a:solidFill>
                <a:latin typeface="Arial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4356000" y="1700280"/>
            <a:ext cx="5832720" cy="849240"/>
            <a:chOff x="4356000" y="1700280"/>
            <a:chExt cx="5832720" cy="849240"/>
          </a:xfrm>
        </p:grpSpPr>
        <p:sp>
          <p:nvSpPr>
            <p:cNvPr id="129" name="AutoShape 6"/>
            <p:cNvSpPr/>
            <p:nvPr/>
          </p:nvSpPr>
          <p:spPr>
            <a:xfrm>
              <a:off x="4356000" y="1700280"/>
              <a:ext cx="98100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5567760" y="1700280"/>
              <a:ext cx="462096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此处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4356000" y="2854440"/>
            <a:ext cx="5832720" cy="847440"/>
            <a:chOff x="4356000" y="2854440"/>
            <a:chExt cx="5832720" cy="847440"/>
          </a:xfrm>
        </p:grpSpPr>
        <p:sp>
          <p:nvSpPr>
            <p:cNvPr id="132" name="AutoShape 9"/>
            <p:cNvSpPr/>
            <p:nvPr/>
          </p:nvSpPr>
          <p:spPr>
            <a:xfrm>
              <a:off x="4356000" y="2854440"/>
              <a:ext cx="981000" cy="8474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5567760" y="2854440"/>
              <a:ext cx="4620960" cy="8474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此处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4356000" y="4005360"/>
            <a:ext cx="5832720" cy="849240"/>
            <a:chOff x="4356000" y="4005360"/>
            <a:chExt cx="5832720" cy="849240"/>
          </a:xfrm>
        </p:grpSpPr>
        <p:sp>
          <p:nvSpPr>
            <p:cNvPr id="135" name="AutoShape 12"/>
            <p:cNvSpPr/>
            <p:nvPr/>
          </p:nvSpPr>
          <p:spPr>
            <a:xfrm>
              <a:off x="4356000" y="4005360"/>
              <a:ext cx="98100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3"/>
            <p:cNvSpPr/>
            <p:nvPr/>
          </p:nvSpPr>
          <p:spPr>
            <a:xfrm>
              <a:off x="5567760" y="4005360"/>
              <a:ext cx="462096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此处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14"/>
          <p:cNvSpPr/>
          <p:nvPr/>
        </p:nvSpPr>
        <p:spPr>
          <a:xfrm flipH="1" rot="10800000">
            <a:off x="2160" y="-360"/>
            <a:ext cx="2986200" cy="37018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28760" y="236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e6086"/>
                </a:solidFill>
                <a:latin typeface="Arial"/>
                <a:ea typeface="微软雅黑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e6086"/>
                </a:solidFill>
                <a:latin typeface="Arial"/>
                <a:ea typeface="微软雅黑"/>
              </a:rPr>
              <a:t>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252360" y="203040"/>
            <a:ext cx="11665080" cy="6467760"/>
          </a:xfrm>
          <a:prstGeom prst="roundRect">
            <a:avLst>
              <a:gd name="adj" fmla="val 0"/>
            </a:avLst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413080" y="1701720"/>
            <a:ext cx="1309680" cy="100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6086"/>
                </a:solidFill>
                <a:latin typeface="Arial"/>
                <a:ea typeface="微软雅黑"/>
              </a:rPr>
              <a:t>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029120" y="1701720"/>
            <a:ext cx="6161040" cy="100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e6086"/>
                </a:solidFill>
                <a:latin typeface="Arial"/>
                <a:ea typeface="微软雅黑"/>
              </a:rPr>
              <a:t>此处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661080" y="2997360"/>
            <a:ext cx="3529080" cy="2304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e6086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71360"/>
            <a:ext cx="13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662120" y="117360"/>
            <a:ext cx="42465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6086"/>
                </a:solidFill>
                <a:latin typeface="微软雅黑"/>
                <a:ea typeface="微软雅黑"/>
              </a:rPr>
              <a:t>一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二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1512720" y="0"/>
            <a:ext cx="8466480" cy="6858000"/>
            <a:chOff x="1512720" y="0"/>
            <a:chExt cx="8466480" cy="6858000"/>
          </a:xfrm>
        </p:grpSpPr>
        <p:sp>
          <p:nvSpPr>
            <p:cNvPr id="146" name="矩形 4"/>
            <p:cNvSpPr/>
            <p:nvPr/>
          </p:nvSpPr>
          <p:spPr>
            <a:xfrm>
              <a:off x="21297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12720" y="1714320"/>
              <a:ext cx="84664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3433680" y="3572280"/>
              <a:ext cx="46674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</cp:lastModifiedBy>
  <dcterms:modified xsi:type="dcterms:W3CDTF">2015-01-14T06:50:40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