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154-EAC4-4D71-ABB1-38BD4CB1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986-DC42-48B3-B75A-91D2D3C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8CB2-2622-4616-9931-9306E2E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E304-AA44-4246-AD01-8FF7E179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18F9A-E677-4070-A883-A49869D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958C6-132E-4D14-A06C-9FAE69E1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E8A0-E85B-4CBB-B944-499D99B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212D-DBE9-45EC-B4AC-7749BA79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2368-7CA3-4295-8F79-2C22D45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99F0B-FAE8-4BB3-A97A-26AD1A6A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20E4D-D270-40B3-80FF-B6AC4ED5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FABE0-65A2-4B5A-9384-B6FFF067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146-F14C-4F01-B461-257A657D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9EAE5-A061-4A4A-830E-54D6B59C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EA4C1-87CA-4FF7-8560-76B9071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0173C-8B0F-475D-9143-30A4238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AD9C-6CC4-4FFA-96E1-5905BD99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A71D6-0B76-4CA4-84A7-1DC058C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B4011-AAD9-4EDD-B393-A103F46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99E72-6BA0-4255-947C-3314F14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E098-0C5A-4325-A962-B51113B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0CEB6-FE57-4915-93DC-A93A7670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4A0E3-8713-44DF-889E-07DA0C51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91C-DD0D-48F1-A3A4-FDE4AAE1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21C01-290A-4190-BC8A-5F09304D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31166-57E8-4AAC-95BD-F669999C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C7217-EF63-49AA-A2FF-871D3CA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6FE41-3BC3-4DE7-B566-89418C98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EF9B5-5E9C-4338-91B9-73329D58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8FB14-D617-4529-B9CB-09E28DA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7A754-9430-44CE-984B-E460AC7B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1B56D-1654-4B12-B12A-FC729BA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FE612-DE40-4226-A99B-6988F6EB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08FF4-9164-44AF-A73B-CDB8113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303C4-DC7A-4015-A5B3-1FE8506C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E1B13-1A26-43DC-9C26-D5D8917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C4B08-B858-451E-A7BC-6897A8F0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EA57E-8488-41A6-89BA-3EECDC04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181BC-A1F3-4CFA-A102-0461D801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A5948-B36A-4635-84B2-B9B3E04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0147D-99F2-494F-8313-9A9AD3D3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D570-FE27-4AC5-9921-896E2142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2985-C86D-4B49-84AB-4843FDDA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7FB4-A39A-4FC4-8BF8-3F65A84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01186-3943-47AD-A5F5-F157056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18CE7-54BF-4891-B346-318721E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F1DBC-1B78-4E14-822F-7493C67A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3C2AB-0351-497B-8796-39679DBF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4228A-769E-4CDE-AA88-0823FD37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296DA-9C19-4B3F-AA63-3EAEEA1E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6BD70-D8F3-4C85-9802-D70A4271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3C812-6F74-41A8-8309-AAC3C95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CA743-0242-4691-A75B-FF53961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C316E-DD4C-454D-9C34-4FFD9F1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973BC-E869-4918-AD87-577AF81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371BA-035D-476E-807D-6D38BFE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11CE7-4293-4012-83B3-B93B40A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8FC3E-6A96-4DCE-BF09-1563F2C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5783F-1DDD-4EB9-A86A-4E3815A8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C5C20-9BDF-47D1-BAE9-6D0E0F23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4B81D-D0CB-435A-8EFB-1AEA9882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B8AC0-92BD-47F3-976A-274201D1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5A99D-F755-432C-AD08-45030A00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70929-F721-441E-B9EB-FF52DED8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2E39D-89E1-4938-9C75-0AFB234E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DEB72-8D3B-4F81-ABC5-5B29E85B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0C115-F97C-460B-8104-3CB39C96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AEE63-FE65-4644-A3C7-53030DE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3F29F-4847-4141-9CD0-2BB0DA4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905C7-29C4-4824-9734-44C9C6A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AB2A3-C716-4FE6-9959-F58F46D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5579D-3BEA-403A-ACE4-58F4B66E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5E975-CE71-48E1-9736-C1762DA6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299-D580-48A6-A71A-0397880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B1DC-7961-4F08-BD13-E668B80A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0D54-FF9D-4256-BC69-A2BDA41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A74E-E1B6-43EC-BC48-9313DEE1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9BD5-6D99-4CE9-A8F9-A8104A4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BB6B-7B5D-4ADB-9203-474B8B17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DCB-FA24-4049-BD94-7A55E8F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8D5-0C32-4679-AC85-E0A2C99A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B34E-A8FE-4FA2-B28A-4F5D428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0CF1-F312-4379-B7BE-D1B340D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14E-BB83-4022-A6AA-9AE651D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D939-2E71-41FF-A7C8-A68A4434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D6DB-AF56-45D9-86D5-007A8B60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F9B6-1B23-4326-B4EB-91348817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0CB3-F16A-4FDD-805B-A170EA6C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CC92-709F-407F-B14C-1553D4DF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6959-FBBB-45FD-95E2-2D805D04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711-5891-4E57-916D-27C352DC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44A2-1266-415E-82FA-86D2DB25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D691-FC4A-4370-A573-53AE023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342E-1DD4-435E-B453-DD35073A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2015-F314-4975-A91A-4093323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06A2-EC51-408B-A78D-E89C0C31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3660-E243-446F-8FA3-7C254CF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2056-D9AB-4B22-B1A0-09526115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BD03-2AFA-4035-BCD8-FDAE9132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57C6-8B3A-4713-A860-37D8A668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D8F2-6091-4306-852A-2B6EF87F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3A9-C016-42B5-A671-083F5E4F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B4B4-3165-45C1-95FA-1709EEB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51A9-6F87-4EDA-9355-FA864A6D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F634-F2C3-450A-A152-041969D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1F6F-B8A9-4C36-912C-3ACB96FC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7F23-C891-4B69-AAB2-9A73F9C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4635-A4F7-4D35-B7EC-AEC78D2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C195-DC84-4104-8C78-5F8A109F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466D-5D96-4AD8-82FC-58C5AC3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1060-3E8E-416F-859E-40EA2561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E2147-B958-40EB-BD15-0F2E89BD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41D-B283-495E-AC2A-D7E17F57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3A09-3312-494D-909A-F9B22F5F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3874-9B62-4BA6-9423-1E4E6F1E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B7EA-3567-41B5-9BA9-CECD1A2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28A8-07DA-4CB9-9BA7-E354A8C1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9E8F-8CA7-4121-86B3-9A2A76EF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AA98-8150-4399-BED8-DB4DDDB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26FE-5F8C-4162-8911-4B03E0D4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36CC-B739-4225-BAE8-71EF871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AB21-9846-4E84-8304-4D6DC53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C5FB-F1AF-4954-9C6E-1B4864C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B8F-5C7C-4CDA-A6AF-2E3C0F1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624F-4F5E-4471-9DF9-25FFE5B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9111-52B7-45BB-A596-6A643E3B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5D119-24DF-46FB-B8F7-2525659C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B952-B780-4E25-A36F-8E5B367B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4A108-72BD-40D4-8247-A89020F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2FEF-A153-4495-B2D4-75A4601C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EDEE8-F183-4005-ACF0-F566809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48FA-3E7E-4D01-9FE0-1EBC49ED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38918-5416-4A67-AB44-4C740CC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8C89-DD2D-46E7-A50D-DE4EE1B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685-D778-45C4-A256-26E6BF4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6A8AB-4C5F-48CA-8428-75262AA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60AD8-D295-4BF3-ADEE-D6C2090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AF8F-6A07-45E8-9F37-0D395FB7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0C9C-B1F3-4FAC-908E-47328571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0A093-753D-4F83-BEFF-AFAD7188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E7366-FE65-4648-8457-0BC7B481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27BA-D8FC-476E-9EFA-08315CE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8BEA-CA8E-4D38-B3A5-7138274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6E5E-E141-4A5F-9623-7174E12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B0B13-B6ED-452C-A0E0-1A724394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9E0-80A0-46BD-BA24-937776B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9BB7B-4F90-4CFF-A937-40E02BB5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0A7B2-F443-4E84-A000-149E285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AE49-5B7F-438B-BAFE-AF5614D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8C81-08F0-4F0A-AFE6-B1F5AC0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DD3B-BF05-4576-BD57-2B01DBD3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5C9B-DAF7-48DA-B001-3126C0D8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E415-7EC6-4005-8A41-89B54F7A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4363-E6F7-4153-9F56-A6FA717A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0EF3-10D7-44A4-8F20-65A52BF4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3FAA-4F73-4EEE-8E2F-6FF4768F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6F1-9DB9-4C2E-86A4-25D8CC56F2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4CB4-E501-40F2-A6FA-1B44E52C6EF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6CA-7D3A-4E6B-BA41-6404663AE0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DFC6-8E71-4F9B-B5C0-E37D9136974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C324-307F-4383-A19C-9636B12F6C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F81A-CB1B-486B-8CEE-E3B839D6A40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FFB2-B7AC-46F2-86E0-B06B5924B3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3FF6-C097-4EBC-8516-7F02E4A441A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3BC7-017A-4AFB-A30F-D4997C6604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34F-EFA6-4812-ACC4-AEFA307DE1E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C03-8604-4F90-953C-DB8A1D8DF6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1581-CC48-4538-932A-B906F202C5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7EA5-DD3D-47F2-ACB1-1AC8793CF5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DD9-835C-4FEA-8781-0A2D6F5BE3B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4EE6-B941-4CAD-927E-00EB8C6341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D3E4-A8C5-4DCF-ABC8-F5A197F1023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9F1C-6148-4613-9D47-1040C19FF2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391-B0AB-42DA-BB57-D3D4E27030D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473-E7D9-4AF8-97B2-36C82998C1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EBF-D6A9-4583-B6AA-6F3B12CD2F5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00CB-4D40-4158-810E-C6AEC65920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E66-FF02-4E24-A9FF-E7CDBCCFBCD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709-148E-4E67-A80B-807D002C6D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D4A8-7266-4AFC-B015-AA09F1F1F5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F52-0A97-4341-98F1-FED4F5B777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汉仪长美黑简"/>
              <a:ea typeface="汉仪长美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宋体"/>
              </a:rPr>
              <a:t>Your First Poi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Your Sub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宋体"/>
              </a:rPr>
              <a:t>Transition 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1:13:56Z</dcterms:created>
  <dc:creator>User</dc:creator>
  <dc:description/>
  <cp:keywords/>
  <dc:language>en-US</dc:language>
  <cp:lastModifiedBy>a</cp:lastModifiedBy>
  <dcterms:modified xsi:type="dcterms:W3CDTF">2014-08-08T04:44:34Z</dcterms:modified>
  <cp:revision>4</cp:revision>
  <dc:subject/>
  <dc:title>PRAIRIE GR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