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587-5277-4466-8A33-5840BCC5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900-AD9E-4CBA-8587-CCC334F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E7E-A82F-47DE-9DAF-A7CA3535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70E-C881-4767-95EE-9D79052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7CF-2E10-4D58-AF51-BA569A48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A1E-CCE7-48ED-B81D-5F65685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A54-EA44-4921-8891-6F30409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833-4122-4321-A01A-FCD14C8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9D6-459F-48A7-9954-1A2A6CA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31C-DAEC-44A6-8F56-BC3FB345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E10-DD80-4B10-894A-0480A0DA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6A9-F1F9-4442-B38F-95EA482B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FB19-5116-4E8B-826E-C9F7663C8E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3696-8FF6-4B52-8379-5E1064577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642760" y="5214960"/>
            <a:ext cx="6072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3643200" y="594216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f2f2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占位符 4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4286160" cy="321444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857160" y="3929040"/>
            <a:ext cx="70725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423"/>
                </a:solidFill>
                <a:latin typeface="Calibri"/>
              </a:rPr>
              <a:t>Get-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is fine The weekend is my birthday , I want to invite everybody to participate in. M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day party is amusing , we can play with game together , being able to know a lot of ne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iend on the party by cake togeth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占位符 7" descr=""/>
          <p:cNvPicPr/>
          <p:nvPr/>
        </p:nvPicPr>
        <p:blipFill>
          <a:blip r:embed="rId3"/>
          <a:stretch/>
        </p:blipFill>
        <p:spPr>
          <a:xfrm>
            <a:off x="5429160" y="571680"/>
            <a:ext cx="2500560" cy="321444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5500440" y="6000480"/>
            <a:ext cx="3429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Get-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占位符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286080" cy="428616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84" name="图片占位符 7" descr=""/>
          <p:cNvPicPr/>
          <p:nvPr/>
        </p:nvPicPr>
        <p:blipFill>
          <a:blip r:embed="rId3"/>
          <a:stretch/>
        </p:blipFill>
        <p:spPr>
          <a:xfrm>
            <a:off x="428760" y="3143160"/>
            <a:ext cx="235728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85" name="图片占位符 6" descr=""/>
          <p:cNvPicPr/>
          <p:nvPr/>
        </p:nvPicPr>
        <p:blipFill>
          <a:blip r:embed="rId4"/>
          <a:stretch/>
        </p:blipFill>
        <p:spPr>
          <a:xfrm>
            <a:off x="2928960" y="3143160"/>
            <a:ext cx="235728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28400" y="571680"/>
            <a:ext cx="485748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423"/>
                </a:solidFill>
                <a:latin typeface="Calibri"/>
              </a:rPr>
              <a:t>Get-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is fine The weekend is my birthday , I want to invi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to participate in. My birthday party is amusing , w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n play with game together , being able to know a lot of ne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iend on the party by cake together. My heart hopes tha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can come to participate in my birthday if coming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y, I will be very good entertaining your , master of thanks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500800" y="6000840"/>
            <a:ext cx="3357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Get-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5"/>
              </a:rPr>
              <a:t>免费PPT模板</a:t>
            </a: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占位符 6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4143600" cy="271476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90" name="图片占位符 7" descr=""/>
          <p:cNvPicPr/>
          <p:nvPr/>
        </p:nvPicPr>
        <p:blipFill>
          <a:blip r:embed="rId3"/>
          <a:stretch/>
        </p:blipFill>
        <p:spPr>
          <a:xfrm>
            <a:off x="2928960" y="3500280"/>
            <a:ext cx="207180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91" name="图片占位符 8" descr=""/>
          <p:cNvPicPr/>
          <p:nvPr/>
        </p:nvPicPr>
        <p:blipFill>
          <a:blip r:embed="rId4"/>
          <a:stretch/>
        </p:blipFill>
        <p:spPr>
          <a:xfrm>
            <a:off x="5143680" y="3500280"/>
            <a:ext cx="300024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5143680" y="642600"/>
            <a:ext cx="30002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423"/>
                </a:solidFill>
                <a:latin typeface="Calibri"/>
              </a:rPr>
              <a:t>Get-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is fine The weekend is m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day , I want to invite everybody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icipate in. My birthday party i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musing , we can play with gam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gether , being able to know a lot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w friend on the party by cak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00440" y="600084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Get-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928760" y="5214600"/>
            <a:ext cx="3071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0:05:00Z</dcterms:created>
  <dc:creator>User</dc:creator>
  <dc:description/>
  <dc:language>en-US</dc:language>
  <cp:lastModifiedBy>a</cp:lastModifiedBy>
  <dcterms:modified xsi:type="dcterms:W3CDTF">2015-01-14T06:06:07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