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E7F42-2D6B-46BA-BC74-DD21DA84D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E4DFA-B342-4949-8B5B-8165C6DAC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F3E75-062C-4C66-A594-C5EC5842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4A5C9-261F-48C9-9A00-F06F30E33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C2F3F-1903-4785-921F-995301569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0F8CE-DA07-430A-857A-46D515D1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FE15E-76B0-4ED5-8A29-9F984094C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A1C82-6690-45B7-A6B7-7178DA2D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7117C-5416-4F01-9CA2-3F15E4CE1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359D3-6199-49E8-AF7A-B64B44972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768A6-C143-4AA9-B05F-CC557EFDD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C8BD1-A3E3-479A-AD47-B416E63D6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HTRF HRTHSD F"/>
          <p:cNvPicPr/>
          <p:nvPr/>
        </p:nvPicPr>
        <p:blipFill>
          <a:blip r:embed="rId3"/>
          <a:stretch/>
        </p:blipFill>
        <p:spPr>
          <a:xfrm>
            <a:off x="0" y="0"/>
            <a:ext cx="9144000" cy="6858000"/>
          </a:xfrm>
          <a:prstGeom prst="rect">
            <a:avLst/>
          </a:prstGeom>
          <a:ln w="0">
            <a:noFill/>
          </a:ln>
        </p:spPr>
      </p:pic>
      <p:sp>
        <p:nvSpPr>
          <p:cNvPr id="2" name="Text Box 4"/>
          <p:cNvSpPr/>
          <p:nvPr/>
        </p:nvSpPr>
        <p:spPr>
          <a:xfrm>
            <a:off x="761652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3FD1515D-65EE-4D15-A17F-752DA6A066BA}"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6274-9420-421D-87F4-04505783FC40}"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C751-351F-40D2-83C3-92D266D6D29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FDSFDSFDS"/>
          <p:cNvPicPr/>
          <p:nvPr/>
        </p:nvPicPr>
        <p:blipFill>
          <a:blip r:embed="rId2"/>
          <a:stretch/>
        </p:blipFill>
        <p:spPr>
          <a:xfrm>
            <a:off x="0" y="0"/>
            <a:ext cx="9144000" cy="6858000"/>
          </a:xfrm>
          <a:prstGeom prst="rect">
            <a:avLst/>
          </a:prstGeom>
          <a:ln w="0">
            <a:noFill/>
          </a:ln>
        </p:spPr>
      </p:pic>
      <p:sp>
        <p:nvSpPr>
          <p:cNvPr id="82" name="Text Box 4"/>
          <p:cNvSpPr/>
          <p:nvPr/>
        </p:nvSpPr>
        <p:spPr>
          <a:xfrm>
            <a:off x="611280" y="620640"/>
            <a:ext cx="687708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04T02:32:54Z</dcterms:modified>
  <cp:revision>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