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20A-B898-4D38-9949-06E0F168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6F60-4307-473F-AD10-5A413F66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D0FB2-D9D8-40BC-96B1-08773B04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F56C3-B21C-492B-AD59-F2806831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9A316-D9F5-40CA-91A7-B2691BEF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4D059-262F-4CB0-8C1C-3EF8DA6D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55984-F5C9-4334-9924-C282286A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DF0EC-E3D1-4A1B-911A-879E2149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A726E-9EB5-4247-98B9-9DF47394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63EEA-8643-49C8-95E9-AAD03AF8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41F6D-7ABB-440E-B58A-C9CBE1DF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F151E-167D-4EF6-9908-A9F8A45B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EB9-F0E8-463D-AC4D-309BA7CC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4EBF3-EB52-48BB-949A-2D7C361F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61A98-6D5F-4618-84D7-519F38EE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4CD5B-8E75-4F39-B883-1C9DAF50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EF948-06B9-4192-A137-8EFF82D6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7735E-6CF9-4786-B6D1-54CF00E1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5C54B-498F-4372-AF84-AA6C3314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6BA24-3537-4A83-A933-CE952AE9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56B4C-7A6C-458F-ADC0-092F1E2A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DA82E-57A1-459E-B7EC-E331F5F6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089BD-5800-437A-BB1B-D8077452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BC3C-4226-4F90-837F-C4257C0E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1D955-B3B7-4DBF-8FF1-12829376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86CA8-6120-4277-A01A-8F95DCFF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6C3B3-6421-4506-9632-AC71F5BA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21ABE-8AD9-4489-90F6-A84CBC02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A203F-991C-43A3-9E74-3D42C76B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FF616-EB22-4D39-9FB2-7E26AA55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F359D-C550-49F4-B29C-50B93116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4A3FA-3B7C-4EC4-B3CC-453F44F7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F676B-F6E5-4CAD-B7F3-E5D263B7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91ED0-68E7-42CD-94A9-160739EB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F68C-20B9-4964-9959-11C1EADA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86F4A-B011-4949-AFD1-234DD096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FF2E8-4E97-4251-BB56-9B2F1B3C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489BA-FF6F-45C0-B701-47FAC936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78880-4718-423A-8B3F-34B10B89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08ACF-219C-47D6-AF30-00228C47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99111-74D8-4BA8-8F87-A5A5D4FE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8B69C-27EF-45D2-8804-33D794C0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7C468-60B3-47AB-8B17-90CE5FBA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0E447-FFEE-4DA4-854C-508EF960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030A4-3165-4574-A410-C852D9DF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22EB-F903-4DAE-B3F1-649E415D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F40BD-7CD0-45EF-99F4-D25843C5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0FEEB-D581-4AF1-A7B9-5047FC5E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B55DF-F63C-46A3-A08F-949F36EA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204CA-B165-4D9C-B264-FDD036E4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13F80-B68D-4DD1-B44C-47224E39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20C0F-FF24-4973-868E-16A827B4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58298-0CB4-43AA-81E6-5AE9DF25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B69C7-6717-4A7F-9CD9-2F0C5D45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208543-D5C6-4D7E-ACD8-5BD53342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78C1C-7F0C-431B-945C-DDFCCC13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149B-2655-4423-8AA2-CDAB69CA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08D97B-BD17-4975-B540-7928B52E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11188E-BD97-4831-82BC-FAC03E18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B828C-0CE6-4B7C-99FB-0BB9BC01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8537DE-FDF0-4160-A2CC-04E9AF2D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CD9940-117A-40A8-9596-85B74A86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ABC82-8F80-4705-AE86-6BBAA8A6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61E52D-D249-414D-9839-1128D041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F8FB-2197-405E-920F-65B9C656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621F-E8EF-4B70-B0CD-3360AFB0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7C06-3BB1-40CE-BE6D-693CB725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AEE8-A532-4778-B41D-5FB9BF0A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629-435D-49FF-8D78-34AB54B3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D30D-4E6B-46F5-87A1-940042B5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1CF0-C557-4086-91AA-98F528BA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DC0F-AC40-4100-91F2-6C3E22C3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3D70-D28B-4693-89CF-67ABF03F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8844-ACB6-4F48-BACD-FBE94AE1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6163B-3C10-4FDF-B822-D95C6019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6547C-608F-41F2-8C9C-2B9F96F5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643A0-891B-46B1-9454-5B228EF9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AA735-ADC9-4550-B6E0-485725EF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22ED3-1750-4202-8716-E8929026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232-26E0-4D10-AF41-0458099A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A37F3-155C-4B41-8B7D-65CB7AB4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7DF0C-70AD-4F64-9FD3-FF4BD3A3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06C76-8719-4203-A55C-62994235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B204A-A356-45C8-BACD-120F6993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54704-9630-4CAC-96FC-4682DE17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0AD91-5C82-4322-97B1-CA5504CD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8139C-EC13-4A6F-9C50-22495363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E4FCF-E595-4392-8102-ABC5A3D5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C8B9D-EB99-4168-9878-FF50841C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D312B-5870-41ED-8E9E-C1A61EF5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A438-E3D3-4663-A3A8-75ADF23A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B7502-AC83-4DE2-A7E6-7A435821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047DB-2802-47F9-A6A3-087C761A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D3245-3A8A-4F1F-A79A-C5198732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A14E9-E9F7-4713-8ACC-DB93B0D0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D185B-9805-4DFC-A083-BEF3BF5D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20F18-BF8F-48EF-BDDC-E250CD22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5763C-6C4D-4793-82B7-2509D889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5985F-FEEA-407C-BFCC-31793103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C5418-B075-4D95-9739-D1B73CCC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4BD47-14E0-427D-8979-82A4E6D9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B2C-AA4A-4557-A034-B475928E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6160F-4536-4DC9-A57B-49A265D7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4E337-BACB-434B-B25F-75A06621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2AC78-8EAE-479F-B17A-A4DDC3C3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75E5C-04A1-468D-B235-C9CC9517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09DC0-8DFD-435C-A4FD-800185AE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B1010-8616-4B7F-9501-AFB9CF02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A166C-9E37-42DB-A0CC-FF3DA7B5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6918A-6D37-437F-9568-C71F647D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8100C-15B6-4E44-AE4F-5A48CCD8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D5AED-1CD8-45E8-B21B-5C5BB2F0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45E-14A3-4EC1-BBB2-B7789C00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763C0-68E2-40D5-8354-26DC3A02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B9CD8-5035-4A9D-8264-A5D6E85B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201E7-5673-40FA-8E2B-07F19B3B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06DA9-AFFF-40EB-BCD9-C84D1ADC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FA1E8-52C0-4D84-AC81-63FAFF44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A5F8E-E16F-483C-81AC-0B32908C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C57E3-C684-4B1C-B7D7-71A593E2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F5222-D4B8-41A1-97D0-3FC5E41A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7846C-2BAB-430A-AC29-07A46250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FE934-FDAC-4D0A-B923-194C62C1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40B9-106C-4111-864B-3FA043F8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224CF-D55A-4AC0-AE6C-C5B4589C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0C2E7-B036-4219-AB20-4E1EFC24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4F1DF-5ABE-4366-86CB-51C45F83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FA816-716F-4ABD-9ED8-05A0F2D6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6F030-1E01-4E4A-A295-E58D2D29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79D48-B539-45C4-9D11-3ED79008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726C8-F32D-4A29-BF6D-280AB962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68572-7455-4F06-B3FF-C597DC4A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925C9-C040-46FD-8EDD-77B70309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43539-B989-46C0-B424-32239189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4B9-E018-4545-AAA6-5A9B6F4D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A7C1E-D155-4FFE-888C-4663F5B9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08655-3744-418A-8514-E7F80889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8654A-9A2D-4290-8466-675953F2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44F59-382E-4991-9B50-C892C593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B5A54-3B8D-451B-BF17-7662B175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A688E-54F4-4209-8971-2FE836BF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64333-9EB8-49A1-888B-B31E9E33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D1248-365E-414F-9FF6-139D8954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D58D6-EF0A-4874-B974-CDB4068B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3CEF2-DD43-4492-BE84-F3582395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0BD-9448-4E46-82FA-188C2860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EF60A-715D-4DCE-A93C-125D5E69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731B2-3EBB-451F-B058-7C42C074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9303A-E896-4858-8E78-FF3883C5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78173-1752-40BA-B353-2F656CA3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0D631-7522-4863-96AF-B393FF27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30F52-68F2-4091-AA13-ED7B5F00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820EB-14D9-48C3-9352-DB5B4587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9C46D-403A-4138-BB9D-26276423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08627-222D-4821-9700-EB107E7B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29187-5591-420C-822A-9F00AE23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F2FA-E706-4861-B548-639018C591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1425-4B80-4583-ACCB-5344C8F8676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A443-788D-4E5E-BFDB-52AF09D6D03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2B5B-B1FD-4479-BE07-E08E5D0D668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CA1B-54BE-47B1-9ED5-E90F1C778F0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FDC6-A840-4428-8084-0777903543D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BE48-A3E6-44BC-8983-BCFD3902C9E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F53D-B00D-4FC5-8A0C-A81F4C3C25F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5A16-B1AB-45A5-A5FD-933D0F0CFB8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6535-47CA-4CCD-8C97-4B9FF44582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A3E3-5A95-4BFD-8349-C33FF99B6B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1977-48F7-4997-B059-B712FCA3C8A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D3F7-18CC-4566-946B-B261B65441D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9A5B-E4C2-42D7-B1D0-12474D25DE7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1B58-235D-4348-A401-7D1A6A104FE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E066-C758-48F6-8F56-7B23F9F0854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BAF6-E3BC-42C5-87B4-41060AFA6B5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87F2-D6AC-4566-87D2-C236535C48C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97CE-3DF4-4B3A-8175-8B2DD478C89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176F-D9BA-476A-9BD3-D6424CE48D8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D394-A907-4965-8978-15E0A0438B1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AB72-995B-4ABE-914E-EE79C38CBE1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4253-F6B4-4AAE-B0B5-9D3082D7058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321F-52CD-4E81-A30F-084BEF6AAF3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B80C-6222-41A1-9DF1-9435F39D2C4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1"/>
          <p:cNvPicPr/>
          <p:nvPr/>
        </p:nvPicPr>
        <p:blipFill>
          <a:blip r:embed="rId1"/>
          <a:stretch/>
        </p:blipFill>
        <p:spPr>
          <a:xfrm>
            <a:off x="-4680" y="6480"/>
            <a:ext cx="1218708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4"/>
          <p:cNvPicPr/>
          <p:nvPr/>
        </p:nvPicPr>
        <p:blipFill>
          <a:blip r:embed="rId1"/>
          <a:stretch/>
        </p:blipFill>
        <p:spPr>
          <a:xfrm>
            <a:off x="0" y="-11160"/>
            <a:ext cx="1219212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3" descr="3"/>
          <p:cNvPicPr/>
          <p:nvPr/>
        </p:nvPicPr>
        <p:blipFill>
          <a:blip r:embed="rId1"/>
          <a:stretch/>
        </p:blipFill>
        <p:spPr>
          <a:xfrm>
            <a:off x="-7920" y="0"/>
            <a:ext cx="12187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3" descr="5"/>
          <p:cNvPicPr/>
          <p:nvPr/>
        </p:nvPicPr>
        <p:blipFill>
          <a:blip r:embed="rId1"/>
          <a:stretch/>
        </p:blipFill>
        <p:spPr>
          <a:xfrm>
            <a:off x="-9360" y="-11160"/>
            <a:ext cx="1218708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Picture 3" descr="2"/>
          <p:cNvPicPr/>
          <p:nvPr/>
        </p:nvPicPr>
        <p:blipFill>
          <a:blip r:embed="rId1"/>
          <a:stretch/>
        </p:blipFill>
        <p:spPr>
          <a:xfrm>
            <a:off x="-9360" y="0"/>
            <a:ext cx="1218708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42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7-17T05:53:2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