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BA8-575F-4BB7-810D-1C248B4E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4AAD-A430-4C8B-AF1D-853FCA5C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9E1A4-EDF0-401F-B427-5706003E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AF282-7549-4BAD-8877-817F9A2B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1F6B1-94D3-4DF3-8E46-78CB8AE1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9FE10-F7AD-4108-AFC2-F728E743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4D5BB-22A7-49EF-8301-40B6CAFA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9FAC0-0A60-44F6-92D1-42E65107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D4F6E-AA9D-434F-AD15-8C2D4F50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0B69B-6920-4D39-A4AD-1A6502AD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A859F-AA00-45A9-BA7B-14796646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CAF52-A56F-47AE-8C25-465354C2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023E-0C0B-47B4-825F-80C2CB14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E1560-2F64-4544-86C9-C7F399A8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4894D-CCB6-42F4-8B71-4C2BC145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E3D26-E633-4087-B967-8FE2B38C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35714-6FE6-44BA-881A-FF78A844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D2693-EE9F-4B25-8157-2D2A0038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D6746-BF65-439C-9F5E-B4C79AB4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07CC8-100C-41AF-B6CE-1D02475C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7EAD6-6C91-416D-AC94-2D1C0BEA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4459A-7B72-427C-A87F-2D857EBB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BB005-85DE-4EAA-B5B7-6B3F6135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3048-1AD7-4C35-B5C0-6BBCA43A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7BFDB-E834-426E-9DD4-E8B350AA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D7B43-4898-4AC0-B0F9-F5B3379A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8E1F0-3F6A-4B12-B194-6ABD0387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2857F-B262-43C5-A239-3ED3526B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E0970-6999-4087-8B99-F1943EDC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5A88A-AA1B-4A34-9208-DB49E932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6EC2E-9F82-4F68-9292-94D00031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0B4DD-668F-4C8F-8F47-8EDC12A5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B7F05-06B8-40DE-AA39-2221ACDE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6FEFE-4DAA-4B16-A8BD-95118B26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4876-4BEE-4851-BF23-8EAF7753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9949A-89C6-41A5-B968-68461324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BE5E6-7457-4DD1-8062-2D2338F1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69151-884D-445E-85D0-34A61D6D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8718E-675C-4821-AD1A-3D57CFCC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49E08-545D-46B5-9956-15679B9F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D7C8D-6540-40BC-BD11-726F0788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7EF79-9A79-4F73-9009-986353D3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3AFB4-E2ED-4AE6-8E0F-8F0CE1A6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74D39-14CF-413D-B402-F5DB282E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419E4-A82A-4B39-BFE7-36E3CB5F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3635-9720-4A53-845F-5355FDAF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4EA54-068B-4561-B32B-55C649AF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3D2B4-30AC-45C9-A28C-A8B3053C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D8A39-04E2-4ECE-BB33-6C87CC07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19A64-8C7A-42E3-BA55-5BB0B93E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B8B2E-8EDE-465F-B295-B4D52607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573C4-2B27-461D-B64E-9E9C0AD4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7EC29-D4DF-4687-84C7-3850C684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4DBF1-917D-4A85-A5B0-083C3BFE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57456-80F4-45E5-94EA-B34A65AA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208D6-018F-4103-A0FB-D4F0A40B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54D3-DBA5-42ED-B09C-C0AFCA4D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E9138-FE06-4F1C-BC25-D4A7A861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7B515-2560-4D6E-8029-80EBDEC1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3D21D-7213-42E1-A2E6-682B0894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81A54-0949-4EDA-AA82-8BD26C1C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6A122-29A2-4E87-B17B-33B6957C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ABAF9-2B19-4F47-A182-EC39CC8D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8EBCE-1C72-4260-8EC2-BECC5FC7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0EF08F-B0A5-457F-A356-58333415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FF367-A499-445B-AFF9-C5B08365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C176A-6FBC-48EC-82AF-ED1ECD24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E57E-8EE0-4DA0-A6AD-BB2594A9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573476-A881-4E35-826C-BD7471D4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A15D4-A9C7-4B66-90CB-2DB0F56F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F11BB8-465B-4DE5-86C3-02495600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2A06C-9495-43FC-883A-9C4A41B2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6D838E-CAFB-46AF-BF5F-05F4A795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4151A-35EE-46D2-8F72-06D7832F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0E4B96-D9AB-4A29-93AD-DE8170E2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D9C01-8471-4B50-B0D2-99B9A790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2F774-EFFE-48A6-96F4-F21A6F0E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F60F-0A4C-4A8C-99FC-65CC1ACC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B503-9E20-42E8-8CE4-5705104C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C0C1-42C3-4353-A37D-FBC4FF3C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910C-4DFC-466F-ADE7-58EADCE8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1782-E964-4730-ABCD-16EB422B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B63D-4E4C-417D-984D-A3D76F22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7C01-E09F-4A31-A27D-C98BDB6D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2C44-564C-4469-B82C-C84CA94F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A4DF-80E2-46A7-9F2B-567A071C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75EC-F515-4D1E-A78C-EBE15801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FDE4C-BC83-4633-8F9E-BA07D9F8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1820A-0478-42A9-A175-21BDB986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B3DD3-0CDC-427C-8AD1-6B54FD7A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3709-530A-4AE4-AA99-E223509A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64981-F03B-429F-B9A9-1B54914D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3F2BA-F8F0-47DE-AD2B-7CAE7FB3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6F978-AFE3-4911-9B90-3F988C06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F8BA2-4996-4837-9C4E-C24E5147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1E976-4F30-4862-91C2-4BC7FACC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0044A-CC65-48A5-B629-478A48EE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7F0C8-3E17-4344-A383-95E11258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68C42-56FC-4E0F-9B5B-00E760C3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8F6B4-1E27-495D-B2B8-CEC56348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35D2B-3B88-4973-9E3E-7A2B55D2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F834-DA39-44C3-BF87-861BB24B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15D44-6BA1-4974-B13C-5D4B2154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2F916-FB18-47AE-BADA-A83BB162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88A12-E241-42E8-A23C-A2BDF4B8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C6DA7-6513-407F-A6BD-8B8A04D6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E801E-A990-4C9C-BFDF-EEE564E5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BDB1C-518B-4432-AEDF-EB02FDED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43B49-EBFB-4554-94F5-42DD53FC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87CB4-FC90-4A9E-B1DC-366BC1B7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0A072-3794-4421-9820-2438F2D1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4D1B9-C484-469A-94AE-E61BB571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F56-2A3E-4765-A00F-06E0FD75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99137-B73A-4200-82EF-6CA7E256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48143-0D38-496B-9F63-36248CD3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039C7-5CC0-4BB0-9FF7-B5DF4E33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19E5C-41ED-419E-A355-FA3F4F71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AFF4E-A687-448F-877D-0C468AE4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BA3F2-9BEC-4680-930D-160CBE04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01076-05BC-49B8-82CD-5934BB66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83DF5-A4D2-477B-8F6E-224EBADB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FF852-E928-45FD-A5F7-5F1ECE7E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22869-F19D-425D-9CE6-CAA9CCF2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EBB-76AC-475E-8C67-2F42DFD9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3886E-CCA5-45CB-A3BA-0EB407E0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32052-BA28-4FC6-9E51-862DD4FA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37A3B-A229-48F1-842E-40936288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E4A80-B672-4F30-B4A9-D4558D56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C38ED-6116-49BA-BFD8-FEBDC9E0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43ECD-D3F2-4C15-8E3C-CD091645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150ED-924C-4FDA-96C7-18BDEE1F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BE08E-7B13-4024-A0D4-E48E44C7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0E3F5-E7A2-499A-A001-1AA4AC62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98A8C-2F32-49F9-9C95-F73167EE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688-FF59-4367-AE2D-DF0D3E9D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462F0-48A2-41E7-B2B8-085BD573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8F664-C3E2-4E03-A0D5-2085B0AF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873CD-C36C-47C4-A486-975299AB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03982-C9A9-488A-B3FC-361D3868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57BCF-3109-469F-9797-93200BC4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220B7-9EA5-40C5-92BF-1E85DCFF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42703-E28C-4313-A331-3974966C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D8303-F75D-4A40-9D75-AAF1364B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5F6B9-1C30-4D35-AFE8-596E9819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BD4E5-2694-4898-BCB1-09590CE0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7614-EBDA-41B8-8E42-97C95C68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9F84F-3ABE-4B2F-9A06-C3A727EF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65C0F-22C9-4A15-A8C8-1036687A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C6EC8-CC8B-401A-BBE0-8BDEABC6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6B982-920C-4131-9052-F00206C6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F5218-82B4-4BA0-AF80-A8DE967E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43C22-64E3-4286-8226-A3F0DB6C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E0A97-6223-4121-812D-A2C416B2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2507D-9890-4D0B-9E32-94C5FABA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FB884-AF2C-49FE-A6F5-5873F89F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C4949-2327-4135-9B25-264ECCE6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68360" y="1197000"/>
            <a:ext cx="8207280" cy="52563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343080" indent="126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343080" indent="126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343080" indent="126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94920" y="6446520"/>
            <a:ext cx="2243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5752800" y="64576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347148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18A9-BCF4-4F40-8031-B9F87B6C657C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FE8F-B333-466D-8D58-C42FA4330F4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85C6-0811-494F-AD0B-CB47A8D493F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8233-9077-4980-920E-E7B802F650A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FDDB-E337-4970-BA9D-539BFCC29F2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0A7A-1291-496C-953D-0A36B7A752F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57A3-DC68-4DE7-B5BF-BA5D2118B4F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98F8-DFFF-42C1-876E-A6A11F10E39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E885-9DAD-455F-8341-7DD74E0A22A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E49F-6F84-4E17-826F-55D661AB2F8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8F21-C17F-4ACF-9EA6-CF9B790C280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9648-E1B2-4BEE-8C91-FDE6C49DF26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42D5-91E4-440C-A272-C21EA5A57D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343080" indent="126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343080" indent="126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343080" indent="126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AC3E-9926-4F3E-BB14-54A0CD0F3B6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DA6F-ACB3-4EA7-9487-E37A4E1459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334B-925F-413E-BD86-00DD668BAC9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A6B6-E998-4221-8AA8-BEAACEFEBC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84A9-CBDF-4FEC-909A-B074067AC36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238D-6F1D-48E0-9EAE-FCE1E271B8C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681A-85C5-4C73-B26C-7F307DB6963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4E4A-C619-48A2-8A2D-13F86B3560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B155-3DD0-454E-9CE0-8815B30B330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7AF3-FCCE-4191-954D-2AC8EA4B76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687F-5FC3-460A-8DCA-8F67A68C1E2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9B1D-171C-47F0-8213-68BC5144B0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AutoShape 2"/>
          <p:cNvSpPr/>
          <p:nvPr/>
        </p:nvSpPr>
        <p:spPr>
          <a:xfrm>
            <a:off x="2124000" y="1916280"/>
            <a:ext cx="4753080" cy="2304720"/>
          </a:xfrm>
          <a:prstGeom prst="roundRect">
            <a:avLst>
              <a:gd name="adj" fmla="val 1917"/>
            </a:avLst>
          </a:prstGeom>
          <a:solidFill>
            <a:srgbClr val="33cccc">
              <a:alpha val="30000"/>
            </a:srgbClr>
          </a:solidFill>
          <a:ln w="0">
            <a:solidFill>
              <a:srgbClr val="49cacd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1933200"/>
            <a:ext cx="72388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广西大学硕士论文答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680760" y="3623760"/>
            <a:ext cx="7419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机械工程学院  工程测试实验室西大新浪制作</a:t>
            </a:r>
            <a:endParaRPr b="1" lang="en-US" sz="1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日期占位符 3"/>
          <p:cNvSpPr/>
          <p:nvPr/>
        </p:nvSpPr>
        <p:spPr>
          <a:xfrm>
            <a:off x="395280" y="64468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630000" y="1441440"/>
            <a:ext cx="782460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宋体"/>
              </a:rPr>
              <a:t>1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宋体"/>
              </a:rPr>
              <a:t>、打开原来的幻灯片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宋体"/>
              </a:rPr>
              <a:t>ppt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宋体"/>
              </a:rPr>
              <a:t>，然后点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宋体"/>
              </a:rPr>
              <a:t>设计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宋体"/>
              </a:rPr>
              <a:t>2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宋体"/>
              </a:rPr>
              <a:t>、点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宋体"/>
              </a:rPr>
              <a:t>浏览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宋体"/>
              </a:rPr>
              <a:t>找到本模板，就可以套用了。</a:t>
            </a: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模板套用方法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578" name="Picture 4" descr=""/>
          <p:cNvPicPr/>
          <p:nvPr/>
        </p:nvPicPr>
        <p:blipFill>
          <a:blip r:embed="rId2"/>
          <a:stretch/>
        </p:blipFill>
        <p:spPr>
          <a:xfrm>
            <a:off x="2987640" y="2349360"/>
            <a:ext cx="3295800" cy="4669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" descr=""/>
          <p:cNvPicPr/>
          <p:nvPr/>
        </p:nvPicPr>
        <p:blipFill>
          <a:blip r:embed="rId3"/>
          <a:stretch/>
        </p:blipFill>
        <p:spPr>
          <a:xfrm>
            <a:off x="3276720" y="3789360"/>
            <a:ext cx="249084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276280"/>
            <a:ext cx="72388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</a:rPr>
              <a:t>感谢您的关注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pic>
          <p:nvPicPr>
            <p:cNvPr id="5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8:04:50Z</dcterms:created>
  <dc:creator>NordriDesignStudio</dc:creator>
  <dc:description/>
  <dc:language>en-US</dc:language>
  <cp:lastModifiedBy>a</cp:lastModifiedBy>
  <dcterms:modified xsi:type="dcterms:W3CDTF">2015-01-14T06:46:18Z</dcterms:modified>
  <cp:revision>1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