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3D77C-4877-4C2F-8456-F96533416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D812-34AE-49B0-898D-79C836CEB2A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AD8160-CBDC-4311-AF86-A3F4EDCB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34D779-0C79-4D4C-BE71-4A0C1644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CC3ECF-1DC5-48E6-A673-AAA85787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708CF7-3383-4BDB-9F09-89428476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D1BFCC-2A18-444D-BE8D-9219A209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F835E7-AA5F-42AE-B451-6BFF2F99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35231A-4E5E-4283-BF43-4D8E57F5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EB5FD9-56F3-405A-B75D-BD094892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C42F8E-140C-4692-A41F-4C84DA8F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9DA4D1-3F26-4881-83A6-5B8EA232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72B89-8554-415D-8099-3152EDB0ED1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AD6256-80CB-44E4-89A4-83D8AB6C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357717-8BD8-4BC6-BAB2-AE85750F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61C754-BB8C-48FB-A431-1AAF4CCA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6B9228-4BC1-4AED-A09C-3D0141BC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41BCEF-C807-4F90-8DC4-25139325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41BD1B-0BB9-45F5-B180-F3945B30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437919-A715-4B58-9CB0-46100C79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6ED020-8841-44B0-B200-EB7D3FCF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DFBAAE-1D28-438A-B5A3-D7943638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637F14-FE29-445B-AFC8-2FEB5DA9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94C3C-EA44-4C1A-96F4-765DA62DAA2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997772-FAAE-49AC-8825-CC74FC4D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5A20E0-40BA-4177-93FE-F698A7C9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110A7A-4306-4FD5-B991-961A1F16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8B4690-1580-4645-BE95-1ED894AC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029FAC-FA93-4BD9-8662-2A8449C1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4F8ED6-5BD3-47FF-B28D-C5BCDEF3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9B59A5-A2CF-4DBF-8516-1B3602CC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C4D734-46E3-4206-BC4C-4A976C6F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BFE34B-102B-439E-B4BF-4559FF96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AFDBCA-2E60-4A01-BBFD-53E29809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B2C84-A5D5-4685-8B17-42F8D9BC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24FCCB-EE8D-49E9-9D1A-4DBD50E2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31D32B-EB04-49A2-AD6E-38425D1A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6AB55B-AA91-4DBD-947F-AC4C2589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AF7F78-DA6B-42DD-BECB-1BF7BE8B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9DCCB6-C53E-4A43-94F9-443105B7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C8039E-46EB-4DAC-8866-D9E086D7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542A3B-EDB9-4FAD-9077-57A0BE1D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22455F-E4DE-426D-99F7-8832E8C0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A34F44-A887-403D-B3C5-04F49C69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535695-2247-4E8F-9FD3-FDBA8617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0C6AA-03B1-48BB-905F-41EA4EAB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69F4EF-CF54-4E6E-87E8-6C808383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31983C-4D02-4098-8B75-A530EFC8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C620BE-3737-445B-8D21-A5EAEDF7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9F5BBD-E04F-480A-8F8C-85B4A4A2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F22BF9-B1AA-4E5A-A3A2-931CD75D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E82CD1-D7A2-464A-BD1B-2C03B4D0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0A1811-107E-493A-88EF-BB0FF2D1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2E4DE5-1C13-4AE5-95FC-C6E8BDFE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9A807B-4DE7-44EF-A559-2FE5E71A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E49721-9425-4988-9A1E-1D29AE5C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8038A-26F8-415A-9D7A-F406B441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E3DE7A-F630-44DF-884B-9A8D27DA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4B13BB-C8A2-4144-9080-50826262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6A9470-F181-4756-8B41-E3724EA5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62EF67-3E29-4EFA-941B-64EED380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594A20-5237-4539-94DD-7BAE5AE1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75BB4E-38CF-41BA-82BE-2593A52E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C7D086-3CB1-4D31-B800-4BB5056B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A81C4-E8C3-44BB-A963-7989E65A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14863-D0DE-47AD-9536-48B50DDB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C4656-4304-45FF-87B8-51B0130A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5F8DA-9C52-4E60-9567-9E754BB7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ED64-459A-4F1A-82B6-E782C9EA5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FD52C-AFFC-4C32-8A11-9E64912E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B4CAD-BF94-4A90-841C-A16D9335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6C24C-8327-4D68-9AA6-9B257CB8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BC435-1139-461A-B4E4-67969928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23DCE-2C8D-459D-82A9-1BCD5F56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5DE23-2AB0-4FCE-A248-925AC9A2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A473A-ED77-4C78-8085-4DF79DD3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176B6-9784-4C0F-B7C1-68CDBF08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58B05-B333-422C-9325-FAE83C75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74BB7-FB41-4A90-9C16-EB0A2A74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3193-AA5E-48CA-91BE-C7B88FB492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BF4EC-D24D-4D15-B631-38FF7B60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2139D-7898-4098-84FF-93727FEF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3F289-1A95-4B7B-B577-3C090DEB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D92F9-4EFF-4B6E-BDE9-1FBC9551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7936D-8A43-4F3F-9450-D8C16D70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0FE15-25CC-4014-B1AB-D6A11FF3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DB996-ECA5-4AEB-A8AB-71F9FD59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5A9829-7645-4D8F-A657-809A4805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614CD4-5E22-4D7D-8C3F-7802B280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6E45A9-1C16-4709-A85A-BA85094E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5E1E7-E531-4729-AC7A-1ECF262928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9FB2C9-EC0B-414C-9660-6B645D02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18DE8F-2E58-47BF-B57C-925C4EA5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9D94C8-B1A6-4D1B-83F6-428192E1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1D1AB-3DC0-4949-B7CE-6AFEED74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D59452-FDD6-4BCD-8472-35D26218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A6F925-7DB2-4416-9693-AFB187CF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6D63B-A437-498A-8B28-D88F44F5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826B2-A005-4767-AA32-68D8AC39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50781-9D17-43D9-B3B4-7ED0F382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E83AF-F458-41E1-996C-717DB495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C6B3-8E42-4E0F-A5A2-81F3DB2DC99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53C68A-334D-447F-A573-9A3AD838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8073AD-1485-40BB-B84A-6BEB5DEA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6E9ED-5196-44FC-A55B-02730FAF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8A2F5-FE72-4284-B55F-B75BE569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72B0D5-6F27-4B26-B2B7-0CA9545F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306FD8-5558-4644-A372-3786DB94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125DD-2FE5-4333-B35E-9D0EAE13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2F99E2-387E-41E8-8259-9198EEF0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22519-E20C-4E4C-B103-D6CF4DDA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647CB-020F-4890-8E6F-21A4CE5C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E0408-692D-4106-840E-86CA8A00F79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B8D52E-2C5F-43A9-9D8C-66ED6DD8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404439-3493-4EAA-8A04-6C49D88C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D7331-1E45-483E-A68E-EADEAEB1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4FFE11-92AB-4BB2-B6BE-A9BA84D6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7DEC80-B533-46AF-BB44-12E2BF91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D26D92-1F99-45B1-BCD0-91B85145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D62719-96AB-4329-B7CE-A9D05668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BAE8A8-B6A8-42A3-BBCC-56DFDA98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498DC-B086-4688-ABBA-64991530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E6BA96-7A8D-4251-8BC7-1FAA607B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A775B-B578-4741-8ED1-CC2E0A130F4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109181-FE79-477A-A77D-63F45D1B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C1DBB-22F0-435B-BAE7-131A3CEA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6CF950-A63C-4C9D-A0C5-B4104A2F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DF2253-FCBB-4518-98DD-64FF829C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6E1BE3-AC64-4C4F-BFA8-09EF8F9D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23C8D3-7F3E-4AB7-AD4E-A73E7392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F5F590-3A16-4006-A10E-249B9910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787E0-E05C-41AF-8058-F8BE140A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5054C6-A7D2-4D3B-B949-F885801A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8EDE92-4840-4893-ABD8-A88A822C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48EE4-6EDE-4C7A-8E03-73CD2DF838F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E98A98-05AD-4009-8993-9856C891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0F4AC3-2374-4828-95EE-59F7B30E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B1F24-FBF1-4B3C-AB9C-296574F7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D0977A-D10F-4F2E-AAF3-AC74934E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0D8C0C-41D3-41D8-AE85-9E2D84EA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8C5E1A-B6FD-479B-A9DC-4E06339B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EDC6C2-0564-4E56-A632-581D1286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42BEB2-4CBE-456B-81EC-1A627F7C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8CF015-25B4-4947-A0E0-97668AE1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46DA70-F306-4289-97F2-A746D9CE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9D71C-2459-49D6-9D8E-AF31EAAB662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B99E37-F1F6-491E-9E0C-69E7EEF8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465B83-A2AD-48E1-A9DC-BE64536A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87C937-34E9-49E6-B7FC-5609D2E5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16C5A4-B4E5-4BDA-95E7-76768775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904172-364B-44A9-8C47-B413F12A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526211-DD18-491C-B444-8AD950A0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237237-8418-4A54-AABA-64798E72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CF2B7E-ECFC-4625-A09D-307E2433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F9300C-0D18-4B9C-84B8-66B5F0B5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A5EE8C-6F08-4CE7-B28F-078EF95C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401840"/>
            <a:ext cx="1051560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A6DB-6E4B-4392-ADB3-682134F7145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06280"/>
            <a:ext cx="1135368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353680" y="206280"/>
            <a:ext cx="838440" cy="1587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Straight Connector 10"/>
          <p:cNvSpPr/>
          <p:nvPr/>
        </p:nvSpPr>
        <p:spPr>
          <a:xfrm>
            <a:off x="0" y="98280"/>
            <a:ext cx="11353680" cy="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12"/>
          <p:cNvSpPr/>
          <p:nvPr/>
        </p:nvSpPr>
        <p:spPr>
          <a:xfrm>
            <a:off x="11353680" y="98280"/>
            <a:ext cx="838440" cy="0"/>
          </a:xfrm>
          <a:prstGeom prst="line">
            <a:avLst/>
          </a:prstGeom>
          <a:ln w="28440">
            <a:solidFill>
              <a:srgbClr val="ffde6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4B55-9913-42AE-8C15-899445E5F6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ECB4-309F-49DB-9F67-51DDDD27C0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8342-897E-4AEC-81F9-72F4ACFB0F4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C5A5-22D7-41C5-BFA7-60F77AE1DD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13BE-CCC1-46DF-827B-81B74A419D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78E7-8916-4A04-94FF-07EC07FF68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2690-DAD9-4944-9BCB-49E4D9DD95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6DFC-692E-440D-AD8A-01E6046512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FB4C-A542-4039-B5C0-8476D97560C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5DCE-2913-482F-BDF5-14490807F2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39A5-7222-450F-A77F-3F449BB4A1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72F5-BB15-4D31-A74A-BC35603385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66CB-CB3A-4EBB-AE02-F56A0D4C855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F2CD-AD1D-4DCC-9AAF-F0DE74E63C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3E08-955E-4EF5-BAE8-EBD64D0A4B9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C7EB-DE59-4CE4-BE92-4A3C2564B3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A47C-4424-407A-A1A5-9E234099D8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7F53-AE1A-4D35-AC69-8644A9D462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30B5-FE9C-4009-BD13-58C635A440D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E514-E150-4EB8-A459-830698A75B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671E-86A9-4F51-B417-80C5E28745D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D36E-EEC2-49A3-84FD-1F1DB8CAC7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1BFE-A541-48CA-B56C-5C20518D7D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03A8-DEC8-43DA-80CD-C8CD3B7E1D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Straight Connector 25"/>
          <p:cNvSpPr/>
          <p:nvPr/>
        </p:nvSpPr>
        <p:spPr>
          <a:xfrm>
            <a:off x="11777760" y="0"/>
            <a:ext cx="0" cy="6858000"/>
          </a:xfrm>
          <a:prstGeom prst="line">
            <a:avLst/>
          </a:prstGeom>
          <a:ln w="38160">
            <a:solidFill>
              <a:srgbClr val="ffca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3754080" y="20890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黑板风教学模板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AutoShape 5"/>
          <p:cNvSpPr/>
          <p:nvPr/>
        </p:nvSpPr>
        <p:spPr>
          <a:xfrm>
            <a:off x="9772560" y="41400"/>
            <a:ext cx="1835280" cy="1833480"/>
          </a:xfrm>
          <a:prstGeom prst="foldedCorner">
            <a:avLst>
              <a:gd name="adj" fmla="val 12500"/>
            </a:avLst>
          </a:prstGeom>
          <a:solidFill>
            <a:srgbClr val="ffca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9775440" y="228600"/>
            <a:ext cx="16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201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10266120" y="736560"/>
            <a:ext cx="80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每一天，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每一方面，我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越来越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3291840" y="3562200"/>
            <a:ext cx="46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lackboard  Templ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4108320" y="1954080"/>
            <a:ext cx="3710160" cy="655920"/>
          </a:xfrm>
          <a:prstGeom prst="rect">
            <a:avLst/>
          </a:prstGeom>
          <a:solidFill>
            <a:srgbClr val="e5ded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文学评论的性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4100400" y="2751120"/>
            <a:ext cx="3710160" cy="655560"/>
          </a:xfrm>
          <a:prstGeom prst="rect">
            <a:avLst/>
          </a:prstGeom>
          <a:solidFill>
            <a:srgbClr val="e5ded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文学评论的作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4100400" y="3554280"/>
            <a:ext cx="3710160" cy="655920"/>
          </a:xfrm>
          <a:prstGeom prst="rect">
            <a:avLst/>
          </a:prstGeom>
          <a:solidFill>
            <a:srgbClr val="e5ded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文学评论的文体形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Line 2"/>
          <p:cNvSpPr/>
          <p:nvPr/>
        </p:nvSpPr>
        <p:spPr>
          <a:xfrm>
            <a:off x="-93600" y="992160"/>
            <a:ext cx="10790280" cy="58928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 rot="1740000">
            <a:off x="3136680" y="2885760"/>
            <a:ext cx="5832360" cy="1104840"/>
          </a:xfrm>
          <a:prstGeom prst="rect">
            <a:avLst/>
          </a:prstGeom>
          <a:solidFill>
            <a:srgbClr val="e5ded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文学评论的性质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1273320" y="541440"/>
            <a:ext cx="1887480" cy="581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文学评论的写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666720" y="1436760"/>
            <a:ext cx="10753920" cy="4814640"/>
          </a:xfrm>
          <a:prstGeom prst="rect">
            <a:avLst/>
          </a:prstGeom>
          <a:solidFill>
            <a:srgbClr val="e5dedb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文学评论的性质及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一）文学评论的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义而论，文学评论是一种以文学理论、文学思潮、作家与作品作为评论对象的理论文体。换言之，凡是对文学理论、文学思潮、作家与作品进行分析、探讨、鉴赏和研究的理论文章，都可称为文学评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狭义而言，文学评论就是指对具体作家、具体作品进行分析、研究和评价的文章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二）文学评论的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读者的作用：帮助读者认识作品的价值，做读者和作者之间的桥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作者的作用：总结作品的得失，帮助作者进一步提高创作水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3638520" y="2282760"/>
            <a:ext cx="5452920" cy="1517760"/>
          </a:xfrm>
          <a:prstGeom prst="rect">
            <a:avLst/>
          </a:prstGeom>
          <a:solidFill>
            <a:srgbClr val="e5ded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3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05:55:00Z</dcterms:created>
  <dc:creator>邹恩栋</dc:creator>
  <dc:description/>
  <dc:language>en-US</dc:language>
  <cp:lastModifiedBy>a</cp:lastModifiedBy>
  <dcterms:modified xsi:type="dcterms:W3CDTF">2015-01-14T06:43:2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