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FA6-1347-4689-9C87-3C1D5457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6D2-B75F-48B5-A446-3E775B59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763-A845-4C94-911A-4ED18FC1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F01C-9085-4250-AD79-ACC3735A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E069-51DF-4D4B-B8A1-2B7C7EE7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978F-43A7-4E98-BE9F-05CCA39B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2E1A-808C-455B-8FE7-5AB2DEE9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6295-AEF6-4C1C-9EA7-1FCE9C34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7D7E-7704-4A30-B206-4CCF1ED0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59B7-6803-4D63-B5DE-CCA889E4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37DA-9E7D-4802-9D84-A4174FA5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381-A590-4734-BF5E-E9706E29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ED47-31A7-4644-93E1-9B0C103F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5D02-DD6A-4EC7-9DCC-0941AB01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4C13-324A-43C1-BEFD-21495E91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41A0-0DCE-4969-AADD-4D5D053E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CCA7-8315-4612-9A50-2D396DEE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6E3-6823-4349-B5F5-0A64A998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F57-685C-4869-9C70-259FFE76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5DF-A37F-47AC-9F5F-A574226A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221-A227-4E54-A26F-3D9AB577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53F-86F4-403A-A76D-98AF344E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3C9E-E8D1-4A2A-9EA5-E0E21A08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7E2-AC12-4B07-84B3-87FB0FD8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4DE5-767C-4336-9F85-EA8284A0F4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4EA7-9405-4413-B905-78D5AD4425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6071-8C8A-4301-93F1-FA467A0764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黑体"/>
                <a:ea typeface="黑体"/>
              </a:rPr>
              <a:t>欢 度 国 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1"/>
              </a:rPr>
              <a:t>免费PPT模板</a:t>
            </a: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5:07:24Z</dcterms:created>
  <dc:creator>Beer</dc:creator>
  <dc:description/>
  <dc:language>en-US</dc:language>
  <cp:lastModifiedBy>a</cp:lastModifiedBy>
  <dcterms:modified xsi:type="dcterms:W3CDTF">2015-01-14T14:09:40Z</dcterms:modified>
  <cp:revision>5</cp:revision>
  <dc:subject/>
  <dc:title>欢 度 国 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