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F91-AF09-4202-807C-2F8F37AB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E289-A0A8-4255-AB5C-7832EC9C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E96F0-BE2B-4C55-8580-51D83961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A302E-36FE-4E8D-A940-8961B6E0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A362E-E930-4C1D-96D4-620FAC45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E7E2C-139B-42BA-B04B-738D7B29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FAC3E-B5BF-45DA-B6C2-2DD13B1F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95AA2-6B1A-46B1-BB09-39963403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85A58-E993-47E6-BA23-370F7A3F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F4A91-3258-4A31-9DE1-63D00806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E5333-95F5-4BFE-BA88-082B10E7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6E7D9-1AE0-4CE8-9539-784E7297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7864-D930-4F44-AD54-7C4897C9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1FDCF-643E-43B8-A92A-1E1A6775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4A98A-5C67-4C32-8BB0-7E77BE63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6D890-E37D-4AC9-98F8-264DF74E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D3757-6AA6-4A6A-BC7F-00EC8EB1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D8230-A78B-4B3A-86B7-389D5C52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4C4C2-3036-47ED-957E-AF2DE386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00BDB-F5EF-4D80-892B-2514BD42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B5808-2BE1-4517-9640-193D5346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4A690-50C4-4E44-8F45-BB945136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FAFA0-3062-4699-843E-2E445FB2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158B-9291-4BB1-A0CC-B9AF46F5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7A0BC-4B2E-4173-9F31-4BDB1DD5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03F9A-4945-468D-B610-491D8023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74E62-5F05-4B20-943A-C60FB4B0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4E4EF-5183-479B-9664-F4E9BACD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65A56-8BDA-4380-9A88-FB796A3D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B722B-66E5-4F38-9578-62294AC2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CF623-5D97-43E2-90E4-76A2651F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3EFAD-723C-4628-A5CB-45C9F192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60FC0-51B0-4C3A-8592-14E88BBC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FCE0F-7890-448F-81C2-F64D9C61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CC1A-8E87-44B1-A5D7-19284CCB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996B2-25C2-46EA-9491-47D003A4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84A19-BEB9-4FFD-A8D2-4C7FC3CE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5E5A5-7714-4484-8DF3-042A523F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518A1-34F6-42AA-8E6F-15709410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3B044-050B-4486-955D-2422340B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16109-96F1-4BE9-A9B4-EFF94775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80AAC-6F79-45E3-9281-AAF8543F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162E3-FA67-4B3A-BA4E-1B7EA310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3DC72-497C-4115-BC92-91A6B405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D05F6-E4DF-40BD-A9EA-F3FA0375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89EC-E804-408A-8133-889410A1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0FE87-55BE-4F25-BA31-17A9932D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511DB-A4CF-4CE7-B3CF-05DD52A0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3C817-04F7-473A-9016-D6E245A7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38910-A39D-4209-82DF-F5A6CF24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19A62-588F-4120-AC16-966A9E21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C50516-8249-4A4D-A2EF-B0B95429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6A2F1C-C340-4A17-AC03-932D8527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808194-2BCF-4B1C-95A5-04B04D2A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B5EF26-82D3-4A65-BC35-54104F2B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B67F3D-0F87-44B0-824C-C018915B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1BFF-8B60-46D1-8C1E-C854AA79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724DC2-10A7-4A91-A8CF-B316AB89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27E2C2-64C4-4A60-98A4-78A705B2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CC4402-7F6D-4A20-A66F-C428A247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EB7AB-9F30-4290-B986-E287EAB3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ED6CB1-BB27-4B6D-B996-643FA01A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A1613C-47A3-400C-91A0-FE51709F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575CC7-568F-47F8-8AF2-7F0635CB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2862-49F6-499B-820B-5CE82652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EB76-A4FF-43B6-A4FE-A63E24D9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D605-3562-4B2B-9F3C-81D3F9FE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5E7E-71B0-4912-B8FA-E868EB9A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6349-F6E6-458F-8D5D-DD21F194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5549-5B57-4C20-829A-2F678B81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7722-D564-49F2-A586-25D34B31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9F90-B286-4AE7-8CE0-21F3060B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993D-7A87-495D-8488-C54BA3C4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762B-0DE3-404B-BCA6-6200C9F6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6354B-7A0D-48E9-B3D6-1B9DF30F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E0F4B-D90B-497B-9373-27877227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A9E88-4485-4D63-803C-74058BDC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3F4C1-BF95-4793-B932-9328AFF6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1C75B-F1D8-48C1-811A-43597342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6AFD-76CB-4E39-93B5-3DB263A9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C4516-6C07-4506-ACD0-D367ACD2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6D9A4-3E89-46AC-9D6B-8B5519F9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1BBD9-93F8-4BDD-BD72-036A7C34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A411B-8306-4FF9-B130-AB093A5C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2A3F4-E656-4B44-87DA-8E8C6ABA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F407A-6F10-4E13-8BD3-C6EB1DCF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E88C0-323C-4D39-92BA-B6021646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D4086-0158-4A45-A200-6730DE42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E6EB0-BC79-4F7B-B0DA-979F6B3E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6B864-73E0-47FF-A93D-0ECF35CC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D4DF-92D5-4EAE-A682-F16F00B8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9C072-7A94-465D-BBE0-10ECF4DC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581FE-C367-4FD4-B3DC-BB14A087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78016-0C7A-489E-8C19-2A561E36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569EC-D689-4D29-BF4E-6ADB3C02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FA531-46B9-4D3C-AE54-5BFF5A18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AC588-5574-4536-90F5-B635BFF1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FBA49-00A6-41CA-985A-8A5CC387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E2838-F10F-49E0-AE73-DCED6595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E9CD2-095B-4357-9D08-0281F9AE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322B9-2E2F-4E09-B0EA-71A9F41D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67A5-570E-4D30-9974-F536731A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369EF-F385-4BFB-88BD-4DE64644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36982-CC0E-4959-AD88-B2171E7E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D3839-6DA4-420A-AA0B-3041ED6E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39249-1DF5-4F8B-B453-3AFDAD4A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22032-6B59-4C5D-A5A9-9A13C164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0DFC8-3ABE-46E8-A37E-9E598193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49433-0F4E-4DBB-A627-C2C4F30E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E1B55-0666-46B0-A3D8-44D961DA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3CF9C-1264-44F0-A8C9-91702CA6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F8BC9-0A8F-4AA4-8EAF-9F20A2F0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39A9-760A-4EC8-B4F5-3E4778AE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80746-E0F2-4FAD-8717-76423D64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D206F-6B36-4A32-9AFA-D9304534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BA0F5-C242-4103-8936-746D5F79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2EED9-9656-4C2F-9893-1D88C28F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B4810-7CC1-4CF3-BBDD-87CA9192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74CD2-F666-4738-A852-C3EF3E85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14129-7A70-42DD-9023-79683625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EF25D-D67B-4A51-B30A-97BA60B6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05A4B-46A2-4F01-A033-4D781D07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98A88-7103-4B4D-8B5E-5CF11A30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E58A-8739-4B13-87FE-4CA223EC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EA44A-AF9A-44C7-AD3B-F7391456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E2672-FB86-4E71-9E61-9F24C4BD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022E9-8377-45EF-8115-B7CA2691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6EB4D-E1A0-4764-BBBF-6D6555B9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D54AC-EEA5-468F-9176-98563A0F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5F66C-8067-4C7C-AC97-5D422CBE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5C868-E599-4116-8E90-B7F7480A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40798-E3D5-479C-973D-3021D0BF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5419E-8CE4-4162-986F-219B1B88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63C9E-3B0E-4674-8635-004F70ED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7C38-18E8-462C-ABDA-F7CE0A8A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9DD27-F868-45AA-A256-AB4F8923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9FFD8-0289-4B63-823F-AD431E21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709A1-9F87-4DF7-B063-0B21DC2D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D5598-BCB0-4054-AE67-90362FEE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31D7B-0719-4E5F-82A0-60E1ED1C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D9187-277A-4AE6-B607-41EDA971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41BE8-B64D-4F05-B6FA-F841941F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7CC51-25B2-477E-8FF6-452B7859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5AA1F-0B48-4C8D-8006-11C8F42B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9DCFA-0D6D-4FF1-B5DF-7306BE85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F669-00CC-4744-BC40-C2AE643C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4C55A-A594-4077-A037-F60B49E0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C3E5F-0CA1-493E-ABB4-0DAA1132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BFF44-2B29-4795-8960-84A5B6C3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9CF35-5362-4F18-9D82-C8C7E1A0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438D1-D538-4DB8-8C33-505A743D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51CFB-9874-48A4-927B-4E2CF039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900A5-9305-4CFE-B498-EF376385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B93C2-FCAF-4C70-B269-6C104B70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240FA-A2BB-4757-9D0B-0D2AAD7E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D8928-B2B2-4005-8FAE-DC3CDC78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7D95-3212-4683-844E-59E2C7C42196}" type="slidenum">
              <a: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9B91-EFF5-4BA7-8264-F753371400E8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3968-D604-4DE2-9639-7D5D780982EF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ECC1-6653-4908-ABF3-0AF41C0CDD94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987D-F0C0-4A55-8FAC-8AFA267E7226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D340-3802-4E2E-AC49-FABB15A2C32A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059F-A57E-4BA4-9CF0-D8B122AA6B5E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CBEA-87CB-48C6-AB41-0ED03A2A928D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D7BB-A70B-4F01-860A-2CE3AB64CB85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2A01-6724-45E0-9EA1-A5B01BBC554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9B6C-780C-4C2B-91B3-763798660A2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3E52-C6C7-4CC3-8621-0FD618EB53D2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B5AB-E97B-407A-A5B4-092AD5F58AB6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CC26-B3E7-4A64-B211-270A5AEE7A6D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75E8-2703-4B1F-846D-EC6E788CBC14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6D1E-1A0D-4404-8E6D-DF93A00592B2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C2D7-D0C2-4153-883D-7A95BE7AB93B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8649-1C2E-4804-AD0A-481C4539B649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F300-5447-491C-9FAE-D48C7FE810F3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70FD-8CBC-476A-9C81-9E2E0244E396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8908-D858-441B-B1B1-675ACA2DFE46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2FBF-5B17-4C5C-A18C-0E2258BAF685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2801-F182-432C-B8E9-109970336BFF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DA6C-356D-4909-B898-67E8434EC820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6479-559D-491E-A61E-EA349A06D27E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3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19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1.png"/><Relationship Id="rId28" Type="http://schemas.openxmlformats.org/officeDocument/2006/relationships/image" Target="../media/image22.png"/><Relationship Id="rId29" Type="http://schemas.openxmlformats.org/officeDocument/2006/relationships/image" Target="../media/image13.png"/><Relationship Id="rId30" Type="http://schemas.openxmlformats.org/officeDocument/2006/relationships/image" Target="../media/image23.png"/><Relationship Id="rId31" Type="http://schemas.openxmlformats.org/officeDocument/2006/relationships/image" Target="../media/image24.png"/><Relationship Id="rId32" Type="http://schemas.openxmlformats.org/officeDocument/2006/relationships/image" Target="../media/image25.png"/><Relationship Id="rId33" Type="http://schemas.openxmlformats.org/officeDocument/2006/relationships/image" Target="../media/image26.png"/><Relationship Id="rId34" Type="http://schemas.openxmlformats.org/officeDocument/2006/relationships/image" Target="../media/image27.png"/><Relationship Id="rId35" Type="http://schemas.openxmlformats.org/officeDocument/2006/relationships/image" Target="../media/image28.png"/><Relationship Id="rId36" Type="http://schemas.openxmlformats.org/officeDocument/2006/relationships/image" Target="../media/image29.png"/><Relationship Id="rId37" Type="http://schemas.openxmlformats.org/officeDocument/2006/relationships/image" Target="../media/image30.png"/><Relationship Id="rId38" Type="http://schemas.openxmlformats.org/officeDocument/2006/relationships/image" Target="../media/image31.png"/><Relationship Id="rId39" Type="http://schemas.openxmlformats.org/officeDocument/2006/relationships/image" Target="../media/image32.png"/><Relationship Id="rId40" Type="http://schemas.openxmlformats.org/officeDocument/2006/relationships/image" Target="../media/image33.png"/><Relationship Id="rId41" Type="http://schemas.openxmlformats.org/officeDocument/2006/relationships/image" Target="../media/image31.png"/><Relationship Id="rId42" Type="http://schemas.openxmlformats.org/officeDocument/2006/relationships/image" Target="../media/image25.png"/><Relationship Id="rId43" Type="http://schemas.openxmlformats.org/officeDocument/2006/relationships/image" Target="../media/image26.png"/><Relationship Id="rId44" Type="http://schemas.openxmlformats.org/officeDocument/2006/relationships/image" Target="../media/image27.png"/><Relationship Id="rId45" Type="http://schemas.openxmlformats.org/officeDocument/2006/relationships/image" Target="../media/image28.png"/><Relationship Id="rId46" Type="http://schemas.openxmlformats.org/officeDocument/2006/relationships/image" Target="../media/image29.png"/><Relationship Id="rId47" Type="http://schemas.openxmlformats.org/officeDocument/2006/relationships/image" Target="../media/image30.png"/><Relationship Id="rId48" Type="http://schemas.openxmlformats.org/officeDocument/2006/relationships/image" Target="../media/image31.png"/><Relationship Id="rId49" Type="http://schemas.openxmlformats.org/officeDocument/2006/relationships/image" Target="../media/image32.png"/><Relationship Id="rId50" Type="http://schemas.openxmlformats.org/officeDocument/2006/relationships/image" Target="../media/image34.png"/><Relationship Id="rId51" Type="http://schemas.openxmlformats.org/officeDocument/2006/relationships/image" Target="../media/image35.png"/><Relationship Id="rId52" Type="http://schemas.openxmlformats.org/officeDocument/2006/relationships/image" Target="../media/image36.png"/><Relationship Id="rId53" Type="http://schemas.openxmlformats.org/officeDocument/2006/relationships/image" Target="../media/image37.png"/><Relationship Id="rId54" Type="http://schemas.openxmlformats.org/officeDocument/2006/relationships/image" Target="../media/image37.png"/><Relationship Id="rId55" Type="http://schemas.openxmlformats.org/officeDocument/2006/relationships/image" Target="../media/image24.png"/><Relationship Id="rId56" Type="http://schemas.openxmlformats.org/officeDocument/2006/relationships/image" Target="../media/image24.png"/><Relationship Id="rId57" Type="http://schemas.openxmlformats.org/officeDocument/2006/relationships/image" Target="../media/image22.png"/><Relationship Id="rId58" Type="http://schemas.openxmlformats.org/officeDocument/2006/relationships/image" Target="../media/image22.png"/><Relationship Id="rId59" Type="http://schemas.openxmlformats.org/officeDocument/2006/relationships/image" Target="../media/image13.png"/><Relationship Id="rId60" Type="http://schemas.openxmlformats.org/officeDocument/2006/relationships/image" Target="../media/image35.png"/><Relationship Id="rId61" Type="http://schemas.openxmlformats.org/officeDocument/2006/relationships/image" Target="../media/image3.png"/><Relationship Id="rId62" Type="http://schemas.openxmlformats.org/officeDocument/2006/relationships/image" Target="../media/image4.png"/><Relationship Id="rId63" Type="http://schemas.openxmlformats.org/officeDocument/2006/relationships/image" Target="../media/image5.png"/><Relationship Id="rId64" Type="http://schemas.openxmlformats.org/officeDocument/2006/relationships/image" Target="../media/image7.png"/><Relationship Id="rId65" Type="http://schemas.openxmlformats.org/officeDocument/2006/relationships/image" Target="../media/image8.png"/><Relationship Id="rId66" Type="http://schemas.openxmlformats.org/officeDocument/2006/relationships/image" Target="../media/image9.png"/><Relationship Id="rId67" Type="http://schemas.openxmlformats.org/officeDocument/2006/relationships/image" Target="../media/image10.png"/><Relationship Id="rId68" Type="http://schemas.openxmlformats.org/officeDocument/2006/relationships/image" Target="../media/image3.png"/><Relationship Id="rId69" Type="http://schemas.openxmlformats.org/officeDocument/2006/relationships/image" Target="../media/image4.png"/><Relationship Id="rId70" Type="http://schemas.openxmlformats.org/officeDocument/2006/relationships/image" Target="../media/image5.png"/><Relationship Id="rId71" Type="http://schemas.openxmlformats.org/officeDocument/2006/relationships/image" Target="../media/image7.png"/><Relationship Id="rId72" Type="http://schemas.openxmlformats.org/officeDocument/2006/relationships/image" Target="../media/image8.png"/><Relationship Id="rId73" Type="http://schemas.openxmlformats.org/officeDocument/2006/relationships/image" Target="../media/image9.png"/><Relationship Id="rId74" Type="http://schemas.openxmlformats.org/officeDocument/2006/relationships/image" Target="../media/image10.png"/><Relationship Id="rId75" Type="http://schemas.openxmlformats.org/officeDocument/2006/relationships/image" Target="../media/image38.png"/><Relationship Id="rId76" Type="http://schemas.openxmlformats.org/officeDocument/2006/relationships/image" Target="../media/image38.png"/><Relationship Id="rId77" Type="http://schemas.openxmlformats.org/officeDocument/2006/relationships/image" Target="../media/image39.png"/><Relationship Id="rId78" Type="http://schemas.openxmlformats.org/officeDocument/2006/relationships/image" Target="../media/image40.png"/><Relationship Id="rId79" Type="http://schemas.openxmlformats.org/officeDocument/2006/relationships/image" Target="../media/image40.png"/><Relationship Id="rId80" Type="http://schemas.openxmlformats.org/officeDocument/2006/relationships/image" Target="../media/image41.png"/><Relationship Id="rId81" Type="http://schemas.openxmlformats.org/officeDocument/2006/relationships/image" Target="../media/image41.png"/><Relationship Id="rId82" Type="http://schemas.openxmlformats.org/officeDocument/2006/relationships/image" Target="../media/image41.png"/><Relationship Id="rId83" Type="http://schemas.openxmlformats.org/officeDocument/2006/relationships/image" Target="../media/image41.png"/><Relationship Id="rId84" Type="http://schemas.openxmlformats.org/officeDocument/2006/relationships/image" Target="../media/image41.png"/><Relationship Id="rId85" Type="http://schemas.openxmlformats.org/officeDocument/2006/relationships/image" Target="../media/image41.png"/><Relationship Id="rId86" Type="http://schemas.openxmlformats.org/officeDocument/2006/relationships/image" Target="../media/image41.png"/><Relationship Id="rId87" Type="http://schemas.openxmlformats.org/officeDocument/2006/relationships/image" Target="../media/image41.png"/><Relationship Id="rId88" Type="http://schemas.openxmlformats.org/officeDocument/2006/relationships/image" Target="../media/image41.png"/><Relationship Id="rId89" Type="http://schemas.openxmlformats.org/officeDocument/2006/relationships/image" Target="../media/image34.png"/><Relationship Id="rId90" Type="http://schemas.openxmlformats.org/officeDocument/2006/relationships/image" Target="../media/image36.png"/><Relationship Id="rId91" Type="http://schemas.openxmlformats.org/officeDocument/2006/relationships/image" Target="../media/image36.png"/><Relationship Id="rId92" Type="http://schemas.openxmlformats.org/officeDocument/2006/relationships/image" Target="../media/image42.png"/><Relationship Id="rId93" Type="http://schemas.openxmlformats.org/officeDocument/2006/relationships/image" Target="../media/image43.png"/><Relationship Id="rId94" Type="http://schemas.openxmlformats.org/officeDocument/2006/relationships/image" Target="../media/image44.png"/><Relationship Id="rId95" Type="http://schemas.openxmlformats.org/officeDocument/2006/relationships/image" Target="../media/image44.png"/><Relationship Id="rId9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그림 3" descr="1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그림 4" descr="mask.png"/>
          <p:cNvPicPr/>
          <p:nvPr/>
        </p:nvPicPr>
        <p:blipFill>
          <a:blip r:embed="rId2"/>
          <a:stretch/>
        </p:blipFill>
        <p:spPr>
          <a:xfrm>
            <a:off x="-7640640" y="0"/>
            <a:ext cx="18284760" cy="6858000"/>
          </a:xfrm>
          <a:prstGeom prst="rect">
            <a:avLst/>
          </a:prstGeom>
          <a:ln w="0">
            <a:noFill/>
          </a:ln>
        </p:spPr>
      </p:pic>
      <p:pic>
        <p:nvPicPr>
          <p:cNvPr id="535" name="그림 5" descr="Untitled-1.png"/>
          <p:cNvPicPr/>
          <p:nvPr/>
        </p:nvPicPr>
        <p:blipFill>
          <a:blip r:embed="rId3"/>
          <a:srcRect l="36618" t="34262" r="37398" b="39491"/>
          <a:stretch/>
        </p:blipFill>
        <p:spPr>
          <a:xfrm>
            <a:off x="3348000" y="234936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536" name="그림 8" descr="컴터.png"/>
          <p:cNvPicPr/>
          <p:nvPr/>
        </p:nvPicPr>
        <p:blipFill>
          <a:blip r:embed="rId4"/>
          <a:srcRect l="40555" t="34262" r="35035" b="37407"/>
          <a:stretch/>
        </p:blipFill>
        <p:spPr>
          <a:xfrm>
            <a:off x="3708360" y="2349360"/>
            <a:ext cx="2232000" cy="19432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7" descr="mp3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8" descr="phone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9" descr="gosemv"/>
          <p:cNvPicPr/>
          <p:nvPr/>
        </p:nvPicPr>
        <p:blipFill>
          <a:blip r:embed="rId7"/>
          <a:srcRect l="44882" t="32551" r="33854" b="35948"/>
          <a:stretch/>
        </p:blipFill>
        <p:spPr>
          <a:xfrm>
            <a:off x="3780000" y="1916280"/>
            <a:ext cx="1944360" cy="21603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0" descr="ss"/>
          <p:cNvPicPr/>
          <p:nvPr/>
        </p:nvPicPr>
        <p:blipFill>
          <a:blip r:embed="rId8"/>
          <a:srcRect l="45677" t="40950" r="33055" b="33843"/>
          <a:stretch/>
        </p:blipFill>
        <p:spPr>
          <a:xfrm>
            <a:off x="3780000" y="2421000"/>
            <a:ext cx="1944360" cy="1728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1" descr="wjsdnjs"/>
          <p:cNvPicPr/>
          <p:nvPr/>
        </p:nvPicPr>
        <p:blipFill>
          <a:blip r:embed="rId9"/>
          <a:srcRect l="45280" t="37407" r="42122" b="44751"/>
          <a:stretch/>
        </p:blipFill>
        <p:spPr>
          <a:xfrm>
            <a:off x="4140360" y="256536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2" descr="dsa"/>
          <p:cNvPicPr/>
          <p:nvPr/>
        </p:nvPicPr>
        <p:blipFill>
          <a:blip r:embed="rId10"/>
          <a:srcRect l="39760" t="33197" r="38976" b="44751"/>
          <a:stretch/>
        </p:blipFill>
        <p:spPr>
          <a:xfrm>
            <a:off x="3851280" y="2637000"/>
            <a:ext cx="1944720" cy="1512720"/>
          </a:xfrm>
          <a:prstGeom prst="rect">
            <a:avLst/>
          </a:prstGeom>
          <a:ln w="0">
            <a:noFill/>
          </a:ln>
        </p:spPr>
      </p:pic>
      <p:pic>
        <p:nvPicPr>
          <p:cNvPr id="543" name="daf.wav" descr=""/>
          <p:cNvPicPr/>
          <p:nvPr/>
        </p:nvPicPr>
        <p:blipFill>
          <a:blip r:embed="rId11"/>
          <a:stretch/>
        </p:blipFill>
        <p:spPr>
          <a:xfrm>
            <a:off x="0" y="-301680"/>
            <a:ext cx="304920" cy="3016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4" descr="fhrh"/>
          <p:cNvPicPr/>
          <p:nvPr/>
        </p:nvPicPr>
        <p:blipFill>
          <a:blip r:embed="rId12"/>
          <a:srcRect l="36618" t="39491" r="37398" b="46856"/>
          <a:stretch/>
        </p:blipFill>
        <p:spPr>
          <a:xfrm>
            <a:off x="3490920" y="2852640"/>
            <a:ext cx="2376360" cy="9367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5" descr="런어웨이"/>
          <p:cNvPicPr/>
          <p:nvPr/>
        </p:nvPicPr>
        <p:blipFill>
          <a:blip r:embed="rId13"/>
          <a:srcRect l="31094" t="44745" r="57882" b="48961"/>
          <a:stretch/>
        </p:blipFill>
        <p:spPr>
          <a:xfrm>
            <a:off x="2843280" y="3068640"/>
            <a:ext cx="1008000" cy="4316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6" descr="런어웨이"/>
          <p:cNvPicPr/>
          <p:nvPr/>
        </p:nvPicPr>
        <p:blipFill>
          <a:blip r:embed="rId14"/>
          <a:srcRect l="42122" t="44745" r="42291" b="49659"/>
          <a:stretch/>
        </p:blipFill>
        <p:spPr>
          <a:xfrm>
            <a:off x="3851280" y="3068640"/>
            <a:ext cx="1425600" cy="3841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7" descr="런어웨이"/>
          <p:cNvPicPr/>
          <p:nvPr/>
        </p:nvPicPr>
        <p:blipFill>
          <a:blip r:embed="rId15"/>
          <a:srcRect l="57886" t="45811" r="29531" b="50005"/>
          <a:stretch/>
        </p:blipFill>
        <p:spPr>
          <a:xfrm>
            <a:off x="5292720" y="3141720"/>
            <a:ext cx="1150920" cy="2872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8" descr="qhfk"/>
          <p:cNvPicPr/>
          <p:nvPr/>
        </p:nvPicPr>
        <p:blipFill>
          <a:blip r:embed="rId16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9" descr="런어웨이"/>
          <p:cNvPicPr/>
          <p:nvPr/>
        </p:nvPicPr>
        <p:blipFill>
          <a:blip r:embed="rId17"/>
          <a:srcRect l="31894" t="44745" r="34256" b="50005"/>
          <a:stretch/>
        </p:blipFill>
        <p:spPr>
          <a:xfrm>
            <a:off x="2916360" y="3068640"/>
            <a:ext cx="3095640" cy="3603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1" descr="line"/>
          <p:cNvPicPr/>
          <p:nvPr/>
        </p:nvPicPr>
        <p:blipFill>
          <a:blip r:embed="rId18"/>
          <a:srcRect l="59689" t="0" r="0" b="82992"/>
          <a:stretch/>
        </p:blipFill>
        <p:spPr>
          <a:xfrm>
            <a:off x="5003640" y="1398600"/>
            <a:ext cx="3686400" cy="11667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2" descr="line2"/>
          <p:cNvPicPr/>
          <p:nvPr/>
        </p:nvPicPr>
        <p:blipFill>
          <a:blip r:embed="rId19"/>
          <a:srcRect l="87417" t="70604" r="0" b="6294"/>
          <a:stretch/>
        </p:blipFill>
        <p:spPr>
          <a:xfrm>
            <a:off x="7524720" y="4005360"/>
            <a:ext cx="1150920" cy="15843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2" descr="line3"/>
          <p:cNvPicPr/>
          <p:nvPr/>
        </p:nvPicPr>
        <p:blipFill>
          <a:blip r:embed="rId20"/>
          <a:srcRect l="0" t="0" r="53146" b="79008"/>
          <a:stretch/>
        </p:blipFill>
        <p:spPr>
          <a:xfrm>
            <a:off x="0" y="1413000"/>
            <a:ext cx="4284720" cy="14396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49" descr="line4"/>
          <p:cNvPicPr/>
          <p:nvPr/>
        </p:nvPicPr>
        <p:blipFill>
          <a:blip r:embed="rId21"/>
          <a:srcRect l="0" t="69360" r="52028" b="0"/>
          <a:stretch/>
        </p:blipFill>
        <p:spPr>
          <a:xfrm>
            <a:off x="395280" y="4005360"/>
            <a:ext cx="3203640" cy="15350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3" descr="글1"/>
          <p:cNvPicPr/>
          <p:nvPr/>
        </p:nvPicPr>
        <p:blipFill>
          <a:blip r:embed="rId22"/>
          <a:srcRect l="30315" t="36346" r="38976" b="56089"/>
          <a:stretch/>
        </p:blipFill>
        <p:spPr>
          <a:xfrm>
            <a:off x="3348000" y="2708280"/>
            <a:ext cx="2808360" cy="5191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4" descr="글1"/>
          <p:cNvPicPr/>
          <p:nvPr/>
        </p:nvPicPr>
        <p:blipFill>
          <a:blip r:embed="rId23"/>
          <a:srcRect l="31894" t="44079" r="41339" b="51045"/>
          <a:stretch/>
        </p:blipFill>
        <p:spPr>
          <a:xfrm>
            <a:off x="3492360" y="3238560"/>
            <a:ext cx="2448000" cy="3348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56" descr="글2"/>
          <p:cNvPicPr/>
          <p:nvPr/>
        </p:nvPicPr>
        <p:blipFill>
          <a:blip r:embed="rId24"/>
          <a:srcRect l="32673" t="37407" r="45244" b="55974"/>
          <a:stretch/>
        </p:blipFill>
        <p:spPr>
          <a:xfrm>
            <a:off x="3492360" y="2781360"/>
            <a:ext cx="2019600" cy="4539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7" descr="글2"/>
          <p:cNvPicPr/>
          <p:nvPr/>
        </p:nvPicPr>
        <p:blipFill>
          <a:blip r:embed="rId25"/>
          <a:srcRect l="43335" t="43822" r="37398" b="50005"/>
          <a:stretch/>
        </p:blipFill>
        <p:spPr>
          <a:xfrm>
            <a:off x="4467240" y="3220920"/>
            <a:ext cx="1762200" cy="4240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58" descr="글3"/>
          <p:cNvPicPr/>
          <p:nvPr/>
        </p:nvPicPr>
        <p:blipFill>
          <a:blip r:embed="rId26"/>
          <a:srcRect l="26374" t="42640" r="49220" b="50005"/>
          <a:stretch/>
        </p:blipFill>
        <p:spPr>
          <a:xfrm>
            <a:off x="2411280" y="3068640"/>
            <a:ext cx="2232000" cy="5047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59" descr="글3"/>
          <p:cNvPicPr/>
          <p:nvPr/>
        </p:nvPicPr>
        <p:blipFill>
          <a:blip r:embed="rId27"/>
          <a:srcRect l="50783" t="42640" r="28736" b="50005"/>
          <a:stretch/>
        </p:blipFill>
        <p:spPr>
          <a:xfrm>
            <a:off x="4643280" y="3068640"/>
            <a:ext cx="1873440" cy="5047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60" descr="글4"/>
          <p:cNvPicPr/>
          <p:nvPr/>
        </p:nvPicPr>
        <p:blipFill>
          <a:blip r:embed="rId28"/>
          <a:srcRect l="33024" t="40861" r="37138" b="52178"/>
          <a:stretch/>
        </p:blipFill>
        <p:spPr>
          <a:xfrm>
            <a:off x="3019320" y="2801880"/>
            <a:ext cx="2729160" cy="4777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61" descr="런어웨이"/>
          <p:cNvPicPr/>
          <p:nvPr/>
        </p:nvPicPr>
        <p:blipFill>
          <a:blip r:embed="rId29"/>
          <a:srcRect l="31114" t="45302" r="32866" b="48567"/>
          <a:stretch/>
        </p:blipFill>
        <p:spPr>
          <a:xfrm>
            <a:off x="2843280" y="3222720"/>
            <a:ext cx="3166920" cy="4046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66" descr="line5"/>
          <p:cNvPicPr/>
          <p:nvPr/>
        </p:nvPicPr>
        <p:blipFill>
          <a:blip r:embed="rId30"/>
          <a:srcRect l="35437" t="0" r="44882" b="76903"/>
          <a:stretch/>
        </p:blipFill>
        <p:spPr>
          <a:xfrm>
            <a:off x="3635280" y="907920"/>
            <a:ext cx="1800360" cy="15843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9" descr="글3"/>
          <p:cNvPicPr/>
          <p:nvPr/>
        </p:nvPicPr>
        <p:blipFill>
          <a:blip r:embed="rId31"/>
          <a:srcRect l="315" t="43801" r="748" b="51969"/>
          <a:stretch/>
        </p:blipFill>
        <p:spPr>
          <a:xfrm>
            <a:off x="108000" y="3170160"/>
            <a:ext cx="9047160" cy="2905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08" descr="개체"/>
          <p:cNvPicPr/>
          <p:nvPr/>
        </p:nvPicPr>
        <p:blipFill>
          <a:blip r:embed="rId32"/>
          <a:srcRect l="27298" t="46724" r="58155" b="32651"/>
          <a:stretch/>
        </p:blipFill>
        <p:spPr>
          <a:xfrm>
            <a:off x="4356000" y="3357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09" descr="개체"/>
          <p:cNvPicPr/>
          <p:nvPr/>
        </p:nvPicPr>
        <p:blipFill>
          <a:blip r:embed="rId33"/>
          <a:srcRect l="38210" t="75093" r="38144" b="-3428"/>
          <a:stretch/>
        </p:blipFill>
        <p:spPr>
          <a:xfrm>
            <a:off x="3708360" y="3141720"/>
            <a:ext cx="647640" cy="5475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0" descr="개체"/>
          <p:cNvPicPr/>
          <p:nvPr/>
        </p:nvPicPr>
        <p:blipFill>
          <a:blip r:embed="rId34"/>
          <a:srcRect l="78182" t="72531" r="-1803" b="-3431"/>
          <a:stretch/>
        </p:blipFill>
        <p:spPr>
          <a:xfrm>
            <a:off x="4211640" y="2421000"/>
            <a:ext cx="576360" cy="5317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11" descr="개체"/>
          <p:cNvPicPr/>
          <p:nvPr/>
        </p:nvPicPr>
        <p:blipFill>
          <a:blip r:embed="rId35"/>
          <a:srcRect l="0" t="40526" r="89059" b="45952"/>
          <a:stretch/>
        </p:blipFill>
        <p:spPr>
          <a:xfrm>
            <a:off x="3924360" y="2565360"/>
            <a:ext cx="574560" cy="5000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12" descr="개체"/>
          <p:cNvPicPr/>
          <p:nvPr/>
        </p:nvPicPr>
        <p:blipFill>
          <a:blip r:embed="rId36"/>
          <a:srcRect l="47309" t="8002" r="30888" b="68746"/>
          <a:stretch/>
        </p:blipFill>
        <p:spPr>
          <a:xfrm>
            <a:off x="3635280" y="2852640"/>
            <a:ext cx="574920" cy="432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13" descr="개체"/>
          <p:cNvPicPr/>
          <p:nvPr/>
        </p:nvPicPr>
        <p:blipFill>
          <a:blip r:embed="rId37"/>
          <a:srcRect l="18199" t="272" r="59962" b="68751"/>
          <a:stretch/>
        </p:blipFill>
        <p:spPr>
          <a:xfrm>
            <a:off x="4572000" y="256536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14" descr="개체"/>
          <p:cNvPicPr/>
          <p:nvPr/>
        </p:nvPicPr>
        <p:blipFill>
          <a:blip r:embed="rId38"/>
          <a:srcRect l="69118" t="38940" r="10888" b="37819"/>
          <a:stretch/>
        </p:blipFill>
        <p:spPr>
          <a:xfrm>
            <a:off x="4500720" y="2997360"/>
            <a:ext cx="792000" cy="649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15" descr="개체"/>
          <p:cNvPicPr/>
          <p:nvPr/>
        </p:nvPicPr>
        <p:blipFill>
          <a:blip r:embed="rId39"/>
          <a:srcRect l="41860" t="41547" r="36355" b="27529"/>
          <a:stretch/>
        </p:blipFill>
        <p:spPr>
          <a:xfrm>
            <a:off x="4067280" y="335772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16" descr="개체"/>
          <p:cNvPicPr/>
          <p:nvPr/>
        </p:nvPicPr>
        <p:blipFill>
          <a:blip r:embed="rId40"/>
          <a:srcRect l="0" t="40532" r="89074" b="45951"/>
          <a:stretch/>
        </p:blipFill>
        <p:spPr>
          <a:xfrm>
            <a:off x="4788000" y="2924280"/>
            <a:ext cx="288720" cy="2505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9" descr="개체"/>
          <p:cNvPicPr/>
          <p:nvPr/>
        </p:nvPicPr>
        <p:blipFill>
          <a:blip r:embed="rId41"/>
          <a:srcRect l="0" t="40526" r="89067" b="45953"/>
          <a:stretch/>
        </p:blipFill>
        <p:spPr>
          <a:xfrm>
            <a:off x="2987640" y="3860640"/>
            <a:ext cx="433440" cy="3780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00" descr="개체"/>
          <p:cNvPicPr/>
          <p:nvPr/>
        </p:nvPicPr>
        <p:blipFill>
          <a:blip r:embed="rId42"/>
          <a:srcRect l="27298" t="46724" r="58155" b="32651"/>
          <a:stretch/>
        </p:blipFill>
        <p:spPr>
          <a:xfrm>
            <a:off x="2843280" y="2781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01" descr="개체"/>
          <p:cNvPicPr/>
          <p:nvPr/>
        </p:nvPicPr>
        <p:blipFill>
          <a:blip r:embed="rId43"/>
          <a:srcRect l="38210" t="75093" r="38144" b="-3428"/>
          <a:stretch/>
        </p:blipFill>
        <p:spPr>
          <a:xfrm>
            <a:off x="5219640" y="4149720"/>
            <a:ext cx="647640" cy="5475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02" descr="개체"/>
          <p:cNvPicPr/>
          <p:nvPr/>
        </p:nvPicPr>
        <p:blipFill>
          <a:blip r:embed="rId44"/>
          <a:srcRect l="78182" t="72531" r="-1803" b="-3431"/>
          <a:stretch/>
        </p:blipFill>
        <p:spPr>
          <a:xfrm>
            <a:off x="3635280" y="4292640"/>
            <a:ext cx="576360" cy="531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03" descr="개체"/>
          <p:cNvPicPr/>
          <p:nvPr/>
        </p:nvPicPr>
        <p:blipFill>
          <a:blip r:embed="rId45"/>
          <a:srcRect l="0" t="40526" r="89059" b="45952"/>
          <a:stretch/>
        </p:blipFill>
        <p:spPr>
          <a:xfrm>
            <a:off x="6300720" y="2492280"/>
            <a:ext cx="574920" cy="5000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04" descr="개체"/>
          <p:cNvPicPr/>
          <p:nvPr/>
        </p:nvPicPr>
        <p:blipFill>
          <a:blip r:embed="rId46"/>
          <a:srcRect l="47309" t="8002" r="30888" b="68746"/>
          <a:stretch/>
        </p:blipFill>
        <p:spPr>
          <a:xfrm>
            <a:off x="6156360" y="3860640"/>
            <a:ext cx="574560" cy="4320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05" descr="개체"/>
          <p:cNvPicPr/>
          <p:nvPr/>
        </p:nvPicPr>
        <p:blipFill>
          <a:blip r:embed="rId47"/>
          <a:srcRect l="18199" t="272" r="59962" b="68751"/>
          <a:stretch/>
        </p:blipFill>
        <p:spPr>
          <a:xfrm>
            <a:off x="3348000" y="1989000"/>
            <a:ext cx="574560" cy="5749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06" descr="개체"/>
          <p:cNvPicPr/>
          <p:nvPr/>
        </p:nvPicPr>
        <p:blipFill>
          <a:blip r:embed="rId48"/>
          <a:srcRect l="69118" t="38940" r="10888" b="37819"/>
          <a:stretch/>
        </p:blipFill>
        <p:spPr>
          <a:xfrm>
            <a:off x="5076720" y="1700280"/>
            <a:ext cx="792360" cy="6490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07" descr="개체"/>
          <p:cNvPicPr/>
          <p:nvPr/>
        </p:nvPicPr>
        <p:blipFill>
          <a:blip r:embed="rId49"/>
          <a:srcRect l="41860" t="41547" r="36355" b="27529"/>
          <a:stretch/>
        </p:blipFill>
        <p:spPr>
          <a:xfrm>
            <a:off x="4211640" y="1413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76" descr="런어웨이1"/>
          <p:cNvPicPr/>
          <p:nvPr/>
        </p:nvPicPr>
        <p:blipFill>
          <a:blip r:embed="rId50"/>
          <a:srcRect l="26378" t="36325" r="30315" b="41575"/>
          <a:stretch/>
        </p:blipFill>
        <p:spPr>
          <a:xfrm>
            <a:off x="1692360" y="2216160"/>
            <a:ext cx="5351400" cy="20480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0" descr="글1"/>
          <p:cNvPicPr/>
          <p:nvPr/>
        </p:nvPicPr>
        <p:blipFill>
          <a:blip r:embed="rId51"/>
          <a:srcRect l="39205" t="38940" r="41445" b="55927"/>
          <a:stretch/>
        </p:blipFill>
        <p:spPr>
          <a:xfrm>
            <a:off x="3584520" y="2886120"/>
            <a:ext cx="1770120" cy="3524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77" descr="런어웨이2"/>
          <p:cNvPicPr/>
          <p:nvPr/>
        </p:nvPicPr>
        <p:blipFill>
          <a:blip r:embed="rId52"/>
          <a:srcRect l="30315" t="42467" r="34724" b="46877"/>
          <a:stretch/>
        </p:blipFill>
        <p:spPr>
          <a:xfrm>
            <a:off x="2181240" y="2781360"/>
            <a:ext cx="4314960" cy="9856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2" descr="글2"/>
          <p:cNvPicPr/>
          <p:nvPr/>
        </p:nvPicPr>
        <p:blipFill>
          <a:blip r:embed="rId53"/>
          <a:srcRect l="37933" t="39375" r="40957" b="55858"/>
          <a:stretch/>
        </p:blipFill>
        <p:spPr>
          <a:xfrm>
            <a:off x="3468600" y="2916360"/>
            <a:ext cx="1930320" cy="3268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3" descr="글2"/>
          <p:cNvPicPr/>
          <p:nvPr/>
        </p:nvPicPr>
        <p:blipFill>
          <a:blip r:embed="rId54"/>
          <a:srcRect l="37933" t="43706" r="41059" b="50121"/>
          <a:stretch/>
        </p:blipFill>
        <p:spPr>
          <a:xfrm>
            <a:off x="3463920" y="3220920"/>
            <a:ext cx="1920960" cy="4240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8" descr="글3"/>
          <p:cNvPicPr/>
          <p:nvPr/>
        </p:nvPicPr>
        <p:blipFill>
          <a:blip r:embed="rId55"/>
          <a:srcRect l="315" t="40210" r="-307" b="55601"/>
          <a:stretch/>
        </p:blipFill>
        <p:spPr>
          <a:xfrm>
            <a:off x="108000" y="2924280"/>
            <a:ext cx="9144000" cy="2872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60" descr="글3"/>
          <p:cNvPicPr/>
          <p:nvPr/>
        </p:nvPicPr>
        <p:blipFill>
          <a:blip r:embed="rId56"/>
          <a:srcRect l="315" t="48037" r="799" b="46178"/>
          <a:stretch/>
        </p:blipFill>
        <p:spPr>
          <a:xfrm>
            <a:off x="114480" y="3460680"/>
            <a:ext cx="9042120" cy="3970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73" descr="글4"/>
          <p:cNvPicPr/>
          <p:nvPr/>
        </p:nvPicPr>
        <p:blipFill>
          <a:blip r:embed="rId57"/>
          <a:srcRect l="33024" t="40861" r="51319" b="52478"/>
          <a:stretch/>
        </p:blipFill>
        <p:spPr>
          <a:xfrm>
            <a:off x="3019320" y="2805120"/>
            <a:ext cx="1432080" cy="4572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75" descr="글4"/>
          <p:cNvPicPr/>
          <p:nvPr/>
        </p:nvPicPr>
        <p:blipFill>
          <a:blip r:embed="rId58"/>
          <a:srcRect l="48146" t="41601" r="37138" b="52178"/>
          <a:stretch/>
        </p:blipFill>
        <p:spPr>
          <a:xfrm>
            <a:off x="4392720" y="2857680"/>
            <a:ext cx="1346040" cy="4269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74" descr="런어웨이"/>
          <p:cNvPicPr/>
          <p:nvPr/>
        </p:nvPicPr>
        <p:blipFill>
          <a:blip r:embed="rId59"/>
          <a:srcRect l="31114" t="45302" r="32866" b="48567"/>
          <a:stretch/>
        </p:blipFill>
        <p:spPr>
          <a:xfrm>
            <a:off x="2843280" y="3225960"/>
            <a:ext cx="3166920" cy="4046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1" descr="글1"/>
          <p:cNvPicPr/>
          <p:nvPr/>
        </p:nvPicPr>
        <p:blipFill>
          <a:blip r:embed="rId60"/>
          <a:srcRect l="39205" t="44656" r="38126" b="50047"/>
          <a:stretch/>
        </p:blipFill>
        <p:spPr>
          <a:xfrm>
            <a:off x="3578400" y="3281400"/>
            <a:ext cx="2073240" cy="363600"/>
          </a:xfrm>
          <a:prstGeom prst="rect">
            <a:avLst/>
          </a:prstGeom>
          <a:ln w="0">
            <a:noFill/>
          </a:ln>
        </p:spPr>
      </p:pic>
      <p:pic>
        <p:nvPicPr>
          <p:cNvPr id="593" name="그림 5" descr="Untitled-1.png"/>
          <p:cNvPicPr/>
          <p:nvPr/>
        </p:nvPicPr>
        <p:blipFill>
          <a:blip r:embed="rId61"/>
          <a:srcRect l="46059" t="38472" r="41339" b="44724"/>
          <a:stretch/>
        </p:blipFill>
        <p:spPr>
          <a:xfrm>
            <a:off x="3924360" y="189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594" name="그림 8" descr="컴터.png"/>
          <p:cNvPicPr/>
          <p:nvPr/>
        </p:nvPicPr>
        <p:blipFill>
          <a:blip r:embed="rId62"/>
          <a:srcRect l="45280" t="37407" r="42902" b="44745"/>
          <a:stretch/>
        </p:blipFill>
        <p:spPr>
          <a:xfrm>
            <a:off x="4716360" y="563400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6" descr="mp3"/>
          <p:cNvPicPr/>
          <p:nvPr/>
        </p:nvPicPr>
        <p:blipFill>
          <a:blip r:embed="rId63"/>
          <a:srcRect l="47260" t="38866" r="40157" b="43291"/>
          <a:stretch/>
        </p:blipFill>
        <p:spPr>
          <a:xfrm>
            <a:off x="0" y="2997360"/>
            <a:ext cx="1150920" cy="12236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8" descr="gosemv"/>
          <p:cNvPicPr/>
          <p:nvPr/>
        </p:nvPicPr>
        <p:blipFill>
          <a:blip r:embed="rId64"/>
          <a:srcRect l="51965" t="44493" r="39374" b="45003"/>
          <a:stretch/>
        </p:blipFill>
        <p:spPr>
          <a:xfrm>
            <a:off x="826920" y="587700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9" descr="ss"/>
          <p:cNvPicPr/>
          <p:nvPr/>
        </p:nvPicPr>
        <p:blipFill>
          <a:blip r:embed="rId65"/>
          <a:srcRect l="52362" t="48310" r="38976" b="41207"/>
          <a:stretch/>
        </p:blipFill>
        <p:spPr>
          <a:xfrm>
            <a:off x="2124000" y="549360"/>
            <a:ext cx="792360" cy="7189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0" descr="wjsdnjs"/>
          <p:cNvPicPr/>
          <p:nvPr/>
        </p:nvPicPr>
        <p:blipFill>
          <a:blip r:embed="rId66"/>
          <a:srcRect l="45280" t="37407" r="42122" b="44751"/>
          <a:stretch/>
        </p:blipFill>
        <p:spPr>
          <a:xfrm>
            <a:off x="7451640" y="4869000"/>
            <a:ext cx="1152720" cy="12240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1" descr="dsa"/>
          <p:cNvPicPr/>
          <p:nvPr/>
        </p:nvPicPr>
        <p:blipFill>
          <a:blip r:embed="rId67"/>
          <a:srcRect l="39760" t="33197" r="38976" b="44751"/>
          <a:stretch/>
        </p:blipFill>
        <p:spPr>
          <a:xfrm>
            <a:off x="6948360" y="620640"/>
            <a:ext cx="1944720" cy="1513080"/>
          </a:xfrm>
          <a:prstGeom prst="rect">
            <a:avLst/>
          </a:prstGeom>
          <a:ln w="0">
            <a:noFill/>
          </a:ln>
        </p:spPr>
      </p:pic>
      <p:pic>
        <p:nvPicPr>
          <p:cNvPr id="600" name="그림 5" descr="Untitled-1.png"/>
          <p:cNvPicPr/>
          <p:nvPr/>
        </p:nvPicPr>
        <p:blipFill>
          <a:blip r:embed="rId68"/>
          <a:srcRect l="46059" t="38472" r="41339" b="44724"/>
          <a:stretch/>
        </p:blipFill>
        <p:spPr>
          <a:xfrm>
            <a:off x="539640" y="112536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601" name="그림 8" descr="컴터.png"/>
          <p:cNvPicPr/>
          <p:nvPr/>
        </p:nvPicPr>
        <p:blipFill>
          <a:blip r:embed="rId69"/>
          <a:srcRect l="45280" t="37407" r="42902" b="44745"/>
          <a:stretch/>
        </p:blipFill>
        <p:spPr>
          <a:xfrm>
            <a:off x="826920" y="393372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6" descr="mp3"/>
          <p:cNvPicPr/>
          <p:nvPr/>
        </p:nvPicPr>
        <p:blipFill>
          <a:blip r:embed="rId70"/>
          <a:srcRect l="47260" t="38866" r="40157" b="43291"/>
          <a:stretch/>
        </p:blipFill>
        <p:spPr>
          <a:xfrm>
            <a:off x="6156360" y="5445000"/>
            <a:ext cx="1150920" cy="12240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gosemv"/>
          <p:cNvPicPr/>
          <p:nvPr/>
        </p:nvPicPr>
        <p:blipFill>
          <a:blip r:embed="rId71"/>
          <a:srcRect l="51965" t="44493" r="39374" b="45003"/>
          <a:stretch/>
        </p:blipFill>
        <p:spPr>
          <a:xfrm>
            <a:off x="4067280" y="566100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ss"/>
          <p:cNvPicPr/>
          <p:nvPr/>
        </p:nvPicPr>
        <p:blipFill>
          <a:blip r:embed="rId72"/>
          <a:srcRect l="52362" t="48310" r="38976" b="41207"/>
          <a:stretch/>
        </p:blipFill>
        <p:spPr>
          <a:xfrm>
            <a:off x="2124000" y="6138720"/>
            <a:ext cx="792360" cy="7192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wjsdnjs"/>
          <p:cNvPicPr/>
          <p:nvPr/>
        </p:nvPicPr>
        <p:blipFill>
          <a:blip r:embed="rId73"/>
          <a:srcRect l="45280" t="37407" r="42122" b="44751"/>
          <a:stretch/>
        </p:blipFill>
        <p:spPr>
          <a:xfrm>
            <a:off x="7596360" y="220500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0" descr="dsa"/>
          <p:cNvPicPr/>
          <p:nvPr/>
        </p:nvPicPr>
        <p:blipFill>
          <a:blip r:embed="rId74"/>
          <a:srcRect l="39760" t="33197" r="38976" b="44751"/>
          <a:stretch/>
        </p:blipFill>
        <p:spPr>
          <a:xfrm>
            <a:off x="5219640" y="0"/>
            <a:ext cx="1944720" cy="15127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9" descr="글1"/>
          <p:cNvPicPr/>
          <p:nvPr/>
        </p:nvPicPr>
        <p:blipFill>
          <a:blip r:embed="rId75"/>
          <a:srcRect l="24811" t="33197" r="56303" b="59449"/>
          <a:stretch/>
        </p:blipFill>
        <p:spPr>
          <a:xfrm>
            <a:off x="2268360" y="2535120"/>
            <a:ext cx="1727280" cy="5050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1" descr="글1"/>
          <p:cNvPicPr/>
          <p:nvPr/>
        </p:nvPicPr>
        <p:blipFill>
          <a:blip r:embed="rId76"/>
          <a:srcRect l="53909" t="47895" r="24827" b="41601"/>
          <a:stretch/>
        </p:blipFill>
        <p:spPr>
          <a:xfrm>
            <a:off x="4932360" y="3500280"/>
            <a:ext cx="1944720" cy="7207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3" descr="글2"/>
          <p:cNvPicPr/>
          <p:nvPr/>
        </p:nvPicPr>
        <p:blipFill>
          <a:blip r:embed="rId77"/>
          <a:srcRect l="25799" t="39538" r="25764" b="46924"/>
          <a:stretch/>
        </p:blipFill>
        <p:spPr>
          <a:xfrm>
            <a:off x="2428920" y="2928960"/>
            <a:ext cx="4429080" cy="9288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44" descr="글3"/>
          <p:cNvPicPr/>
          <p:nvPr/>
        </p:nvPicPr>
        <p:blipFill>
          <a:blip r:embed="rId78"/>
          <a:srcRect l="33457" t="39491" r="44480" b="53150"/>
          <a:stretch/>
        </p:blipFill>
        <p:spPr>
          <a:xfrm>
            <a:off x="2627280" y="2492280"/>
            <a:ext cx="2017800" cy="5050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5" descr="글3"/>
          <p:cNvPicPr/>
          <p:nvPr/>
        </p:nvPicPr>
        <p:blipFill>
          <a:blip r:embed="rId79"/>
          <a:srcRect l="52362" t="51045" r="31094" b="40556"/>
          <a:stretch/>
        </p:blipFill>
        <p:spPr>
          <a:xfrm>
            <a:off x="514836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46" descr="글4"/>
          <p:cNvPicPr/>
          <p:nvPr/>
        </p:nvPicPr>
        <p:blipFill>
          <a:blip r:embed="rId80"/>
          <a:srcRect l="37276" t="44724" r="59169" b="51018"/>
          <a:stretch/>
        </p:blipFill>
        <p:spPr>
          <a:xfrm>
            <a:off x="3408480" y="3348000"/>
            <a:ext cx="325440" cy="29196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47" descr="글4"/>
          <p:cNvPicPr/>
          <p:nvPr/>
        </p:nvPicPr>
        <p:blipFill>
          <a:blip r:embed="rId81"/>
          <a:srcRect l="41287" t="44357" r="55732" b="50441"/>
          <a:stretch/>
        </p:blipFill>
        <p:spPr>
          <a:xfrm>
            <a:off x="3774960" y="3322800"/>
            <a:ext cx="273240" cy="3571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8" descr="글4"/>
          <p:cNvPicPr/>
          <p:nvPr/>
        </p:nvPicPr>
        <p:blipFill>
          <a:blip r:embed="rId82"/>
          <a:srcRect l="44409" t="44493" r="53024" b="51018"/>
          <a:stretch/>
        </p:blipFill>
        <p:spPr>
          <a:xfrm>
            <a:off x="4060800" y="3332160"/>
            <a:ext cx="235080" cy="3078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9" descr="글4"/>
          <p:cNvPicPr/>
          <p:nvPr/>
        </p:nvPicPr>
        <p:blipFill>
          <a:blip r:embed="rId83"/>
          <a:srcRect l="46736" t="44588" r="50488" b="50745"/>
          <a:stretch/>
        </p:blipFill>
        <p:spPr>
          <a:xfrm>
            <a:off x="4273560" y="3338640"/>
            <a:ext cx="254160" cy="3204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0" descr="글4"/>
          <p:cNvPicPr/>
          <p:nvPr/>
        </p:nvPicPr>
        <p:blipFill>
          <a:blip r:embed="rId84"/>
          <a:srcRect l="49516" t="45003" r="47709" b="50373"/>
          <a:stretch/>
        </p:blipFill>
        <p:spPr>
          <a:xfrm>
            <a:off x="4527720" y="3367080"/>
            <a:ext cx="253800" cy="3175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1" descr="글4"/>
          <p:cNvPicPr/>
          <p:nvPr/>
        </p:nvPicPr>
        <p:blipFill>
          <a:blip r:embed="rId85"/>
          <a:srcRect l="52709" t="44168" r="44291" b="50535"/>
          <a:stretch/>
        </p:blipFill>
        <p:spPr>
          <a:xfrm>
            <a:off x="4819680" y="3309840"/>
            <a:ext cx="274680" cy="3636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2" descr="글4"/>
          <p:cNvPicPr/>
          <p:nvPr/>
        </p:nvPicPr>
        <p:blipFill>
          <a:blip r:embed="rId86"/>
          <a:srcRect l="55626" t="43522" r="41461" b="49911"/>
          <a:stretch/>
        </p:blipFill>
        <p:spPr>
          <a:xfrm>
            <a:off x="5086440" y="3265560"/>
            <a:ext cx="266760" cy="4507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53" descr="글4"/>
          <p:cNvPicPr/>
          <p:nvPr/>
        </p:nvPicPr>
        <p:blipFill>
          <a:blip r:embed="rId87"/>
          <a:srcRect l="58339" t="44357" r="38890" b="50556"/>
          <a:stretch/>
        </p:blipFill>
        <p:spPr>
          <a:xfrm>
            <a:off x="5334120" y="3322800"/>
            <a:ext cx="253800" cy="3492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54" descr="글4"/>
          <p:cNvPicPr/>
          <p:nvPr/>
        </p:nvPicPr>
        <p:blipFill>
          <a:blip r:embed="rId88"/>
          <a:srcRect l="60697" t="43428" r="36390" b="50740"/>
          <a:stretch/>
        </p:blipFill>
        <p:spPr>
          <a:xfrm>
            <a:off x="5549760" y="3259080"/>
            <a:ext cx="266760" cy="3999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9" descr="런어웨이1"/>
          <p:cNvPicPr/>
          <p:nvPr/>
        </p:nvPicPr>
        <p:blipFill>
          <a:blip r:embed="rId89"/>
          <a:srcRect l="26378" t="36325" r="30315" b="53365"/>
          <a:stretch/>
        </p:blipFill>
        <p:spPr>
          <a:xfrm>
            <a:off x="1835280" y="2565360"/>
            <a:ext cx="5351400" cy="9558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60" descr="런어웨이2"/>
          <p:cNvPicPr/>
          <p:nvPr/>
        </p:nvPicPr>
        <p:blipFill>
          <a:blip r:embed="rId90"/>
          <a:srcRect l="30315" t="42467" r="34724" b="53129"/>
          <a:stretch/>
        </p:blipFill>
        <p:spPr>
          <a:xfrm>
            <a:off x="2556000" y="3137040"/>
            <a:ext cx="3846240" cy="3632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1" descr="런어웨이2"/>
          <p:cNvPicPr/>
          <p:nvPr/>
        </p:nvPicPr>
        <p:blipFill>
          <a:blip r:embed="rId91"/>
          <a:srcRect l="30315" t="46861" r="34457" b="48152"/>
          <a:stretch/>
        </p:blipFill>
        <p:spPr>
          <a:xfrm>
            <a:off x="2311560" y="3645000"/>
            <a:ext cx="4348080" cy="4618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62" descr="ci"/>
          <p:cNvPicPr/>
          <p:nvPr/>
        </p:nvPicPr>
        <p:blipFill>
          <a:blip r:embed="rId92"/>
          <a:srcRect l="40941" t="43034" r="35437" b="50672"/>
          <a:stretch/>
        </p:blipFill>
        <p:spPr>
          <a:xfrm>
            <a:off x="3348000" y="4221000"/>
            <a:ext cx="2160720" cy="4320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39" descr="qor"/>
          <p:cNvPicPr/>
          <p:nvPr/>
        </p:nvPicPr>
        <p:blipFill>
          <a:blip r:embed="rId93"/>
          <a:stretch/>
        </p:blipFill>
        <p:spPr>
          <a:xfrm>
            <a:off x="-2568600" y="-1925640"/>
            <a:ext cx="14284440" cy="10712520"/>
          </a:xfrm>
          <a:prstGeom prst="rect">
            <a:avLst/>
          </a:prstGeom>
          <a:ln w="0">
            <a:noFill/>
          </a:ln>
        </p:spPr>
      </p:pic>
      <p:grpSp>
        <p:nvGrpSpPr>
          <p:cNvPr id="626" name="Group 95"/>
          <p:cNvGrpSpPr/>
          <p:nvPr/>
        </p:nvGrpSpPr>
        <p:grpSpPr>
          <a:xfrm>
            <a:off x="-360" y="0"/>
            <a:ext cx="9144000" cy="6858000"/>
            <a:chOff x="-360" y="0"/>
            <a:chExt cx="9144000" cy="6858000"/>
          </a:xfrm>
        </p:grpSpPr>
        <p:pic>
          <p:nvPicPr>
            <p:cNvPr id="627" name="Picture 13" descr="mas"/>
            <p:cNvPicPr/>
            <p:nvPr/>
          </p:nvPicPr>
          <p:blipFill>
            <a:blip r:embed="rId94"/>
            <a:stretch/>
          </p:blipFill>
          <p:spPr>
            <a:xfrm>
              <a:off x="2880" y="0"/>
              <a:ext cx="91407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Picture 13" descr="mas"/>
            <p:cNvPicPr/>
            <p:nvPr/>
          </p:nvPicPr>
          <p:blipFill>
            <a:blip r:embed="rId95"/>
            <a:srcRect l="0" t="17974" r="46445" b="17669"/>
            <a:stretch/>
          </p:blipFill>
          <p:spPr>
            <a:xfrm rot="5400000">
              <a:off x="2121120" y="-1068840"/>
              <a:ext cx="4897440" cy="9140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3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remove" presetClass="path" presetID="0" repeatCount="17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21 0 L 0.979 0 E">
                                      <p:cBhvr>
                                        <p:cTn id="8" dur="25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4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5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6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6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7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7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8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8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6">
                                  <p:stCondLst>
                                    <p:cond delay="111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3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111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 repeatCount="indefinite">
                                  <p:stCondLst>
                                    <p:cond delay="11600"/>
                                  </p:stCondLst>
                                  <p:childTnLst>
                                    <p:animMotion origin="layout" path="M 0 0 C 0.00903 0.00231 0.01372 0.00162 0.02223 -0.00208 C 0.0132 -0.00601 0.01129 0.00092 0.00313 0.00439 C 0.00209 0.00301 0 0 0 0 Z">
                                      <p:cBhvr>
                                        <p:cTn id="93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122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 repeatCount="indefinite">
                                  <p:stCondLst>
                                    <p:cond delay="12000"/>
                                  </p:stCondLst>
                                  <p:childTnLst>
                                    <p:animMotion origin="layout" path="M 0 0 C 0.00903 0.00231 0.01372 0.00162 0.02223 -0.00208 C 0.0132 -0.00601 0.01129 0.00092 0.00313 0.00439 C 0.00209 0.00301 0 0 0 0 Z">
                                      <p:cBhvr>
                                        <p:cTn id="98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126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 repeatCount="indefinite">
                                  <p:stCondLst>
                                    <p:cond delay="12600"/>
                                  </p:stCondLst>
                                  <p:childTnLst>
                                    <p:animMotion origin="layout" path="M 4.72222E-006 -4.44444E-006 C -0.00677 -0.00601 -0.01285 -0.00393 -0.01945 0.00186 C -0.01407 0.00417 -0.01337 0.00579 -0.00695 -4.44444E-006 C -0.00556 -0.00115 -0.00452 -0.0037 -0.00278 -0.0037 C -0.00139 -0.0037 -0.00087 -0.00115 4.72222E-006 -4.44444E-006 Z">
                                      <p:cBhvr>
                                        <p:cTn id="103" dur="2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 repeatCount="indefinite">
                                  <p:stCondLst>
                                    <p:cond delay="13000"/>
                                  </p:stCondLst>
                                  <p:childTnLst>
                                    <p:animMotion origin="layout" path="M -1.66667E-006 5.18519E-006 C -0.00555 0.0007 -0.01145 -0.00069 -0.01666 0.00186 C -0.01805 0.00255 -0.01666 0.00718 -0.01527 0.00742 C 0.01893 0.01274 0.0099 0.00788 -1.66667E-006 5.18519E-006 Z">
                                      <p:cBhvr>
                                        <p:cTn id="108" dur="2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2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6">
                                  <p:stCondLst>
                                    <p:cond delay="20000"/>
                                  </p:stCondLst>
                                  <p:childTnLst>
                                    <p:animScale>
                                      <p:cBhvr>
                                        <p:cTn id="113" dur="200" fill="hold"/>
                                        <p:tgtEl>
                                          <p:spTgt spid="5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208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 repeatCount="indefinite">
                                  <p:stCondLst>
                                    <p:cond delay="20800"/>
                                  </p:stCondLst>
                                  <p:childTnLst>
                                    <p:animMotion origin="layout" path="M 5.55556E-007 -3.87283E-006 C -0.00417 -0.00069 -0.01702 -0.00208 -0.01268 -0.00208 C -0.00695 -0.00208 -0.00105 -0.00092 0.00468 -3.87283E-006 C 0.00625 0.00024 0.00156 -3.87283E-006 5.55556E-007 -3.87283E-006 Z">
                                      <p:cBhvr>
                                        <p:cTn id="118" dur="20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208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0">
                                  <p:stCondLst>
                                    <p:cond delay="20800"/>
                                  </p:stCondLst>
                                  <p:childTnLst>
                                    <p:animMotion origin="layout" path="M -0.10625 1.27168E-006 L 1.94444E-006 1.27168E-006 E">
                                      <p:cBhvr>
                                        <p:cTn id="123" dur="5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22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21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0">
                                  <p:stCondLst>
                                    <p:cond delay="21500"/>
                                  </p:stCondLst>
                                  <p:childTnLst>
                                    <p:animMotion origin="layout" path="M 0.12587 0.00347 L 0.04722 0.00347 E">
                                      <p:cBhvr>
                                        <p:cTn id="131" dur="5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22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22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0">
                                  <p:stCondLst>
                                    <p:cond delay="22500"/>
                                  </p:stCondLst>
                                  <p:childTnLst>
                                    <p:animMotion origin="layout" path="M -0.09445 3.2948E-006 L 8.33333E-007 3.2948E-006 E">
                                      <p:cBhvr>
                                        <p:cTn id="139" dur="5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23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234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23400"/>
                                  </p:stCondLst>
                                  <p:childTnLst>
                                    <p:animMotion origin="layout" path="M -3.61111E-006 6.93642E-007 L 0.09445 6.93642E-007 E">
                                      <p:cBhvr>
                                        <p:cTn id="147" dur="5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24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251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25100"/>
                                  </p:stCondLst>
                                  <p:childTnLst>
                                    <p:animMotion origin="layout" path="M 4.44444E-006 -3.2948E-006 L 4.44444E-006 -0.31468 E">
                                      <p:cBhvr>
                                        <p:cTn id="155" dur="5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2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258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25800"/>
                                  </p:stCondLst>
                                  <p:childTnLst>
                                    <p:animMotion origin="layout" path="M -3.05556E-006 0.31468 L -3.05556E-006 3.12139E-006 E">
                                      <p:cBhvr>
                                        <p:cTn id="163" dur="5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2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284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>
                                  <p:stCondLst>
                                    <p:cond delay="3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3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0">
                                  <p:stCondLst>
                                    <p:cond delay="3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0">
                                  <p:stCondLst>
                                    <p:cond delay="30000"/>
                                  </p:stCondLst>
                                  <p:childTnLst>
                                    <p:animMotion origin="layout" path="M 0 0 L 0.23229 -0.37778 E">
                                      <p:cBhvr>
                                        <p:cTn id="187" dur="5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3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0">
                                  <p:stCondLst>
                                    <p:cond delay="30000"/>
                                  </p:stCondLst>
                                  <p:childTnLst>
                                    <p:animMotion origin="layout" path="M -1.38889E-006 3.7037E-007 L -0.31701 -0.38843 E">
                                      <p:cBhvr>
                                        <p:cTn id="192" dur="5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0">
                                  <p:stCondLst>
                                    <p:cond delay="3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0">
                                  <p:stCondLst>
                                    <p:cond delay="30000"/>
                                  </p:stCondLst>
                                  <p:childTnLst>
                                    <p:animMotion origin="layout" path="M -2.77778E-006 -3.33333E-006 L -0.30903 0.40255 E">
                                      <p:cBhvr>
                                        <p:cTn id="197" dur="5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3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0">
                                  <p:stCondLst>
                                    <p:cond delay="30000"/>
                                  </p:stCondLst>
                                  <p:childTnLst>
                                    <p:animMotion origin="layout" path="M -3.88889E-006 0.00023 L 0.2599 0.36759 E">
                                      <p:cBhvr>
                                        <p:cTn id="202" dur="5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0">
                                  <p:stCondLst>
                                    <p:cond delay="3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64">
                                  <p:stCondLst>
                                    <p:cond delay="3000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07" dur="5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8" repeatCount="4000">
                                  <p:stCondLst>
                                    <p:cond delay="31000"/>
                                  </p:stCondLst>
                                  <p:childTnLst>
                                    <p:animRot by="21600000">
                                      <p:cBhvr>
                                        <p:cTn id="212" dur="2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6" repeatCount="4000">
                                  <p:stCondLst>
                                    <p:cond delay="31000"/>
                                  </p:stCondLst>
                                  <p:childTnLst>
                                    <p:animScale>
                                      <p:cBhvr>
                                        <p:cTn id="214" dur="2500" fill="hold"/>
                                        <p:tgtEl>
                                          <p:spTgt spid="57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0" repeatCount="4000">
                                  <p:stCondLst>
                                    <p:cond delay="31000"/>
                                  </p:stCondLst>
                                  <p:childTnLst>
                                    <p:animMotion origin="layout" path="M 2.5E-006 2.77457E-006 L 0.29531 0.40508 E">
                                      <p:cBhvr>
                                        <p:cTn id="216" dur="25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 repeatCount="4000">
                                  <p:stCondLst>
                                    <p:cond delay="3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8" repeatCount="4000">
                                  <p:stCondLst>
                                    <p:cond delay="31000"/>
                                  </p:stCondLst>
                                  <p:childTnLst>
                                    <p:animRot by="21600000">
                                      <p:cBhvr>
                                        <p:cTn id="224" dur="2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6" repeatCount="4000">
                                  <p:stCondLst>
                                    <p:cond delay="31000"/>
                                  </p:stCondLst>
                                  <p:childTnLst>
                                    <p:animScale>
                                      <p:cBhvr>
                                        <p:cTn id="226" dur="2500" fill="hold"/>
                                        <p:tgtEl>
                                          <p:spTgt spid="57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0" repeatCount="4000">
                                  <p:stCondLst>
                                    <p:cond delay="31000"/>
                                  </p:stCondLst>
                                  <p:childTnLst>
                                    <p:animMotion origin="layout" path="M 5.55556E-007 -6.93642E-007 L -0.39757 -0.07329 E">
                                      <p:cBhvr>
                                        <p:cTn id="228" dur="25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 repeatCount="4000">
                                  <p:stCondLst>
                                    <p:cond delay="3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313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8" repeatCount="4000">
                                  <p:stCondLst>
                                    <p:cond delay="31300"/>
                                  </p:stCondLst>
                                  <p:childTnLst>
                                    <p:animRot by="21600000">
                                      <p:cBhvr>
                                        <p:cTn id="236" dur="2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6" repeatCount="4000">
                                  <p:stCondLst>
                                    <p:cond delay="31300"/>
                                  </p:stCondLst>
                                  <p:childTnLst>
                                    <p:animScale>
                                      <p:cBhvr>
                                        <p:cTn id="238" dur="2500" fill="hold"/>
                                        <p:tgtEl>
                                          <p:spTgt spid="573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0" repeatCount="4000">
                                  <p:stCondLst>
                                    <p:cond delay="31300"/>
                                  </p:stCondLst>
                                  <p:childTnLst>
                                    <p:animMotion origin="layout" path="M 2.77778E-006 3.4104E-006 L -0.35035 0.40901 E">
                                      <p:cBhvr>
                                        <p:cTn id="240" dur="25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0" repeatCount="4000">
                                  <p:stCondLst>
                                    <p:cond delay="3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2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31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8" repeatCount="4000">
                                  <p:stCondLst>
                                    <p:cond delay="31500"/>
                                  </p:stCondLst>
                                  <p:childTnLst>
                                    <p:animRot by="21600000">
                                      <p:cBhvr>
                                        <p:cTn id="248" dur="2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6" repeatCount="4000">
                                  <p:stCondLst>
                                    <p:cond delay="31500"/>
                                  </p:stCondLst>
                                  <p:childTnLst>
                                    <p:animScale>
                                      <p:cBhvr>
                                        <p:cTn id="250" dur="2500" fill="hold"/>
                                        <p:tgtEl>
                                          <p:spTgt spid="57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0" repeatCount="4000">
                                  <p:stCondLst>
                                    <p:cond delay="31500"/>
                                  </p:stCondLst>
                                  <p:childTnLst>
                                    <p:animMotion origin="layout" path="M -1.11111E-006 3.58382E-006 L -0.34236 -0.44694 E">
                                      <p:cBhvr>
                                        <p:cTn id="252" dur="25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 repeatCount="4000">
                                  <p:stCondLst>
                                    <p:cond delay="3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2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31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8" repeatCount="3000">
                                  <p:stCondLst>
                                    <p:cond delay="31500"/>
                                  </p:stCondLst>
                                  <p:childTnLst>
                                    <p:animRot by="21600000">
                                      <p:cBhvr>
                                        <p:cTn id="260" dur="2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6" repeatCount="3000">
                                  <p:stCondLst>
                                    <p:cond delay="31500"/>
                                  </p:stCondLst>
                                  <p:childTnLst>
                                    <p:animScale>
                                      <p:cBhvr>
                                        <p:cTn id="262" dur="2500" fill="hold"/>
                                        <p:tgtEl>
                                          <p:spTgt spid="57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0" repeatCount="3000">
                                  <p:stCondLst>
                                    <p:cond delay="31500"/>
                                  </p:stCondLst>
                                  <p:childTnLst>
                                    <p:animMotion origin="layout" path="M 0 -1.84971E-006 L 0.0592 0.35468 E">
                                      <p:cBhvr>
                                        <p:cTn id="264" dur="25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0" repeatCount="3000">
                                  <p:stCondLst>
                                    <p:cond delay="3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31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8" repeatCount="3000">
                                  <p:stCondLst>
                                    <p:cond delay="31500"/>
                                  </p:stCondLst>
                                  <p:childTnLst>
                                    <p:animRot by="21600000">
                                      <p:cBhvr>
                                        <p:cTn id="272" dur="2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6" repeatCount="3000">
                                  <p:stCondLst>
                                    <p:cond delay="31500"/>
                                  </p:stCondLst>
                                  <p:childTnLst>
                                    <p:animScale>
                                      <p:cBhvr>
                                        <p:cTn id="274" dur="2500" fill="hold"/>
                                        <p:tgtEl>
                                          <p:spTgt spid="57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0" repeatCount="3000">
                                  <p:stCondLst>
                                    <p:cond delay="31500"/>
                                  </p:stCondLst>
                                  <p:childTnLst>
                                    <p:animMotion origin="layout" path="M -3.05556E-006 4.9711E-006 L -0.07864 0.33502 E">
                                      <p:cBhvr>
                                        <p:cTn id="276" dur="25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 repeatCount="3000">
                                  <p:stCondLst>
                                    <p:cond delay="3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2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8" repeatCount="3000">
                                  <p:stCondLst>
                                    <p:cond delay="31000"/>
                                  </p:stCondLst>
                                  <p:childTnLst>
                                    <p:animRot by="21600000">
                                      <p:cBhvr>
                                        <p:cTn id="284" dur="2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6" repeatCount="3000">
                                  <p:stCondLst>
                                    <p:cond delay="31000"/>
                                  </p:stCondLst>
                                  <p:childTnLst>
                                    <p:animScale>
                                      <p:cBhvr>
                                        <p:cTn id="286" dur="2500" fill="hold"/>
                                        <p:tgtEl>
                                          <p:spTgt spid="57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0" repeatCount="3000">
                                  <p:stCondLst>
                                    <p:cond delay="31000"/>
                                  </p:stCondLst>
                                  <p:childTnLst>
                                    <p:animMotion origin="layout" path="M 3.88889E-006 3.64162E-006 L 0.27951 -0.39931 E">
                                      <p:cBhvr>
                                        <p:cTn id="288" dur="25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 repeatCount="3000">
                                  <p:stCondLst>
                                    <p:cond delay="3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2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31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8" repeatCount="3000">
                                  <p:stCondLst>
                                    <p:cond delay="31500"/>
                                  </p:stCondLst>
                                  <p:childTnLst>
                                    <p:animRot by="21600000">
                                      <p:cBhvr>
                                        <p:cTn id="296" dur="2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6" repeatCount="3000">
                                  <p:stCondLst>
                                    <p:cond delay="31500"/>
                                  </p:stCondLst>
                                  <p:childTnLst>
                                    <p:animScale>
                                      <p:cBhvr>
                                        <p:cTn id="298" dur="2500" fill="hold"/>
                                        <p:tgtEl>
                                          <p:spTgt spid="58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0" repeatCount="3000">
                                  <p:stCondLst>
                                    <p:cond delay="31500"/>
                                  </p:stCondLst>
                                  <p:childTnLst>
                                    <p:animMotion origin="layout" path="M -1.38889E-006 2.31214E-006 L 0.16945 -0.2948 E">
                                      <p:cBhvr>
                                        <p:cTn id="300" dur="25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 repeatCount="3000">
                                  <p:stCondLst>
                                    <p:cond delay="3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313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8" repeatCount="3000">
                                  <p:stCondLst>
                                    <p:cond delay="31300"/>
                                  </p:stCondLst>
                                  <p:childTnLst>
                                    <p:animRot by="21600000">
                                      <p:cBhvr>
                                        <p:cTn id="308" dur="2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6" repeatCount="3000">
                                  <p:stCondLst>
                                    <p:cond delay="31300"/>
                                  </p:stCondLst>
                                  <p:childTnLst>
                                    <p:animScale>
                                      <p:cBhvr>
                                        <p:cTn id="310" dur="2500" fill="hold"/>
                                        <p:tgtEl>
                                          <p:spTgt spid="58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0" repeatCount="3000">
                                  <p:stCondLst>
                                    <p:cond delay="31300"/>
                                  </p:stCondLst>
                                  <p:childTnLst>
                                    <p:animMotion origin="layout" path="M -4.44444E-006 -3.3526E-006 L -0.08263 -0.24254 E">
                                      <p:cBhvr>
                                        <p:cTn id="312" dur="25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0" repeatCount="3000">
                                  <p:stCondLst>
                                    <p:cond delay="3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2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31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mph" presetID="8" repeatCount="3000">
                                  <p:stCondLst>
                                    <p:cond delay="31300"/>
                                  </p:stCondLst>
                                  <p:childTnLst>
                                    <p:animRot by="21600000">
                                      <p:cBhvr>
                                        <p:cTn id="320" dur="3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6" repeatCount="3000">
                                  <p:stCondLst>
                                    <p:cond delay="31300"/>
                                  </p:stCondLst>
                                  <p:childTnLst>
                                    <p:animScale>
                                      <p:cBhvr>
                                        <p:cTn id="322" dur="3000" fill="hold"/>
                                        <p:tgtEl>
                                          <p:spTgt spid="56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0" repeatCount="3000">
                                  <p:stCondLst>
                                    <p:cond delay="31300"/>
                                  </p:stCondLst>
                                  <p:childTnLst>
                                    <p:animMotion origin="layout" path="M -2.22222E-006 -1.38728E-006 L 0.05521 0.22035 E">
                                      <p:cBhvr>
                                        <p:cTn id="324" dur="3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 repeatCount="3000">
                                  <p:stCondLst>
                                    <p:cond delay="3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3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363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8">
                                  <p:stCondLst>
                                    <p:cond delay="36300"/>
                                  </p:stCondLst>
                                  <p:childTnLst>
                                    <p:animRot by="21600000">
                                      <p:cBhvr>
                                        <p:cTn id="332" dur="3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6">
                                  <p:stCondLst>
                                    <p:cond delay="36300"/>
                                  </p:stCondLst>
                                  <p:childTnLst>
                                    <p:animScale>
                                      <p:cBhvr>
                                        <p:cTn id="334" dur="3000" fill="hold"/>
                                        <p:tgtEl>
                                          <p:spTgt spid="56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0">
                                  <p:stCondLst>
                                    <p:cond delay="36300"/>
                                  </p:stCondLst>
                                  <p:childTnLst>
                                    <p:animMotion origin="layout" path="M 5E-006 -7.51445E-007 L -0.12987 0.15954 E">
                                      <p:cBhvr>
                                        <p:cTn id="336" dur="3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36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3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8" repeatCount="2000">
                                  <p:stCondLst>
                                    <p:cond delay="35000"/>
                                  </p:stCondLst>
                                  <p:childTnLst>
                                    <p:animRot by="21600000">
                                      <p:cBhvr>
                                        <p:cTn id="344" dur="3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6" repeatCount="2000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346" dur="3000" fill="hold"/>
                                        <p:tgtEl>
                                          <p:spTgt spid="56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0" repeatCount="2000">
                                  <p:stCondLst>
                                    <p:cond delay="35000"/>
                                  </p:stCondLst>
                                  <p:childTnLst>
                                    <p:animMotion origin="layout" path="M -3.88889E-006 -3.87283E-006 L 0.00018 -0.24832 E">
                                      <p:cBhvr>
                                        <p:cTn id="348" dur="3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0" repeatCount="200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3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8" repeatCount="2000">
                                  <p:stCondLst>
                                    <p:cond delay="33000"/>
                                  </p:stCondLst>
                                  <p:childTnLst>
                                    <p:animRot by="21600000">
                                      <p:cBhvr>
                                        <p:cTn id="356" dur="3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nodeType="withEffect" fill="hold" presetClass="emph" presetID="6" repeatCount="2000">
                                  <p:stCondLst>
                                    <p:cond delay="33000"/>
                                  </p:stCondLst>
                                  <p:childTnLst>
                                    <p:animScale>
                                      <p:cBhvr>
                                        <p:cTn id="358" dur="3000" fill="hold"/>
                                        <p:tgtEl>
                                          <p:spTgt spid="56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59" nodeType="withEffect" fill="hold" presetClass="path" presetID="0" repeatCount="2000">
                                  <p:stCondLst>
                                    <p:cond delay="33000"/>
                                  </p:stCondLst>
                                  <p:childTnLst>
                                    <p:animMotion origin="layout" path="M -2.77778E-007 -2.19653E-006 L -0.14965 -0.24601 E">
                                      <p:cBhvr>
                                        <p:cTn id="360" dur="3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 repeatCount="2000">
                                  <p:stCondLst>
                                    <p:cond delay="3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3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318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8" repeatCount="3000">
                                  <p:stCondLst>
                                    <p:cond delay="31800"/>
                                  </p:stCondLst>
                                  <p:childTnLst>
                                    <p:animRot by="21600000">
                                      <p:cBhvr>
                                        <p:cTn id="368" dur="3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6" repeatCount="3000">
                                  <p:stCondLst>
                                    <p:cond delay="31800"/>
                                  </p:stCondLst>
                                  <p:childTnLst>
                                    <p:animScale>
                                      <p:cBhvr>
                                        <p:cTn id="370" dur="3000" fill="hold"/>
                                        <p:tgtEl>
                                          <p:spTgt spid="56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71" nodeType="withEffect" fill="hold" presetClass="path" presetID="0" repeatCount="3000">
                                  <p:stCondLst>
                                    <p:cond delay="31800"/>
                                  </p:stCondLst>
                                  <p:childTnLst>
                                    <p:animMotion origin="layout" path="M 5.55556E-007 -1.79191E-006 L -0.18108 -0.07352 E">
                                      <p:cBhvr>
                                        <p:cTn id="372" dur="3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 repeatCount="3000">
                                  <p:stCondLst>
                                    <p:cond delay="3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3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32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mph" presetID="8" repeatCount="2000">
                                  <p:stCondLst>
                                    <p:cond delay="32800"/>
                                  </p:stCondLst>
                                  <p:childTnLst>
                                    <p:animRot by="21600000">
                                      <p:cBhvr>
                                        <p:cTn id="380" dur="3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6" repeatCount="2000">
                                  <p:stCondLst>
                                    <p:cond delay="32800"/>
                                  </p:stCondLst>
                                  <p:childTnLst>
                                    <p:animScale>
                                      <p:cBhvr>
                                        <p:cTn id="382" dur="3000" fill="hold"/>
                                        <p:tgtEl>
                                          <p:spTgt spid="56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83" nodeType="withEffect" fill="hold" presetClass="path" presetID="0" repeatCount="2000">
                                  <p:stCondLst>
                                    <p:cond delay="32800"/>
                                  </p:stCondLst>
                                  <p:childTnLst>
                                    <p:animMotion origin="layout" path="M -1.94444E-006 3.75723E-006 L 0.10243 -0.09434 E">
                                      <p:cBhvr>
                                        <p:cTn id="384" dur="3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 repeatCount="2000">
                                  <p:stCondLst>
                                    <p:cond delay="3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3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318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mph" presetID="8" repeatCount="3000">
                                  <p:stCondLst>
                                    <p:cond delay="31800"/>
                                  </p:stCondLst>
                                  <p:childTnLst>
                                    <p:animRot by="21600000">
                                      <p:cBhvr>
                                        <p:cTn id="392" dur="3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6" repeatCount="3000">
                                  <p:stCondLst>
                                    <p:cond delay="31800"/>
                                  </p:stCondLst>
                                  <p:childTnLst>
                                    <p:animScale>
                                      <p:cBhvr>
                                        <p:cTn id="394" dur="3000" fill="hold"/>
                                        <p:tgtEl>
                                          <p:spTgt spid="57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95" nodeType="withEffect" fill="hold" presetClass="path" presetID="0" repeatCount="3000">
                                  <p:stCondLst>
                                    <p:cond delay="31800"/>
                                  </p:stCondLst>
                                  <p:childTnLst>
                                    <p:animMotion origin="layout" path="M -1.38889E-006 4.04624E-007 L 0.10643 0.11006 E">
                                      <p:cBhvr>
                                        <p:cTn id="396" dur="3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0" repeatCount="3000">
                                  <p:stCondLst>
                                    <p:cond delay="3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3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348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8" repeatCount="2000">
                                  <p:stCondLst>
                                    <p:cond delay="34800"/>
                                  </p:stCondLst>
                                  <p:childTnLst>
                                    <p:animRot by="21600000">
                                      <p:cBhvr>
                                        <p:cTn id="404" dur="3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6" repeatCount="2000">
                                  <p:stCondLst>
                                    <p:cond delay="34800"/>
                                  </p:stCondLst>
                                  <p:childTnLst>
                                    <p:animScale>
                                      <p:cBhvr>
                                        <p:cTn id="406" dur="3000" fill="hold"/>
                                        <p:tgtEl>
                                          <p:spTgt spid="57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407" nodeType="withEffect" fill="hold" presetClass="path" presetID="0" repeatCount="2000">
                                  <p:stCondLst>
                                    <p:cond delay="34800"/>
                                  </p:stCondLst>
                                  <p:childTnLst>
                                    <p:animMotion origin="layout" path="M 4.16667E-006 -4.68208E-006 L -0.02761 0.20463 E">
                                      <p:cBhvr>
                                        <p:cTn id="408" dur="3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0" repeatCount="2000">
                                  <p:stCondLst>
                                    <p:cond delay="3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3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333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mph" presetID="8" repeatCount="2000">
                                  <p:stCondLst>
                                    <p:cond delay="33300"/>
                                  </p:stCondLst>
                                  <p:childTnLst>
                                    <p:animRot by="21600000">
                                      <p:cBhvr>
                                        <p:cTn id="416" dur="3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6" repeatCount="2000">
                                  <p:stCondLst>
                                    <p:cond delay="33300"/>
                                  </p:stCondLst>
                                  <p:childTnLst>
                                    <p:animScale>
                                      <p:cBhvr>
                                        <p:cTn id="418" dur="3000" fill="hold"/>
                                        <p:tgtEl>
                                          <p:spTgt spid="57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0" repeatCount="2000">
                                  <p:stCondLst>
                                    <p:cond delay="33300"/>
                                  </p:stCondLst>
                                  <p:childTnLst>
                                    <p:animMotion origin="layout" path="M -3.05556E-006 -2.31214E-006 L 0.12604 0.04463 E">
                                      <p:cBhvr>
                                        <p:cTn id="420" dur="3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0" repeatCount="2000">
                                  <p:stCondLst>
                                    <p:cond delay="33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3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0">
                                  <p:stCondLst>
                                    <p:cond delay="3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318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0">
                                  <p:stCondLst>
                                    <p:cond delay="32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0">
                                  <p:stCondLst>
                                    <p:cond delay="33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339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10">
                                  <p:stCondLst>
                                    <p:cond delay="34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0">
                                  <p:stCondLst>
                                    <p:cond delay="35000"/>
                                  </p:stCondLst>
                                  <p:childTnLst>
                                    <p:animMotion origin="layout" path="M -0.33073 -1.96532E-006 L 2.5E-006 -1.96532E-006 E">
                                      <p:cBhvr>
                                        <p:cTn id="452" dur="5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358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path" presetID="0">
                                  <p:stCondLst>
                                    <p:cond delay="35800"/>
                                  </p:stCondLst>
                                  <p:childTnLst>
                                    <p:animMotion origin="layout" path="M -0.33073 -1.96532E-006 L 2.5E-006 -1.96532E-006 E">
                                      <p:cBhvr>
                                        <p:cTn id="457" dur="5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36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0">
                                  <p:stCondLst>
                                    <p:cond delay="36500"/>
                                  </p:stCondLst>
                                  <p:childTnLst>
                                    <p:animMotion origin="layout" path="M -0.33073 -1.96532E-006 L 2.5E-006 -1.96532E-006 E">
                                      <p:cBhvr>
                                        <p:cTn id="462" dur="5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0">
                                  <p:stCondLst>
                                    <p:cond delay="3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2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0">
                                  <p:stCondLst>
                                    <p:cond delay="3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2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0">
                                  <p:stCondLst>
                                    <p:cond delay="3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2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37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3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378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3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383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3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0">
                                  <p:stCondLst>
                                    <p:cond delay="39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2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39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2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0">
                                  <p:stCondLst>
                                    <p:cond delay="39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2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392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39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2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394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0">
                                  <p:stCondLst>
                                    <p:cond delay="39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2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398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0" repeatCount="8000">
                                  <p:stCondLst>
                                    <p:cond delay="39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6" repeatCount="8000">
                                  <p:stCondLst>
                                    <p:cond delay="39800"/>
                                  </p:stCondLst>
                                  <p:childTnLst>
                                    <p:animScale>
                                      <p:cBhvr>
                                        <p:cTn id="509" dur="2000" fill="hold"/>
                                        <p:tgtEl>
                                          <p:spTgt spid="593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510" nodeType="withEffect" fill="hold" presetClass="emph" presetID="8" repeatCount="8000">
                                  <p:stCondLst>
                                    <p:cond delay="39800"/>
                                  </p:stCondLst>
                                  <p:childTnLst>
                                    <p:animRot by="21600000">
                                      <p:cBhvr>
                                        <p:cTn id="511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2" nodeType="withEffect" fill="hold" presetClass="path" presetID="0" repeatCount="8000">
                                  <p:stCondLst>
                                    <p:cond delay="39800"/>
                                  </p:stCondLst>
                                  <p:childTnLst>
                                    <p:animMotion origin="layout" path="M 1.11111E-006 3.7037E-006 L 1.11111E-006 0.33588 E">
                                      <p:cBhvr>
                                        <p:cTn id="513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40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0" repeatCount="7000">
                                  <p:stCondLst>
                                    <p:cond delay="40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8" repeatCount="7000">
                                  <p:stCondLst>
                                    <p:cond delay="40500"/>
                                  </p:stCondLst>
                                  <p:childTnLst>
                                    <p:animRot by="21600000">
                                      <p:cBhvr>
                                        <p:cTn id="521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2" nodeType="withEffect" fill="hold" presetClass="emph" presetID="6" repeatCount="7000">
                                  <p:stCondLst>
                                    <p:cond delay="40500"/>
                                  </p:stCondLst>
                                  <p:childTnLst>
                                    <p:animScale>
                                      <p:cBhvr>
                                        <p:cTn id="523" dur="2000" fill="hold"/>
                                        <p:tgtEl>
                                          <p:spTgt spid="594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524" nodeType="withEffect" fill="hold" presetClass="path" presetID="0" repeatCount="7000">
                                  <p:stCondLst>
                                    <p:cond delay="40500"/>
                                  </p:stCondLst>
                                  <p:childTnLst>
                                    <p:animMotion origin="layout" path="M 5.55556E-007 2.59259E-006 L -0.04722 -0.36736 E">
                                      <p:cBhvr>
                                        <p:cTn id="525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415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0" repeatCount="7000">
                                  <p:stCondLst>
                                    <p:cond delay="4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mph" presetID="6" repeatCount="7000">
                                  <p:stCondLst>
                                    <p:cond delay="41500"/>
                                  </p:stCondLst>
                                  <p:childTnLst>
                                    <p:animScale>
                                      <p:cBhvr>
                                        <p:cTn id="533" dur="2000" fill="hold"/>
                                        <p:tgtEl>
                                          <p:spTgt spid="595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534" nodeType="withEffect" fill="hold" presetClass="emph" presetID="8" repeatCount="7000">
                                  <p:stCondLst>
                                    <p:cond delay="41500"/>
                                  </p:stCondLst>
                                  <p:childTnLst>
                                    <p:animRot by="21600000">
                                      <p:cBhvr>
                                        <p:cTn id="535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6" nodeType="withEffect" fill="hold" presetClass="path" presetID="0" repeatCount="7000">
                                  <p:stCondLst>
                                    <p:cond delay="41500"/>
                                  </p:stCondLst>
                                  <p:childTnLst>
                                    <p:animMotion origin="layout" path="M 4.16667E-006 -7.40741E-007 L 0.38594 -7.40741E-007 E">
                                      <p:cBhvr>
                                        <p:cTn id="537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 repeatCount="6000">
                                  <p:stCondLst>
                                    <p:cond delay="4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6" repeatCount="6000">
                                  <p:stCondLst>
                                    <p:cond delay="43000"/>
                                  </p:stCondLst>
                                  <p:childTnLst>
                                    <p:animScale>
                                      <p:cBhvr>
                                        <p:cTn id="545" dur="2000" fill="hold"/>
                                        <p:tgtEl>
                                          <p:spTgt spid="596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8" repeatCount="6000">
                                  <p:stCondLst>
                                    <p:cond delay="43000"/>
                                  </p:stCondLst>
                                  <p:childTnLst>
                                    <p:animRot by="21600000">
                                      <p:cBhvr>
                                        <p:cTn id="547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8" nodeType="withEffect" fill="hold" presetClass="path" presetID="0" repeatCount="6000">
                                  <p:stCondLst>
                                    <p:cond delay="43000"/>
                                  </p:stCondLst>
                                  <p:childTnLst>
                                    <p:animMotion origin="layout" path="M 1.38889E-006 6.66667E-006 L 0.23628 -0.30462 E">
                                      <p:cBhvr>
                                        <p:cTn id="549" dur="20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0" repeatCount="7000">
                                  <p:stCondLst>
                                    <p:cond delay="4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6" repeatCount="7000">
                                  <p:stCondLst>
                                    <p:cond delay="41000"/>
                                  </p:stCondLst>
                                  <p:childTnLst>
                                    <p:animScale>
                                      <p:cBhvr>
                                        <p:cTn id="557" dur="2000" fill="hold"/>
                                        <p:tgtEl>
                                          <p:spTgt spid="59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8" repeatCount="7000">
                                  <p:stCondLst>
                                    <p:cond delay="41000"/>
                                  </p:stCondLst>
                                  <p:childTnLst>
                                    <p:animRot by="21600000">
                                      <p:cBhvr>
                                        <p:cTn id="559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0" nodeType="withEffect" fill="hold" presetClass="path" presetID="0" repeatCount="7000">
                                  <p:stCondLst>
                                    <p:cond delay="41000"/>
                                  </p:stCondLst>
                                  <p:childTnLst>
                                    <p:animMotion origin="layout" path="M -8.33333E-007 2.59259E-006 L 0.18507 0.34653 E">
                                      <p:cBhvr>
                                        <p:cTn id="561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435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0" repeatCount="5000">
                                  <p:stCondLst>
                                    <p:cond delay="4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6" repeatCount="5000">
                                  <p:stCondLst>
                                    <p:cond delay="43500"/>
                                  </p:stCondLst>
                                  <p:childTnLst>
                                    <p:animScale>
                                      <p:cBhvr>
                                        <p:cTn id="569" dur="2000" fill="hold"/>
                                        <p:tgtEl>
                                          <p:spTgt spid="598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8" repeatCount="5000">
                                  <p:stCondLst>
                                    <p:cond delay="43500"/>
                                  </p:stCondLst>
                                  <p:childTnLst>
                                    <p:animRot by="21600000">
                                      <p:cBhvr>
                                        <p:cTn id="571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2" nodeType="withEffect" fill="hold" presetClass="path" presetID="0" repeatCount="5000">
                                  <p:stCondLst>
                                    <p:cond delay="43500"/>
                                  </p:stCondLst>
                                  <p:childTnLst>
                                    <p:animMotion origin="layout" path="M 2.5E-006 -7.40741E-007 L -0.33073 -0.2625 E">
                                      <p:cBhvr>
                                        <p:cTn id="573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42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10" repeatCount="6000">
                                  <p:stCondLst>
                                    <p:cond delay="4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mph" presetID="6" repeatCount="6000">
                                  <p:stCondLst>
                                    <p:cond delay="42500"/>
                                  </p:stCondLst>
                                  <p:childTnLst>
                                    <p:animScale>
                                      <p:cBhvr>
                                        <p:cTn id="581" dur="2000" fill="hold"/>
                                        <p:tgtEl>
                                          <p:spTgt spid="59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8" repeatCount="6000">
                                  <p:stCondLst>
                                    <p:cond delay="42500"/>
                                  </p:stCondLst>
                                  <p:childTnLst>
                                    <p:animRot by="21600000">
                                      <p:cBhvr>
                                        <p:cTn id="583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4" nodeType="withEffect" fill="hold" presetClass="path" presetID="0" repeatCount="6000">
                                  <p:stCondLst>
                                    <p:cond delay="42500"/>
                                  </p:stCondLst>
                                  <p:childTnLst>
                                    <p:animMotion origin="layout" path="M -3.05556E-006 -8.88889E-006 L -0.29132 0.24143 E">
                                      <p:cBhvr>
                                        <p:cTn id="585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42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0" repeatCount="6000">
                                  <p:stCondLst>
                                    <p:cond delay="4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0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mph" presetID="6" repeatCount="6000">
                                  <p:stCondLst>
                                    <p:cond delay="42500"/>
                                  </p:stCondLst>
                                  <p:childTnLst>
                                    <p:animScale>
                                      <p:cBhvr>
                                        <p:cTn id="593" dur="2000" fill="hold"/>
                                        <p:tgtEl>
                                          <p:spTgt spid="600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8" repeatCount="6000">
                                  <p:stCondLst>
                                    <p:cond delay="42500"/>
                                  </p:stCondLst>
                                  <p:childTnLst>
                                    <p:animRot by="21600000">
                                      <p:cBhvr>
                                        <p:cTn id="595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6" nodeType="withEffect" fill="hold" presetClass="path" presetID="0" repeatCount="6000">
                                  <p:stCondLst>
                                    <p:cond delay="42500"/>
                                  </p:stCondLst>
                                  <p:childTnLst>
                                    <p:animMotion origin="layout" path="M 5.55556E-007 -2.22222E-006 L 0.25972 0.30463 E">
                                      <p:cBhvr>
                                        <p:cTn id="597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435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0" repeatCount="6000">
                                  <p:stCondLst>
                                    <p:cond delay="4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mph" presetID="8" repeatCount="6000">
                                  <p:stCondLst>
                                    <p:cond delay="43500"/>
                                  </p:stCondLst>
                                  <p:childTnLst>
                                    <p:animRot by="21600000">
                                      <p:cBhvr>
                                        <p:cTn id="605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6" repeatCount="6000">
                                  <p:stCondLst>
                                    <p:cond delay="43500"/>
                                  </p:stCondLst>
                                  <p:childTnLst>
                                    <p:animScale>
                                      <p:cBhvr>
                                        <p:cTn id="607" dur="2000" fill="hold"/>
                                        <p:tgtEl>
                                          <p:spTgt spid="601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0" repeatCount="6000">
                                  <p:stCondLst>
                                    <p:cond delay="43500"/>
                                  </p:stCondLst>
                                  <p:childTnLst>
                                    <p:animMotion origin="layout" path="M 0.02761 0.02222 L 0.32292 -0.11945 E">
                                      <p:cBhvr>
                                        <p:cTn id="609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439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0" repeatCount="5000">
                                  <p:stCondLst>
                                    <p:cond delay="43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4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mph" presetID="6" repeatCount="5000">
                                  <p:stCondLst>
                                    <p:cond delay="43900"/>
                                  </p:stCondLst>
                                  <p:childTnLst>
                                    <p:animScale>
                                      <p:cBhvr>
                                        <p:cTn id="617" dur="2000" fill="hold"/>
                                        <p:tgtEl>
                                          <p:spTgt spid="602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8" repeatCount="5000">
                                  <p:stCondLst>
                                    <p:cond delay="43900"/>
                                  </p:stCondLst>
                                  <p:childTnLst>
                                    <p:animRot by="21600000">
                                      <p:cBhvr>
                                        <p:cTn id="619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0" nodeType="withEffect" fill="hold" presetClass="path" presetID="0" repeatCount="5000">
                                  <p:stCondLst>
                                    <p:cond delay="43900"/>
                                  </p:stCondLst>
                                  <p:childTnLst>
                                    <p:animMotion origin="layout" path="M -0.26372 -0.33982 L -0.02761 0.02222 E">
                                      <p:cBhvr>
                                        <p:cTn id="621" dur="2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446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0" repeatCount="5000">
                                  <p:stCondLst>
                                    <p:cond delay="44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mph" presetID="6" repeatCount="5000">
                                  <p:stCondLst>
                                    <p:cond delay="44600"/>
                                  </p:stCondLst>
                                  <p:childTnLst>
                                    <p:animScale>
                                      <p:cBhvr>
                                        <p:cTn id="629" dur="2000" fill="hold"/>
                                        <p:tgtEl>
                                          <p:spTgt spid="60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630" nodeType="withEffect" fill="hold" presetClass="emph" presetID="8" repeatCount="5000">
                                  <p:stCondLst>
                                    <p:cond delay="44600"/>
                                  </p:stCondLst>
                                  <p:childTnLst>
                                    <p:animRot by="21600000">
                                      <p:cBhvr>
                                        <p:cTn id="631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2" nodeType="withEffect" fill="hold" presetClass="path" presetID="0" repeatCount="5000">
                                  <p:stCondLst>
                                    <p:cond delay="44600"/>
                                  </p:stCondLst>
                                  <p:childTnLst>
                                    <p:animMotion origin="layout" path="M -8.33333E-007 7.40741E-007 L -0.01163 -0.3044 E">
                                      <p:cBhvr>
                                        <p:cTn id="633" dur="2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0">
                                  <p:stCondLst>
                                    <p:cond delay="453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0" repeatCount="4000">
                                  <p:stCondLst>
                                    <p:cond delay="45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mph" presetID="6" repeatCount="4000">
                                  <p:stCondLst>
                                    <p:cond delay="45300"/>
                                  </p:stCondLst>
                                  <p:childTnLst>
                                    <p:animScale>
                                      <p:cBhvr>
                                        <p:cTn id="641" dur="2000" fill="hold"/>
                                        <p:tgtEl>
                                          <p:spTgt spid="604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8" repeatCount="4000">
                                  <p:stCondLst>
                                    <p:cond delay="45300"/>
                                  </p:stCondLst>
                                  <p:childTnLst>
                                    <p:animRot by="21600000">
                                      <p:cBhvr>
                                        <p:cTn id="643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4" nodeType="withEffect" fill="hold" presetClass="path" presetID="0" repeatCount="4000">
                                  <p:stCondLst>
                                    <p:cond delay="45300"/>
                                  </p:stCondLst>
                                  <p:childTnLst>
                                    <p:animMotion origin="layout" path="M 0.0276 0.00139 L 0.19687 -0.40416 E">
                                      <p:cBhvr>
                                        <p:cTn id="645" dur="2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0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0" repeatCount="4000">
                                  <p:stCondLst>
                                    <p:cond delay="4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6" repeatCount="4000">
                                  <p:stCondLst>
                                    <p:cond delay="46000"/>
                                  </p:stCondLst>
                                  <p:childTnLst>
                                    <p:animScale>
                                      <p:cBhvr>
                                        <p:cTn id="653" dur="2000" fill="hold"/>
                                        <p:tgtEl>
                                          <p:spTgt spid="605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654" nodeType="withEffect" fill="hold" presetClass="emph" presetID="8" repeatCount="4000">
                                  <p:stCondLst>
                                    <p:cond delay="46000"/>
                                  </p:stCondLst>
                                  <p:childTnLst>
                                    <p:animRot by="21600000">
                                      <p:cBhvr>
                                        <p:cTn id="655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6" nodeType="withEffect" fill="hold" presetClass="path" presetID="0" repeatCount="4000">
                                  <p:stCondLst>
                                    <p:cond delay="46000"/>
                                  </p:stCondLst>
                                  <p:childTnLst>
                                    <p:animMotion origin="layout" path="M 1.11022E-016 1.85185E-006 L -0.35434 0.07893 E">
                                      <p:cBhvr>
                                        <p:cTn id="657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467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0" repeatCount="4000">
                                  <p:stCondLst>
                                    <p:cond delay="46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2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mph" presetID="6" repeatCount="4000">
                                  <p:stCondLst>
                                    <p:cond delay="46700"/>
                                  </p:stCondLst>
                                  <p:childTnLst>
                                    <p:animScale>
                                      <p:cBhvr>
                                        <p:cTn id="665" dur="2000" fill="hold"/>
                                        <p:tgtEl>
                                          <p:spTgt spid="606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666" nodeType="withEffect" fill="hold" presetClass="emph" presetID="8" repeatCount="4000">
                                  <p:stCondLst>
                                    <p:cond delay="46700"/>
                                  </p:stCondLst>
                                  <p:childTnLst>
                                    <p:animRot by="21600000">
                                      <p:cBhvr>
                                        <p:cTn id="667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8" nodeType="withEffect" fill="hold" presetClass="path" presetID="0" repeatCount="4000">
                                  <p:stCondLst>
                                    <p:cond delay="46700"/>
                                  </p:stCondLst>
                                  <p:childTnLst>
                                    <p:animMotion origin="layout" path="M -5.55556E-007 2.59259E-006 L -0.14566 0.3831 E">
                                      <p:cBhvr>
                                        <p:cTn id="669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395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mph" presetID="6">
                                  <p:stCondLst>
                                    <p:cond delay="39500"/>
                                  </p:stCondLst>
                                  <p:childTnLst>
                                    <p:animScale>
                                      <p:cBhvr>
                                        <p:cTn id="674" dur="1300" fill="hold"/>
                                        <p:tgtEl>
                                          <p:spTgt spid="6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0">
                                  <p:stCondLst>
                                    <p:cond delay="40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6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421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mph" presetID="6">
                                  <p:stCondLst>
                                    <p:cond delay="42100"/>
                                  </p:stCondLst>
                                  <p:childTnLst>
                                    <p:animScale>
                                      <p:cBhvr>
                                        <p:cTn id="682" dur="1900" fill="hold"/>
                                        <p:tgtEl>
                                          <p:spTgt spid="6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10">
                                  <p:stCondLst>
                                    <p:cond delay="43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0">
                                  <p:stCondLst>
                                    <p:cond delay="444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mph" presetID="6">
                                  <p:stCondLst>
                                    <p:cond delay="44500"/>
                                  </p:stCondLst>
                                  <p:childTnLst>
                                    <p:animScale>
                                      <p:cBhvr>
                                        <p:cTn id="690" dur="2000" fill="hold"/>
                                        <p:tgtEl>
                                          <p:spTgt spid="60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10">
                                  <p:stCondLst>
                                    <p:cond delay="47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479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mph" presetID="6">
                                  <p:stCondLst>
                                    <p:cond delay="47900"/>
                                  </p:stCondLst>
                                  <p:childTnLst>
                                    <p:animScale>
                                      <p:cBhvr>
                                        <p:cTn id="698" dur="9000" fill="hold"/>
                                        <p:tgtEl>
                                          <p:spTgt spid="625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0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mph" presetID="6">
                                  <p:stCondLst>
                                    <p:cond delay="49000"/>
                                  </p:stCondLst>
                                  <p:childTnLst>
                                    <p:animScale>
                                      <p:cBhvr>
                                        <p:cTn id="703" dur="2000" fill="hold"/>
                                        <p:tgtEl>
                                          <p:spTgt spid="610"/>
                                        </p:tgtEl>
                                      </p:cBhvr>
                                      <p:to x="11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10">
                                  <p:stCondLst>
                                    <p:cond delay="50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2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path" presetID="0">
                                  <p:stCondLst>
                                    <p:cond delay="51000"/>
                                  </p:stCondLst>
                                  <p:childTnLst>
                                    <p:animMotion origin="layout" path="M 2.77778E-007 -1.48148E-006 L 0.05903 0.07361 E">
                                      <p:cBhvr>
                                        <p:cTn id="711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2" nodeType="withEffect" fill="hold" presetClass="emph" presetID="6">
                                  <p:stCondLst>
                                    <p:cond delay="51000"/>
                                  </p:stCondLst>
                                  <p:childTnLst>
                                    <p:animScale>
                                      <p:cBhvr>
                                        <p:cTn id="713" dur="1100" fill="hold"/>
                                        <p:tgtEl>
                                          <p:spTgt spid="61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10">
                                  <p:stCondLst>
                                    <p:cond delay="5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53">
                                  <p:stCondLst>
                                    <p:cond delay="537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3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3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3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53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3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3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3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53">
                                  <p:stCondLst>
                                    <p:cond delay="543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3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3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53">
                                  <p:stCondLst>
                                    <p:cond delay="546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3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3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3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3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3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3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53">
                                  <p:stCondLst>
                                    <p:cond delay="554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3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3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3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53">
                                  <p:stCondLst>
                                    <p:cond delay="557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3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3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3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53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3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3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3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3">
                                  <p:stCondLst>
                                    <p:cond delay="563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3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3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0">
                                  <p:stCondLst>
                                    <p:cond delay="56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0">
                                  <p:stCondLst>
                                    <p:cond delay="56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0">
                                  <p:stCondLst>
                                    <p:cond delay="56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10">
                                  <p:stCondLst>
                                    <p:cond delay="56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0">
                                  <p:stCondLst>
                                    <p:cond delay="56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10">
                                  <p:stCondLst>
                                    <p:cond delay="56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0">
                                  <p:stCondLst>
                                    <p:cond delay="56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0">
                                  <p:stCondLst>
                                    <p:cond delay="56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10">
                                  <p:stCondLst>
                                    <p:cond delay="56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57400"/>
                            </p:stCondLst>
                            <p:childTnLst>
                              <p:par>
                                <p:cTn id="790" nodeType="after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794" dur="500" fill="hold"/>
                                        <p:tgtEl>
                                          <p:spTgt spid="62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58000"/>
                            </p:stCondLst>
                            <p:childTnLst>
                              <p:par>
                                <p:cTn id="796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9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58500"/>
                            </p:stCondLst>
                            <p:childTnLst>
                              <p:par>
                                <p:cTn id="806" nodeType="after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59600"/>
                            </p:stCondLst>
                            <p:childTnLst>
                              <p:par>
                                <p:cTn id="81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3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63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6:25:57Z</dcterms:created>
  <dc:creator>WPS Office</dc:creator>
  <dc:description>WPS Office</dc:description>
  <cp:keywords>WPS Office</cp:keywords>
  <dc:language>en-US</dc:language>
  <cp:lastModifiedBy>a</cp:lastModifiedBy>
  <dcterms:modified xsi:type="dcterms:W3CDTF">2014-07-24T07:48:07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