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1463-452A-4E63-A941-6CAA7AEC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342D-93EB-4336-A21C-7CB2A3A0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776A2-E9B5-4DE7-9704-DB226D3A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926B5-E699-42C9-A58B-ED2280C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0896-EBA2-45F8-84E4-7637C01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3E2F-F5F2-48CD-8AFA-08DCDCD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200BF-C3F4-4E54-BB94-60FF128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EA97-D0F0-4121-A35F-AFAA969D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051F-B3B5-43FD-A718-7D18EBB9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9DA49-FDA4-4AB9-81F7-94B3579B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9EF67-B79C-4B7C-8D65-E4250A1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829F-4A97-425E-AAB9-9145C2E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96EAB-28F2-4C26-8BCF-597E5F9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F704-D375-4F98-B815-32DA9F0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F6403-FE35-499B-9C90-88BB7FC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621A4-884B-4C07-8702-6CC7D3B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0ECF-BACC-482D-923B-23B40EFA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390E9-9A3A-4212-816B-85AFE77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A4D94-048C-4D92-8638-6D918DC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B7DC-0079-45C6-9EDF-2622B4E0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A98C-C01D-47EB-A83E-213FB4B1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E9AB4-CD03-4C81-9852-8985840A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4465-7F91-4C4E-86A3-44F3027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281A6-2D1E-4DE5-93D4-BCFF33B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D11B4-CBDE-4DB3-984C-010A7F2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7C259-608F-4FCA-9ED2-A870BFA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B2FB-3D0A-432C-832C-0B256E1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2E749-DD57-4217-B8A8-AC03F6C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FACC8-40E6-4926-B558-78A5578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6BE74-CA9F-4E6C-90FE-4D1FC67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F4E-CD59-4738-93E5-4E28F1A4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B9406-76F7-48CF-929A-56F4AEA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F897-EEDC-4B5C-8885-632E1BCD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68A50-5846-4BD3-B492-6B275E54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D38D3-F4BA-4315-98A9-EFBE1FD7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B619-3F6C-400C-A0E8-D870EE06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0C4E7-265C-433A-AB53-13E1F2B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BF51E-4F57-4907-9586-2221B10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9BB06-48B0-4C6B-A9BC-B64D8DC6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C8C4D-1E89-453B-8F68-BDE1DFF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61F14-F355-4112-B223-CFE5546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217-4B4E-4BD9-A271-486B947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759CE-6DC0-4109-A497-D44E744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B92A-1523-4BDC-B958-58B829A8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CA767-9022-4093-9858-F88B83B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BD0B6-F3FD-4CCA-817B-B8CF7F46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9F7F3-3F10-4FA8-8212-092118D3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450DB-2046-4FFC-AB67-F08E1610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6866-DF29-4CEB-9B57-0E86E45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63EC-D1EB-47F4-ADFE-A9DECC1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073C8-4460-4BE3-A9BE-68BEB67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BC7BA-2791-4A47-BE66-13D3841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21F-B374-41B8-9D20-9D63D71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DAAA1-DE51-4199-B7B6-B50F005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E28C-8B6D-4771-A020-EE144D47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A873B-8866-449E-B720-85817881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6198-AE5F-4040-8F14-5456BA1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A1DE5-D56F-4E2B-BC04-C2398C5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1050E-701C-455E-B893-02CA201B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B9D9-035A-42B9-A6D8-85B26299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1C80-185C-470B-B308-F7EA189E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004D9-E1F7-4764-865D-7156B4F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EB1E3-9B8B-4109-BC91-D2B344A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7D5-3716-494D-A72A-545430B8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C938A-F711-453B-BE91-8508AB9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6FF02-2881-4014-B367-CDB76B7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13938-F55B-4FC3-8CF2-4DB980C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4B56-1B44-48DE-AD53-45711799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F6EDA-7BEA-4ABD-A1DE-5C4F962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D0183-BDC0-4AA4-9A6A-50A6BEA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ED52F-E288-42B9-BB14-AA55A78B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8769B-14EA-4C83-B6C9-D8973367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0CC8D-0F1E-400C-B165-57C371E7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3D7-AEC4-42B9-BDFD-3140EF69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85A-5ABC-42A8-9CE9-82E6F89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CD0-3032-4AD8-AA32-3E2AFA1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138-6558-49EF-B61B-FA75625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FD0-6A73-445A-9F69-2CBB710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063-59BE-4EBD-81DE-FA04E889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EB6-2B06-4B0C-B2A6-BF4877EB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C5D-8E34-4DBF-8E70-70ABFD1A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2382-C7EE-487D-93F1-5B241A68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3D4-3EA5-4DD8-B029-759ADEF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DEBD-14CA-4F7E-BF20-CBC40411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87EF-A433-4F05-9B2C-B2324A2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5432-2C1F-4E31-8999-BB0643F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1CB5-4B73-4E76-9D59-2D3D366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0314-36AC-4275-8A66-E7B7F32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4631-C7A9-4732-AC1D-2CD6964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1C9-488A-4455-B9A7-2C3EC5D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9C5-1173-4FED-AA7B-15BB9E8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9B60-8056-46D1-8ABF-F156912A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9CC-6030-4690-99E8-8E8D682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2EAF-5217-4F5B-BAA9-EE8D35CD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488E-3328-45DB-B832-D1FDE63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BFCD-F022-4526-A1BF-AEA4EB2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D122-998F-4205-9B95-76DA735B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5B45-CF55-4494-B880-CD5177C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F02F-F7AD-4B45-812C-5DBEA13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27E3-4A3D-4E58-9838-C3FB809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1A43-E8C7-4CDF-9408-E6CFFC8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19FE-6DB8-4909-BFE5-939E7D57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761C-5FF0-4536-85CE-96BDA555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89FD-7A92-4C53-B29F-5B94F4F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5E70-8A40-4C35-A3B7-16FFBCB5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FBAF-CBDB-45EA-9F9D-73FDC33E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F247-D072-463A-BC5E-8069F33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D689-400A-4EB7-B7F7-B438FA4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B9D6-B3FE-4F1F-8B97-86D42234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3787-6C5A-4131-8862-C8FA523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9F01-7115-4C15-8018-1E07273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6EEE-9118-440D-83FA-9CE5FD93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661F-442B-4AC4-AE8C-6351A72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50AD-F309-4744-902C-FCAB796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B2CB-397F-4541-9568-A2C840F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112D-A739-4F37-8B5E-CC4CED5A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4918-CB34-497B-BF82-5524BE0F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A791-9FDF-47B3-A3E2-F9075AD9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3A09-3B5D-4B05-B339-216D8009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F4A2-CEEC-408C-B688-54F90A26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A18F-5CF5-4630-AE8A-05C06A2E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C034-8D57-41C0-B953-D445607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CDCB-8B49-4EC6-A98A-49213F47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A1E8-8AAD-4975-8563-E060D33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C1D4-F188-4ED1-AEFE-DBB6F89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A84A-AA34-451A-9F4A-13B85A1F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A378-198A-492F-B833-51731795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06A5-A2C2-4F72-B188-0BB4A89E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AF52-0943-41B4-B192-41584706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58C3-6E4A-4E9A-B31F-80188185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1478-8A53-4B02-8BEA-F1F710E0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487A-58E7-4FB2-B891-167EC114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66C7-85EC-4320-A044-B3F0C4E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F1892-392B-46A1-BA2A-FDBAE62A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B18B1-A844-47F8-BF78-D3E3F48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D85DA-B368-4DE3-8A68-0E51EA3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F61D-32B8-40FF-9292-202CE74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A5F8-31F3-4BB9-A229-1AA4910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0408-1F1D-4367-A2CC-871B635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03F8-C3D5-4BB8-870F-E14C28FE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04C1-05F9-4E90-ABD5-0209C413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D01F2-EDC9-4D95-A20E-495B39E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639CA-4CAF-49F3-AA42-5B22ABD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3598-6EDD-47A8-9861-4032C32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7955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57955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620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AB0-A72D-4180-B490-DAC87188CD3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3172-A81F-48F1-9767-B5EAAF7CB7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9F1-E201-4992-AEF9-10108E62EF8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8B3-C886-4BFF-A8FD-0BB3AC2157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DB3-C31A-469B-AE33-4D89FFDD4FF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2CBF-7EEF-4502-B924-7D7DEB4843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E4E-7D1E-4BDC-88D3-2D1D41A3322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0E0C-6515-41AE-B32E-6A444D043F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CD40-85DB-4FAC-B2A8-9CD7931B4E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E69-F3CB-4E66-A9DD-230773079D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C76-9DFB-4271-8656-7643C6E66A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710-4E3A-430C-BD18-BB45B1A080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7955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57955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2620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343-6E0B-4A24-AC7F-6C032A5829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2DD-C8A2-4015-BFE0-4DE48F92C0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B7E5-BAAA-4853-9FB2-9BB6FEB79AC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599-D76D-43CD-85FB-806E0BC907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7864-B9DC-4085-BDD6-DD5C341B9F5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1E5-30CD-4BD6-973A-A580C85F35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A52-CFFD-4F4A-9973-27AFCA6A0C6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FC0B-F3E4-4720-90D1-1D0DA2D1C9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314D-6BFB-486B-9293-450F196F94C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7F4-1006-4D55-AD8C-5AA684EA33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374-9DAC-4C1E-A60B-9AC60F4392E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A23C-F3B7-48EC-95C5-DB3F3A7021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933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781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57955"/>
              </a:solidFill>
              <a:latin typeface="微软雅黑"/>
              <a:ea typeface="微软雅黑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400" y="12949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d4d4d"/>
              </a:solidFill>
              <a:latin typeface="微软雅黑"/>
              <a:ea typeface="微软雅黑"/>
            </a:endParaRPr>
          </a:p>
        </p:txBody>
      </p:sp>
      <p:sp>
        <p:nvSpPr>
          <p:cNvPr id="574" name=""/>
          <p:cNvSpPr/>
          <p:nvPr/>
        </p:nvSpPr>
        <p:spPr>
          <a:xfrm>
            <a:off x="76320" y="64771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89a38a"/>
                </a:solidFill>
                <a:uFillTx/>
                <a:latin typeface="Arial"/>
                <a:hlinkClick r:id="rId2"/>
              </a:rPr>
              <a:t>PPT模板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a</cp:lastModifiedBy>
  <dcterms:modified xsi:type="dcterms:W3CDTF">2015-01-14T06:03:46Z</dcterms:modified>
  <cp:revision>126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