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F4B-0351-4F18-A62A-E1C69E44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7DC-F20E-4B3E-99C6-1F493FDD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5A35E-4002-4057-9A8C-E4A2FA59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E826F-AB67-4A84-A2A5-4EBC42AD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9D320-AC81-4E75-8896-CF7565E3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7977A-9556-4E2A-8995-8C7D561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6FA78-33F7-4D43-8BA2-0D17BBB0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DDF4E-1967-4057-8EDB-41635127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D338D-3100-4F5D-9299-0D38E171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7F816-AD5C-4B03-A99A-7B8AF5EE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703EF-F098-4704-B339-6240927C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A008F-24BA-4C36-8646-7791853C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89B-9017-474B-AA9C-CA140204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544A9-A332-4221-A392-36369B5B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B7A68-5F2D-4504-A915-20FB5229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74337-565C-41AF-811C-2265BEE7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F82F7-2865-4841-B42F-707C01AE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59B81-369A-4A87-BE64-CAD40132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7AA6B-103C-405D-8FBC-ABA42B82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1AEAC-6D93-4B2E-B64D-B84A072A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92990-E6A5-4F9E-8E81-5146D35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0DE5E-5AA1-41B5-83BF-0754C417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FDD6E-7F5B-42F6-A80E-F565EBE2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DD1-ACD6-465F-BB22-492DF4DA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81AAC-D15A-4EFB-BE30-1E022418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4A25F-8158-402E-B6C8-2935D11E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D8693-2ED6-447B-933C-5DD79758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6933D-CF75-490B-8436-3E29464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9E2AA-977A-4359-BD86-29EE2755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BA3A8-9383-4E5A-8D6E-2447541D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28F92-1110-4AC6-B719-C4319BEB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B018A-73CD-4BF1-B06E-A69FBB0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E32AC-9033-46A6-9D91-13E731B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A2E32-90B9-445F-99EC-6FDD493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500D-1699-4DD2-962B-19518951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3F2F4-D029-444C-8A0F-F3A92464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D5D37-BCD5-403C-B777-792DADBA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96E1D-6B71-4C01-B061-DF195BA0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86A19-E05B-4FFC-A72F-6CABDD3E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25891-FB6C-44F4-AE9C-4ED72AEA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25685-F31B-4A50-9F97-F39CDAE2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C910A-E76F-4EA2-B68A-67081160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EF852-295D-428B-887E-DB6A9E3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473B3-FF0B-44F5-8F4B-BDDAA5A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BFFE7-76CC-41F3-8946-8FE597BE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6A1D-B63F-49BB-A0C8-E3E0E6A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22EE4-3E03-43E1-99D8-F9201AFF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47CD3-4F29-4DF2-84A5-7231DBAE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5EB6B-11EF-4387-BD7B-6F28B730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4C3C3-6B09-41B1-8F29-D87E1314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C004D-9D8B-4AAB-A3E4-01600657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E0B9E-5C4C-4E66-AFD3-C94960DD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BA382-70CD-45B2-8FD4-E93F9F9C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24CCA-770A-44F7-B403-F46ED4D9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5EAAE-7997-4B06-8C1C-1D7FA227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78B2F-EA4F-4D1F-9B7F-3B5E9A04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A1C9-18CC-491D-9666-41C87EBE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DD5C5-FFA1-4AE6-8BF7-E17D45D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E0297-4845-44C4-8634-5D66D6F3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D30C1-EA9D-4EE2-A785-428E346A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D3EC0-FCA9-4F8B-BDCC-F524523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928BE-AA98-44A9-B5DD-8AAB9625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B153F-7530-438C-977D-5DFF915F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A6EE1-92AB-4031-9DE9-89BA03E4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2207D-E7CA-4BA7-8545-987EB302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A43B7-BC1F-4B43-BAAC-81EAA895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B15AA-F616-4B35-BBF7-453F6EF9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4DC9-91B6-44CD-9B64-8AC46DBE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1EC22-B361-4BE4-85B9-A09DC3EA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BF8CC-7D94-4F0B-BA69-84C32CB4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225F1-8FEA-417F-8BBB-40E3F328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E2748-80FC-4BC2-BD9E-88F32117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CC64E-1F58-498A-8400-C032FB9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92C28-9DBF-4A73-80CA-65DB080B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4E6E5-539F-4308-AFE8-55D0A23A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162FE-568E-4568-ABCD-ADAB960A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B0874-3C66-4EF4-B6B9-56B8A201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E36A-8E81-494F-BCB2-4A37A6D8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5E1E-5685-4DC4-A0C3-B5FBFF3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3941-E161-4248-AB5D-4D0A05A3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7A7-DBB1-4A93-9E1B-BE551FB8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9EE3-34C1-41F0-A337-829B6AA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3B5-98A8-4412-AD3B-A604AAF8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262F-34BD-435E-A4B6-892A081F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1B94-A230-4936-973D-370F5982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59FE-4B94-4512-993D-AB15E623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3C6A-0A10-4F77-9DEF-70C2D804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2474-E6A9-4997-8742-3212B6FD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24D1-913F-40EC-807C-69F2D4B2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AB12-C948-4D0B-B71B-0C6CDAD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AB99-B4E8-4138-8A1C-435584B5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BC2-729A-474E-9AD4-BA6744C2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7F8F-D976-47A0-925B-F50248A4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EC10-E8A2-424A-969D-98E17F6E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1B0B0-E377-4255-964F-6867B8E7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D438-64AB-4908-822F-E9C36CC3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93D7-50D1-4CA0-BB73-E1630B45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DB08-C2DB-4AFA-A791-1A17EDF7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DB87-9D14-48AE-976E-483136E5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EC69-8559-4F81-96EC-DADA7B67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7DF9A-39E5-4F72-88C9-8D19E82C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94F0-9157-454A-BB14-1E317F02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8D6-899E-4387-80FC-6BC18CA6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0146-E5BE-46BD-B3EF-5E6868C9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344A-B69D-4B2F-95AF-F76E81B4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DCAC-26A5-4D7F-AED6-5ED5BA38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C7D0-06DD-4719-9797-477239A1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19164-AA31-4E90-BB10-17A6592D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F196-8C48-45A7-B566-011937B5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687E-D041-4204-B029-ACF077ED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DA5DE-F424-4107-A34B-DDB9AC8F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4E71-64E7-4DC2-9B4B-A8EFAFE2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7558-30CF-4BE7-AE24-A83AF7F3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00A-9EB6-4647-8B6B-28EFBB7C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FD52-D8AA-4A22-99C9-9B58A9E8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C60E-877B-4EAF-B988-9FF2417E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84DFD-4B81-436E-8F0A-8C170D53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00E34-72BC-4B5D-B7B2-8473A284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BC3DE-C6E7-4EA4-ADDF-B8F954AC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9E2D-05BA-43C3-8711-D3420AB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E0B1-99F4-4D7D-8828-E572638B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D2553-CD68-44FC-8CE4-5CF209B8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5136F-D146-4B11-95A9-5A2ACAF6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B91D5-C00C-45EB-B334-E2465053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5C6-C0E1-4DCF-999B-0A9FCAE5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D4ED-FCFC-4B4B-8EE1-2EBC9202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E6845-2A41-405C-B496-F04EE1B2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1B7EF-8F31-4C5E-911C-E065328A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1481B-5669-4E07-8BF0-69ED3D1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B04A-5AB7-4EEE-8589-75119C9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E31A2-7A09-45CE-83F0-C669BA15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8453C-64AB-4EFB-81BA-5435328C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EE210-8FC1-4C3E-9201-93ED7C68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FEFD-ED95-4D17-BFC3-BBCBD2A1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051F3-2ACC-45B1-BF9E-7CFE2CE6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153-87AE-4BBD-A5D9-0B8679F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D373F-C1F0-4A7F-A022-4FF84962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4392-36F2-468B-8570-25BE448B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39405-746C-49F8-ABBF-594484C5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8531-C392-4CC1-97E2-D7E44901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C06FD-6C1A-4966-B226-FBCC7AFD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D6ADF-4E52-489C-8889-8B1820CF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8F9FF-7107-4294-B14F-005AF7E2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65F37-2679-4947-B433-FF14E430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0D0B-DA5F-4BA5-9B70-468E68EE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C8AC3-98C9-4F30-8A2A-3694DB72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B1C-DDE7-4F9A-96A7-67580864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25920-D310-49B2-8BD6-1F391B4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F31C0-9AAE-4274-BF03-0B0FD32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5DC59-ED26-4661-B66E-5207B235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4780D-4B4E-4654-A3D8-7442567E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0DC4D-80AB-4942-82C5-283D04BD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39EC5-7CAB-40E9-BEE9-B2B9EAE8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B7690-9FD4-4E51-8EFC-8E05F236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062EE-A7E3-4894-A5CF-3184BCDE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55F1C-4989-43DD-B93C-05E6D33F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6DED9-B233-4CD0-B4D8-D65018F7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3AB-C063-47B4-8F25-A379D62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74599-F765-476C-B07F-BEB1CAAB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62AA8-3481-4F66-8149-9A5BA8A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06C25-ABA6-4F0A-BA3F-907C5AA9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1ED10-7BE1-44C7-A2B1-B6232FC5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52A96-A9EB-4CF7-9961-E1353A28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7A825-3661-4585-BBB3-40BEADA1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BC704-F012-4B20-98A6-80142C53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C22CE-2FA3-49CB-B24E-563DC1A6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206DD-2B66-46F1-ACDE-B71F8C23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592B3-434D-4001-A0F2-2E76E75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C9F4-3D4C-4950-ADD4-308D1C3EDE8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9508-1BB4-4668-A2F6-6E8351698F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21BD-ABFC-4F59-95F6-DE38B5E84F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CC7-E59B-4DE3-AEC2-56B09410DB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05FC-AA07-4600-BD50-CEB9555213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5112-1DC2-4C38-B53A-8BE3D28E08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A111-67B0-4D2B-8577-28AD6F50B6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4429-1169-4408-BD16-2565B8E621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F6E5-4000-4289-8AD0-AEF733C0C9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5225-B0D2-470D-A16E-A6A1E2DF50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A0D9-4585-4CB4-B856-6E990A13C3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AFA1-84DC-4D55-A27E-528BFB38AB4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D93E-8697-4A6E-9EEA-14AF9362A9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2843-A1A7-411A-A1CD-80F0E0D215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8FDD-4EC1-46E7-915C-C259CEFA3E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E823-F849-4AA8-97E1-11C9485CD3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2072-F1E1-459C-A2A4-2F9330A1FC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F209-984D-4B02-9C61-D9A882BAEF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0608-CFC6-4E01-B532-E3D2F614CE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6E51-A92D-4804-A3D1-90B196A45D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3010-EE36-4766-AC0D-8A5B5600EF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B6B-DF7F-48CC-8C4A-7A2A2BD869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FA90-B82E-4C4E-8367-010E9EC3E1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AEFF-08CE-4FBB-B5DE-7D6B8A2EFF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7618-E91E-41D5-8DC0-A0D538D943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D9BD-A262-4B65-AF05-C469A94301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F:/4cbb49c36ff9d0365ae71500/40æ¬¾è¶åæé£æ ¼PNGå¾æ ç´ æ/PNG/lightbulb2.pnglightbulb2"/>
          <p:cNvPicPr/>
          <p:nvPr/>
        </p:nvPicPr>
        <p:blipFill>
          <a:blip r:embed="rId2"/>
          <a:stretch/>
        </p:blipFill>
        <p:spPr>
          <a:xfrm>
            <a:off x="6948360" y="46544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/Users/GuanYupeng/Desktop/080611_power_button.png080611_power_button"/>
          <p:cNvPicPr/>
          <p:nvPr/>
        </p:nvPicPr>
        <p:blipFill>
          <a:blip r:embed="rId3"/>
          <a:stretch/>
        </p:blipFill>
        <p:spPr>
          <a:xfrm>
            <a:off x="617400" y="620640"/>
            <a:ext cx="7956720" cy="5967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:/Users/GuanYupeng/Desktop/tubiao2.pngtubiao2"/>
          <p:cNvPicPr/>
          <p:nvPr/>
        </p:nvPicPr>
        <p:blipFill>
          <a:blip r:embed="rId4"/>
          <a:stretch/>
        </p:blipFill>
        <p:spPr>
          <a:xfrm>
            <a:off x="108000" y="260280"/>
            <a:ext cx="3527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F:/4cbb49c36ff9d0365ae71500/40æ¬¾è¶åæé£æ ¼PNGå¾æ ç´ æ/PNG/attachment2.pngattachment2"/>
          <p:cNvPicPr/>
          <p:nvPr/>
        </p:nvPicPr>
        <p:blipFill>
          <a:blip r:embed="rId2"/>
          <a:stretch/>
        </p:blipFill>
        <p:spPr>
          <a:xfrm>
            <a:off x="6948360" y="46544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C:/Users/GuanYupeng/Desktop/tubiao3.pngtubiao3"/>
          <p:cNvPicPr/>
          <p:nvPr/>
        </p:nvPicPr>
        <p:blipFill>
          <a:blip r:embed="rId3"/>
          <a:stretch/>
        </p:blipFill>
        <p:spPr>
          <a:xfrm>
            <a:off x="108000" y="260280"/>
            <a:ext cx="3527280" cy="647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目录"/>
          <p:cNvPicPr/>
          <p:nvPr/>
        </p:nvPicPr>
        <p:blipFill>
          <a:blip r:embed="rId4"/>
          <a:stretch/>
        </p:blipFill>
        <p:spPr>
          <a:xfrm>
            <a:off x="324000" y="1260360"/>
            <a:ext cx="2714400" cy="38372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目录 列表"/>
          <p:cNvPicPr/>
          <p:nvPr/>
        </p:nvPicPr>
        <p:blipFill>
          <a:blip r:embed="rId5"/>
          <a:stretch/>
        </p:blipFill>
        <p:spPr>
          <a:xfrm>
            <a:off x="3276720" y="1773360"/>
            <a:ext cx="33843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过渡页"/>
          <p:cNvPicPr/>
          <p:nvPr/>
        </p:nvPicPr>
        <p:blipFill>
          <a:blip r:embed="rId2"/>
          <a:stretch/>
        </p:blipFill>
        <p:spPr>
          <a:xfrm>
            <a:off x="2411280" y="2349360"/>
            <a:ext cx="41785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F:/4cbb49c36ff9d0365ae71500/40æ¬¾è¶åæé£æ ¼PNGå¾æ ç´ æ/PNG/sunny2.pngsunny2"/>
          <p:cNvPicPr/>
          <p:nvPr/>
        </p:nvPicPr>
        <p:blipFill>
          <a:blip r:embed="rId2"/>
          <a:stretch/>
        </p:blipFill>
        <p:spPr>
          <a:xfrm>
            <a:off x="6948360" y="46544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C:/Users/GuanYupeng/Desktop/tubiao4.pngtubiao4"/>
          <p:cNvPicPr/>
          <p:nvPr/>
        </p:nvPicPr>
        <p:blipFill>
          <a:blip r:embed="rId3"/>
          <a:stretch/>
        </p:blipFill>
        <p:spPr>
          <a:xfrm>
            <a:off x="108000" y="260280"/>
            <a:ext cx="3527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C:/Users/GuanYupeng/Desktop/ppt/谢谢.png谢谢"/>
          <p:cNvPicPr/>
          <p:nvPr/>
        </p:nvPicPr>
        <p:blipFill>
          <a:blip r:embed="rId2"/>
          <a:stretch/>
        </p:blipFill>
        <p:spPr>
          <a:xfrm>
            <a:off x="2411280" y="2371680"/>
            <a:ext cx="4178520" cy="1363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080611_power_button"/>
          <p:cNvPicPr/>
          <p:nvPr/>
        </p:nvPicPr>
        <p:blipFill>
          <a:blip r:embed="rId3"/>
          <a:stretch/>
        </p:blipFill>
        <p:spPr>
          <a:xfrm>
            <a:off x="6227640" y="5373720"/>
            <a:ext cx="29257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造字工房悦黑体验版细体"/>
              </a:endParaRPr>
            </a:p>
          </p:txBody>
        </p:sp>
        <p:pic>
          <p:nvPicPr>
            <p:cNvPr id="5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造字工房悦黑体验版细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6:41:30Z</dcterms:created>
  <dc:creator>sg</dc:creator>
  <dc:description/>
  <dc:language>en-US</dc:language>
  <cp:lastModifiedBy>a</cp:lastModifiedBy>
  <dcterms:modified xsi:type="dcterms:W3CDTF">2015-01-14T06:42:5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