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96EA-D771-4D1C-B521-6BD73A48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19C7-C9D4-4C0E-A245-8674A940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16309-7473-4DED-ADB3-6760BC0C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FD5AA-C8F2-4054-949A-6256E6E5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6817E-FC40-4364-B267-F44AE633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D6BC9-C7A9-4D8A-86B6-4B018F1F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EE616-92E7-400B-B780-7B2B038E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8462E-91D7-4596-8010-ABD962C4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942E9-1D2D-408A-9FC6-69395775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1BB549-C9B1-4FAB-8A71-543FC32C6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8CECD-FEB1-4681-A3A4-4FFE07F0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9D1928-B97A-448E-8624-CE53D6E1C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469F-71C5-4687-8F6D-D85DDD2E4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F3009E-1AB8-44E1-A78C-A63B3D19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84E0A-0B5B-451B-803B-F3C6EFE0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1AB31-291F-4865-B9E4-90961D24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F961C-AE6F-4D15-8DBF-196941AC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C7A2CB-8FEF-4BCC-969B-901D990C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8ECCF-063D-4531-88A6-37414D4D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E91FE-A8F6-4D48-AB90-D89C8464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FA4C2-6DE9-4918-A574-273FAA40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A36BF9-E726-46F0-B4BF-BA743BC8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09CB4-6643-48CB-BABD-74F90704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2C54-361F-40D2-A7EA-1B3AF663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6C41E-1004-4D95-B533-F0282C5F6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5F89B-EC1E-4417-B8BE-7F86443A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87877-A7D2-47C0-BF66-D6CECFB2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DB662-B768-418C-941B-F91BC1C4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5A537-D1A8-4346-B064-9CFB5309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5CFE9-E3A1-4DFC-8396-9CB154F5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66683-547B-4320-9E6B-76F21655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C5B39-9523-4C2E-8358-3796FC19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70C41-90DA-414F-BA6A-CE380D64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EB749-0E94-4106-8F2A-D2770A01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7A1C-5802-4073-AAA8-931D8A3C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41EFF3-3BB4-42CE-B9FE-192C30E2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A7DDF-B3B1-4F63-98E3-F2E8A09F6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700C1-E5B6-4D06-BA46-A6143008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C3C70-64E9-44CA-87FA-9A0370848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26861-2C81-429B-8D82-EA3365FA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F9837A-8C29-4141-96D1-A3342C43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A0443-5414-48E6-88AF-21A36153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F41052-FA38-4778-AEAE-43AD529C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2F825-6C3D-4E8D-BC7F-0616225D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EE7C1-0390-49B1-A2BF-6166B4A4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1CD4-FD02-4387-B375-C1C823C6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2E5A64-1922-4BD5-9D1D-15DEC0E2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DADC6-0EF0-486A-9FFE-1BE03E08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28DFCF-5001-4A1D-A9C9-4B86F0E5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21652-3AF4-4812-9C0D-9EC17B5C3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19840C-F98C-42D0-9792-591C02CB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F6F08C-7B81-41F5-99C8-1B0A1751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2B9029-49E8-4099-9E28-F633F38D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846898-A579-4AB7-8DB6-69D37419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8299FF-AE50-426A-935A-69EBD81E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377DBC-C401-46F3-90EB-E95AB624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68A1-96C9-44A5-8BF4-4D27CC0B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A3913E-3F6A-4876-9A34-78F8C14C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291A5E-D454-49EF-BBF4-4A3DA06F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152BF2-555B-45C9-BE6C-1C524C8F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1B4F7D-0876-4B19-9E7A-8B4430DC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76B60F-8E87-468C-A005-49C74BF7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AB4A39-00B7-4DAE-A262-EEE3DAB2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3B204D-3FBB-4AC7-9A23-60B484A1E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925BFD-4BA3-4088-B102-F230511A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69ACE3-A4A0-4E5A-9D73-652E729A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B90F11-E3EA-4EDC-9007-EA29FA10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4E4C-AD4E-4814-B577-89EFFA39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44A676-2A51-4853-A731-1766AF7D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6E8ED3-F7E2-4F9E-9576-8B61E3D7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81D99A-968C-49A1-9583-560AC708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C6828B-8436-4AD9-A1A5-3DF55C34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5A4BF4-2213-4204-97FA-C3EDF2AC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9E0B61-AE12-47E8-AE32-A369684D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70572D-8956-4293-B2FC-92D661E3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B29769-6418-416C-BDA5-256BF5541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05E03B-933B-4D63-B576-B69704E7A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8982-A906-4F16-907D-AE9677BD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CDD1-9AF1-44D6-8099-E20920AC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0813-B668-4C4F-A5FC-A543D5F9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F631-53C3-4DB6-A714-D05864D8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DA94-EA1B-4EA6-839B-EA6C83F7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38DF-0213-48A1-AEC5-E0B3B095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0361-F7CA-407F-95EF-8375B89C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7361-8558-43CC-9F05-880F6822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FF68-F855-42FC-9287-986BC0C9D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B0B91-8246-4A72-96B1-F1972EC3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B4531-0810-45E9-8EA4-0AA99F0D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66570-C7D1-423C-81B5-D2A5B56B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D231A-7602-4DC3-92B7-58264F75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25F31-055D-4D23-9356-3126DB3C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F636-D210-4D49-98C6-39B0EA85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EE44E-0962-4FD6-9805-109E2E17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E0A71-4A5A-4ADF-BBD3-B1EE3C4F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D88F5-9CBE-49AD-9157-5F437D9A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B5598-5B7D-498A-BD4F-FA85D651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345C3-F8D2-4657-B01F-D2485010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7FA77-EBD0-4133-87CF-470FED4E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CA4A8-E618-4CBD-A5D8-4C471E693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C2659-7164-45F5-993D-C09D511FD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F7D18-C6D2-4E00-8295-A4C59DDE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807D9-2D06-4AFF-885F-8E8AAC5A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3278-A5A4-4655-ADA7-8430B915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057E9-D874-4CD6-AF8B-10E56310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EF48F-5703-4675-8071-B5B42133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8C06B-F7CD-4396-9C59-385696F6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D78EB-E1EC-4003-8B4A-B9935B0B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409AC-4133-4608-B991-15A8D255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BAB2B-5CE0-4E5A-B746-CA589131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76EA4-5E8B-4F78-BEFD-B0AD76BF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B9A9C-BCC1-453A-9561-E84677410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CC7B8-6FF4-431F-B799-652FD836D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EE995-6C60-4101-9EB7-884ED4DB1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C2B5-18D1-4E17-8373-11789730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CE778-2356-45B8-848A-A55106CD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BE8DC-5B1B-4513-BAE1-E8600C4E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0982D-A111-4B33-AFD1-CCA77175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1C06B-9F15-4A1A-AC36-A44B5156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03600-F800-461E-B019-0B6AB64F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6D5C6-C2DF-46F0-897E-55AFE291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7A126-5D77-4327-92C5-E9083C52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943B7-EE88-47DA-859B-8C40A65F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178F5-02A3-4DD9-898D-E1980D12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BFD70-317E-4823-9F40-AC05FC94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55AF-A99D-4C5F-BBBC-5E636601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179AA-4AA6-40EB-A5DB-A4A709427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779B7-0E34-4993-BA54-C0350FB1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3D2EE-48F8-4601-87DB-EDB9F0E0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5C8DA-EBC1-49F4-8373-963CBB99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4FDDF-30B3-4883-9B6F-0BF2B102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33A77-E82F-44CB-8532-CA6D849F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FB4A4-BB32-441C-B4AA-CE60B680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AC50E-090F-464B-9998-72EA0D15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A35E7-B133-4761-AEC7-DE1E3126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4185D-8B27-481D-AD1B-7F789CCC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BC91-77CF-4DE3-BD81-142375F0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2B943-D0A8-424E-87C6-E1679D9D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C2EE2-592D-433B-B46F-584F5C889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6B460-E971-4544-BAC6-7C5ED5BC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8C3FF-C1F5-40BE-8457-6EA51F3EA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1B7C3-1D18-4BF6-80B2-128D0001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365CF-12B0-4D31-822B-BEEFEB60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5C16F-875C-489C-A4C0-69B32F9E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D9659-281F-4C8A-8F2F-BAE41111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BD872-9269-4815-9DEE-5AA2151A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E33F9-16B0-40C8-A513-F4948C0F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B5E9-2525-4542-BB63-5D00E432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5345B-2D7F-400A-A8D0-E281E2F0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905D9-58AA-4755-A133-DEAC3DF3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5F203-85B6-485D-9E42-6286290D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59B6D-0BF1-4EA4-86E4-A88A9F5B5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FB2C8-CD3B-4214-B66C-5E235AA9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CACA8-78E4-4DCF-9695-3811C677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F91ED-5464-4FA0-8E2D-16E2F60D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4525E-6494-4AF2-A0E5-76F5778C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F476C-B91B-4BCA-B971-ACD036A3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1E4DA-2934-433E-B9A8-B48DD1D1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D9D3-8B49-40FA-838D-59DCD8AB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9A7A0-ACE9-46DD-B213-27C524FD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7B441-9BAF-4AE4-BECF-41FC6BF0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EB315-E651-4D43-981B-63D3B44E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9764D-B589-427B-8F09-9BDB47DA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8BDD2-D9A3-4900-82E6-45BAACAC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76785-5C42-4CD5-AC17-F2642B07C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6B9A9-DB27-4571-93EA-02B30A6DF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9E9DE-4202-4855-B14C-EC0C77DD8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DAF1B-36D6-4ADC-9F42-9A58A64E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BA568-5D58-4EB4-A54F-E4E78274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5831-59B5-47BE-B833-448D9EFB7E01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3E21-FA2C-4C3D-8ABB-A3831815057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07EB-BC63-488A-9909-0FA162ED15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A0BA-7470-42B5-993D-5EB71A0042C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C850-A297-4891-B8C2-B8E1F6683D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5EF1-E40C-4DE4-96AD-BD66FE801E2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98A2-34A2-4C5A-AF67-77485A2BAC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352E-41D5-479A-9E72-9AEEECC2504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BB11-A55A-4B55-BB67-23DF521782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63D9-9BE6-4451-A3DC-2029F5AF336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2426-3620-4C0E-8AF6-FB2971D7AD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465B-00FA-42D7-9FDC-577F8A0EF0D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7731-D93B-4E36-A0B7-5845093123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4C9A-2D70-4A7D-86D7-80C67A3B9F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8FAA-74B7-4399-AB98-B3913577FC8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98C8-1636-49F2-BE16-D5FAB2C12B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5419-C5D5-44EE-946F-0A448BFE8EF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B179-F995-46BF-B60F-3FF0622FDD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EC51-D3B6-42F1-986C-C909BB4C71B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3852-2011-4E4B-A356-733BAFB5F4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CD93-9EE3-4730-A5B9-F92DA73E766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7B00-B722-403C-A706-6035491E21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773B-5A3F-41DE-AF3A-C887C15CB1B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3159-46C1-4B97-9FD3-631280A41E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0DA3-0919-4CC8-B4D2-35A028B6371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4B8B-589D-4D18-BC06-3ECB64DC86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WPS"/>
          <p:cNvPicPr/>
          <p:nvPr/>
        </p:nvPicPr>
        <p:blipFill>
          <a:blip r:embed="rId1"/>
          <a:stretch/>
        </p:blipFill>
        <p:spPr>
          <a:xfrm>
            <a:off x="971640" y="1341360"/>
            <a:ext cx="7092720" cy="36925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" descr="WPS1"/>
          <p:cNvPicPr/>
          <p:nvPr/>
        </p:nvPicPr>
        <p:blipFill>
          <a:blip r:embed="rId2"/>
          <a:stretch/>
        </p:blipFill>
        <p:spPr>
          <a:xfrm>
            <a:off x="1116000" y="3860640"/>
            <a:ext cx="7523280" cy="289908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4"/>
          <p:cNvSpPr/>
          <p:nvPr/>
        </p:nvSpPr>
        <p:spPr>
          <a:xfrm>
            <a:off x="3132000" y="620640"/>
            <a:ext cx="331308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Arial"/>
                <a:ea typeface="Adobe 宋体 Std L"/>
              </a:rPr>
              <a:t>回家的路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WPS2"/>
          <p:cNvPicPr/>
          <p:nvPr/>
        </p:nvPicPr>
        <p:blipFill>
          <a:blip r:embed="rId1"/>
          <a:srcRect l="15163" t="11597" r="31634" b="12738"/>
          <a:stretch/>
        </p:blipFill>
        <p:spPr>
          <a:xfrm>
            <a:off x="38160" y="1440"/>
            <a:ext cx="1800000" cy="68724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3" descr="WPS"/>
          <p:cNvPicPr/>
          <p:nvPr/>
        </p:nvPicPr>
        <p:blipFill>
          <a:blip r:embed="rId2"/>
          <a:srcRect l="4680" t="0" r="1928" b="12692"/>
          <a:stretch/>
        </p:blipFill>
        <p:spPr>
          <a:xfrm>
            <a:off x="5292720" y="4869000"/>
            <a:ext cx="3753000" cy="182700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4"/>
          <p:cNvSpPr/>
          <p:nvPr/>
        </p:nvSpPr>
        <p:spPr>
          <a:xfrm>
            <a:off x="2122920" y="404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目录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WPS3"/>
          <p:cNvPicPr/>
          <p:nvPr/>
        </p:nvPicPr>
        <p:blipFill>
          <a:blip r:embed="rId1"/>
          <a:srcRect l="34610" t="60244" r="10491" b="13076"/>
          <a:stretch/>
        </p:blipFill>
        <p:spPr>
          <a:xfrm>
            <a:off x="1476360" y="3960720"/>
            <a:ext cx="6335640" cy="28656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3" descr="WPS3"/>
          <p:cNvPicPr/>
          <p:nvPr/>
        </p:nvPicPr>
        <p:blipFill>
          <a:blip r:embed="rId2"/>
          <a:srcRect l="20585" t="20112" r="63085" b="60929"/>
          <a:stretch/>
        </p:blipFill>
        <p:spPr>
          <a:xfrm>
            <a:off x="55440" y="52560"/>
            <a:ext cx="21402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WPS2"/>
          <p:cNvPicPr/>
          <p:nvPr/>
        </p:nvPicPr>
        <p:blipFill>
          <a:blip r:embed="rId1"/>
          <a:srcRect l="15163" t="11597" r="31634" b="12738"/>
          <a:stretch/>
        </p:blipFill>
        <p:spPr>
          <a:xfrm>
            <a:off x="38160" y="1440"/>
            <a:ext cx="1800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WPS3"/>
          <p:cNvPicPr/>
          <p:nvPr/>
        </p:nvPicPr>
        <p:blipFill>
          <a:blip r:embed="rId1"/>
          <a:srcRect l="52025" t="16761" r="24325" b="50464"/>
          <a:stretch/>
        </p:blipFill>
        <p:spPr>
          <a:xfrm>
            <a:off x="6135840" y="2924280"/>
            <a:ext cx="2916000" cy="376056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3"/>
          <p:cNvSpPr/>
          <p:nvPr/>
        </p:nvSpPr>
        <p:spPr>
          <a:xfrm>
            <a:off x="3278160" y="1004760"/>
            <a:ext cx="100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ffff"/>
                </a:solidFill>
                <a:latin typeface="Arial"/>
              </a:rPr>
              <a:t>谢谢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4286160" y="2492280"/>
            <a:ext cx="114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ffff"/>
                </a:solidFill>
                <a:latin typeface="Arial"/>
              </a:rPr>
              <a:t>观赏</a:t>
            </a:r>
            <a:endParaRPr b="0" i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8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31T04:36:53Z</dcterms:modified>
  <cp:revision>1</cp:revision>
  <dc:subject/>
  <dc:title>PowerPoint 演示文稿</dc:title>
</cp:coreProperties>
</file>