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00098-8832-455B-AAAB-5AE853670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E6F95-046E-47D0-94B2-615BCB91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74514-E493-4270-8206-5784B118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1AFCA-0812-45EF-9CAA-4A4D37A7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A5931-279B-4864-B572-2EAFE622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733714-2EDD-458C-BB2B-1F765A12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6D65C-1FDB-42F7-9BBA-FC54E911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4604A3-BEDF-4137-86F0-CC80EDD0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C41CB-1862-4B1B-9467-6FDF19E9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095E6-0A83-4286-A190-470AF67B8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E30AC-7A9D-419A-814D-549F7DFC7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80A499-8A53-4B37-BDFB-63399D507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BB940-FFDA-406A-AE1C-8BA240C6C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42168E-6954-48EA-8F58-A9A5EFD7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0E0ECD-4F65-4431-B839-733FFFD8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1B5AE2-2A03-49EB-A0C6-143A3896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1FFE78-3257-4819-BB7C-B7BC4F65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5D2DF7-2B20-4F68-B8AE-E61FF2AF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05432-FEEE-4E17-BF1F-0B2415DA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572A18-01D7-48D1-A84A-5F774873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842E9-86AC-4F25-A7AE-FD401BC3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93082-DE8D-482E-BA45-BB00DD83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A27156-AE05-43E4-AF92-071D6B5DA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04A22-4CF2-4468-8460-475FFCF22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18ED69-45DE-4836-BBD2-81D0A5CF3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8A922-6711-4E3C-979E-72B15D6F9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36398-95F9-467A-9D2B-1FA68F03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A5056-81AB-4C6A-9146-434DB7B5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9A817-4C86-4F3F-933D-7E82A23B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9129A-355D-483B-8897-DC41D9F7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435EE-2910-45C5-951A-1678BC66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FA25A-8598-4B0E-959F-7B7D1251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C6546-FD8D-4151-BF69-72460A36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797CF-DC40-4683-8985-150A5CFD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EFC7-9D5C-4815-AEBC-3726D6BAA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16152-23B5-4C98-A4BA-2B887126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1F6B8-4541-4F63-93FE-AB2788C89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73A6F-CD46-4C12-BAB9-63F326307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6C0578-238F-441F-A707-CEDDCA123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06A294-FA46-4F1F-8816-39DFD2DE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18A18-189E-4A54-8B2C-57C01652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BB572E-FB17-400C-A970-F202979D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80E7D0-4DD6-4682-8501-6E63C57B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A38DC7-BD8C-4BFA-99C4-513F5F45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0727BC-DFB0-441F-A3EE-61A986C3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CCC5-A08A-47B7-AE6B-9233C591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683AAF-1EF4-4864-A896-AF005794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FB09CC-A22B-4434-A164-F31E8F21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CED028-6ADB-456B-941F-89E3D75D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9DD0D-72C8-4A04-886D-804343676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48F82E-DC55-441A-8427-99F935126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62D7C6-650D-49ED-95EB-BD686B392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B9FBA7-5BAD-4865-B6C8-08146B49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02B51D-5E70-42CD-8AE1-70097C28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60BD22-E714-403A-8FA2-FBEDBC77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B95359-BAF5-477F-AAA6-7C833836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6101-D5BF-49F1-B2D2-1854DB7C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AD32B9-E004-424E-A925-581AD001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38738E-118D-485E-B454-6AAE59B6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241946-0AE5-4B2D-B72C-9BB90579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6AA7DA-7A17-490A-8568-500EF92D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017516-8368-4C00-8F60-31347068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44827B-E3EE-49F4-B628-32158E24C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B8FC0B-52D2-4E42-AB44-8AB141268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89FEC6-B8DB-42BD-B145-F4225E06D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99B2AA-EC89-42C6-8DDD-24577CC2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544987-74F4-40EA-83A5-50432E68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78F5-0BB9-413E-A28C-C79846D3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9AB135-8FC8-427D-AD86-2CC6E37B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D8FD19-BD77-4C31-9550-6A0F8921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DB1122-D83A-4E56-AED3-6EBD0C4F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13A263-A5AA-4722-B943-39C020D4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27DD75-CD6F-4B12-BCDE-B13F0EB1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7C2706-44D7-4740-A073-AF28812A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2341DD-43A4-4BCB-B5F9-301F10CF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026D92-D711-4113-8B2F-AE188BC3A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4F0C32-5C5C-43F1-ACC2-65DBE07C2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4A8531-F9A3-451D-A54D-746415386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1B2E-282C-4DBB-9E8A-8C2ED8AD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D4E994-439A-4274-838C-B96F2DCD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D6D1B1-9DAB-4698-9BE9-08F7BDA3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9C8706-7AEC-4B71-9913-5E5432FF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ED15B2-C85D-43E1-8A12-379C6CBE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9F7188-4044-4583-8B4C-61A4682C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052D0F-D40A-40D8-A0BF-42B584CD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B01E3B-3F02-473C-84E4-8A0487EA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687D96-8188-4814-8731-1E2A4B4D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628A9D-AFB9-47F6-959E-20DBDECE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2565F8-C166-47B9-A2A1-873A95561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BD77-B543-4843-9841-28A3906B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166CDB-1E5B-4B31-9B0A-FDFE3B874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07B4-D348-43C9-9A59-2EC3ADD9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F7674-FC94-4BE9-AFC9-2678DD8F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6DA3-CD20-44AF-8A9C-3E1EAA64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18BF-4A03-4EC6-BB95-C8AAFBEB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ACB1-CF49-462F-A387-9DBC698B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4776-D7A0-4AE5-9D37-DC3677D4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28A1-4F7F-476F-8A79-3EB8EF457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ED97B-78E4-4EBC-8673-6CFE9896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E23AA-89BB-48D7-95BF-B6F3211F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4318D-6582-401C-8BEA-D43E70B5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F5FCB-236B-44F1-98C9-48516BD1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8368E-A4E6-42BA-90A4-D7304623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F1CDB-A577-4C48-8E50-F4EC9F26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BE922-42D7-42E9-856C-27758A92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AEF1F-0660-4625-A90C-02FB0ABF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396E2-5C6D-41B7-9F1C-6580004F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4EE98-8A79-4EC7-9EF2-C529EBB8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84A1F-9789-4845-8BE7-282254D7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241AE-66C9-4E7B-B02D-FB79CD3F1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574AB-8E7C-45AE-8D36-17C3DD9BA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A6DAD-5FE8-4984-B5E6-5D8EB92D8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2366C-FCF3-4FD2-80D8-D506ACF9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EAEE0-CA71-4EBC-8163-16245B21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4E415-CC4C-415A-9FD7-D9853CED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CF3D2-6FB1-4628-9B0A-98643C0D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30F41-8310-44D0-B5F8-89C937DB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2911A-686A-4297-8890-0D783908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4AB27-A170-4F2E-BD66-81236449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156DB-9FF4-46CB-AE33-FB6455EE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75574-8B00-4A46-BD44-1A2F3A7B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03BAD-01BF-43ED-89B9-01E7D303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9200E-406B-4ED7-B518-84C8778B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40BC9-D566-4C3E-B140-4B42DA671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6FC5E-F4D4-44AF-8EF1-8247E65BD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C47B6-4191-4FB0-8C2F-8D18D145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5BE25-D4CF-446B-81AF-74CEA55C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B2DCC-0F8B-4C40-939F-3642D103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CAF91-77BF-4700-804F-0CDCF95F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A0538-57B0-4247-9FA8-55680AAE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C795C-0BD6-4478-985D-F8C2B295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BD069-5B2B-4CD6-BF88-A1357F82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40782-FD86-47F6-B2FA-0C41C7EF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C0514-9604-4062-903A-99E47456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215C0-B07C-4A60-A50C-625F8259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B7A85-2377-4189-8871-AAEE5BB2D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5B48E-1D33-4FCE-AB2F-8CE22810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E9953-30F9-437C-AB68-B67F34082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A18C2-D806-4A24-BDE9-F33AA0A78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5D19D-9135-4F02-B420-3A9F598A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D2509-4B48-4DB6-ABAA-5189B57C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4CE6C-11A7-4C61-A6BB-EBBBA95A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D3100-78E2-4884-91DE-F70A97C6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3D607-FE1D-476E-A7A9-8BF89B23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F2A18-8631-4CF7-853A-B2D33CC9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A7F54-7C3D-4115-888F-1209F386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CF08B-FD2F-44A9-8689-1240EAD8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39CB6-5F19-485A-82E0-17F7849C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C40F6-911E-4ACF-925E-6F523E54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B9898-1DEB-42FD-AB10-057EFBA16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5086F-6609-4BF3-A878-F73689045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BC137-5F82-42FE-9F1A-B09FAFD43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84D08-61B1-45ED-A09F-5FF84341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97B13-7A9C-4CEF-BC98-543B90B7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45E93-10AB-4D89-A8FC-FF864272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4ADDB-28E1-4EC3-9EC1-45811EF1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5D7D6-3656-409D-A1BC-9A4E04D2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7AA8D-D4D0-4D7D-9CE3-2370F867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DDE93-69A4-41B0-BE18-2B2FB007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A6B6A-6AE5-4785-9B0B-DBDA54B4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B1623-67E7-438F-BB1F-EA97849C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99183-9CAD-43DB-9BF7-3DD236AB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7F003-8F0C-4D2E-A3A1-9DBAF6F58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7A3F6-4D10-454B-B3BD-B8031E91D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86E5A-D2E0-4455-9D54-74D0F8398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DCCDF-896A-454A-A161-BBC006A0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54BA8-F248-4515-B361-FFF2CAA5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02446-AC81-4F90-BC3D-9DE0203B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6F675-27D0-4385-AA8C-026ADE32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A14D7-108C-4F96-9E8C-46CDE752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AFACE-9B13-401E-985E-B55D7863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4AB9E-F0D2-40A6-9E5F-674486A0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59474-EB30-49A6-8FB0-35C616B2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A442B-99C9-41B2-9C15-8E83FCFA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61714-B20E-42AA-9204-19DD4D1D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1EABF-40EC-489E-8E33-77A4A3BC3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0CA28-B063-47D3-8F23-F36B3DF4D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2B253-5E45-4776-83AC-BCC8D56FD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568878-2475-486C-97D5-9EE2EA69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322918-D483-4F9D-8CBB-C5E0A0F3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5711-85B1-45A1-AA6E-CA14787F2F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600"/>
                <a:ext cx="4575240" cy="265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440"/>
                <a:ext cx="1998360" cy="12873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480"/>
                <a:ext cx="1981080" cy="85536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EBAC-9B17-42C1-A16B-97811DD30D0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F0D1-CF94-45DC-AE28-5057DB3E61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0AFC-DB45-4C7D-B9DD-1904BAD318B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C676-8713-49E1-894B-A3E3A9B80D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122B-917A-4066-9BA9-C5EFB6504E4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D14B-2860-43C5-B620-3BC43516B9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39A7-5A61-4393-92B9-7A322C9B3C8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4CD9-8B52-4813-8941-1A3DE7D0FD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9734-8C97-44AE-9E6D-7AD32328C7D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4E59-E54C-4801-BDAE-F4AFC45C84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3CCC-E136-4CE5-8225-EFC5F7DE83F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1120-1124-453F-AE1F-7E698229FA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600"/>
                <a:ext cx="4575240" cy="265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440"/>
                <a:ext cx="1998360" cy="12873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480"/>
                <a:ext cx="1981080" cy="85536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6980-A28F-4859-AE97-2DD21DF35D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2" name="Freeform 4"/>
              <p:cNvSpPr/>
              <p:nvPr/>
            </p:nvSpPr>
            <p:spPr>
              <a:xfrm>
                <a:off x="2743200" y="4197600"/>
                <a:ext cx="4575240" cy="265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3" name="Freeform 5"/>
              <p:cNvSpPr/>
              <p:nvPr/>
            </p:nvSpPr>
            <p:spPr>
              <a:xfrm>
                <a:off x="6620040" y="4240440"/>
                <a:ext cx="1998360" cy="12873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6" name="Freeform 8"/>
              <p:cNvSpPr/>
              <p:nvPr/>
            </p:nvSpPr>
            <p:spPr>
              <a:xfrm>
                <a:off x="7145280" y="3678480"/>
                <a:ext cx="1981080" cy="85536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0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8FA2-EF7F-4684-9757-C4DD1C4C98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FC1A-21FC-455B-AC1B-0B05CE46496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C311-0A6D-4BC7-BB76-AC9BDD1178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9EC1-EAF7-418B-BDC6-A6DE40121D3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2D97-D683-4A4E-A3C2-CD99C27355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413F-6BAA-4469-A3A4-3656FABF9C9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BB0A-C1D1-4A36-BD17-58FBB7D00C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1DED-2103-4911-86CC-C7F1F318AB9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AEBC-C7B3-4562-93F5-C0C1EE498C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F881-D1B5-41AE-9388-B1E6F12172D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F159-57B5-4C1D-8732-DD9624D0A6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C6FA-596D-4CD0-9372-BC8CA648C09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D82D-F3EC-4D92-9C27-6762F7D6F6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2"/>
          <p:cNvSpPr/>
          <p:nvPr/>
        </p:nvSpPr>
        <p:spPr>
          <a:xfrm>
            <a:off x="5638680" y="2341440"/>
            <a:ext cx="3505320" cy="4516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吴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**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珠海理工学校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43" name="Picture 3" descr="unit2_c"/>
          <p:cNvPicPr/>
          <p:nvPr/>
        </p:nvPicPr>
        <p:blipFill>
          <a:blip r:embed="rId1"/>
          <a:stretch/>
        </p:blipFill>
        <p:spPr>
          <a:xfrm>
            <a:off x="0" y="2341440"/>
            <a:ext cx="5802480" cy="4496040"/>
          </a:xfrm>
          <a:prstGeom prst="rect">
            <a:avLst/>
          </a:prstGeom>
          <a:ln w="0">
            <a:noFill/>
          </a:ln>
        </p:spPr>
      </p:pic>
      <p:sp>
        <p:nvSpPr>
          <p:cNvPr id="644" name="Text Box 4"/>
          <p:cNvSpPr/>
          <p:nvPr/>
        </p:nvSpPr>
        <p:spPr>
          <a:xfrm>
            <a:off x="1889280" y="3983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144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6"/>
          <p:cNvSpPr/>
          <p:nvPr/>
        </p:nvSpPr>
        <p:spPr>
          <a:xfrm>
            <a:off x="380880" y="60948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微软雅黑"/>
              </a:rPr>
              <a:t>资产负债表填列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【</a:t>
            </a: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例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2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】</a:t>
            </a: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以下报表中反映企业经营成果的会计要素是（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    </a:t>
            </a: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）</a:t>
            </a: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、收入、费用和利润</a:t>
            </a: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B</a:t>
            </a: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、资产、负债和所有者权益</a:t>
            </a: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C</a:t>
            </a: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、收入、资产和负债</a:t>
            </a: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D</a:t>
            </a: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、资产、负债和利润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9" name="文本框 2"/>
          <p:cNvSpPr/>
          <p:nvPr/>
        </p:nvSpPr>
        <p:spPr>
          <a:xfrm>
            <a:off x="1143000" y="1552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04920" y="14292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5e5ff"/>
                </a:solidFill>
                <a:latin typeface="Garamond"/>
                <a:ea typeface="微软雅黑"/>
              </a:rPr>
              <a:t>二、编制基本方法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1" name="文本框 6"/>
          <p:cNvSpPr/>
          <p:nvPr/>
        </p:nvSpPr>
        <p:spPr>
          <a:xfrm>
            <a:off x="609480" y="2063880"/>
            <a:ext cx="830592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几个总账账户的期末余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根据有关总账所属的明细账的期末余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根据有关总账和明细账的期末余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根据有关资产类账户与其备抵账户抵消后的净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zh-CN" sz="5400" spc="-1" strike="noStrike">
                <a:solidFill>
                  <a:srgbClr val="e5e5ff"/>
                </a:solidFill>
                <a:latin typeface="Garamond"/>
                <a:ea typeface="微软雅黑"/>
              </a:rPr>
              <a:t>直接填列，看总账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除了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2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个特殊的以外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5e5ff"/>
                </a:solidFill>
                <a:latin typeface="Garamond"/>
                <a:ea typeface="微软雅黑"/>
              </a:rPr>
              <a:t>几个总账，无科目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75960" y="1600200"/>
            <a:ext cx="8839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货币资金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库存现金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银行存款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其他货币资金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71360" indent="-171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71360" indent="-17136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存货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材料采购（在途物资）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原材料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库存商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品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生产成本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周转材料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委托加工物资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材料成本差异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发出商品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存货跌价准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【</a:t>
            </a:r>
            <a:r>
              <a:rPr b="1" lang="zh-CN" sz="3200" spc="-1" strike="noStrike">
                <a:solidFill>
                  <a:srgbClr val="e5e5ff"/>
                </a:solidFill>
                <a:latin typeface="Garamond"/>
              </a:rPr>
              <a:t>例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3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】 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(</a:t>
            </a:r>
            <a:r>
              <a:rPr b="1" lang="zh-CN" sz="3200" spc="-1" strike="noStrike">
                <a:solidFill>
                  <a:srgbClr val="e5e5ff"/>
                </a:solidFill>
                <a:latin typeface="Garamond"/>
              </a:rPr>
              <a:t>多选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)</a:t>
            </a:r>
            <a:r>
              <a:rPr b="1" lang="zh-CN" sz="3200" spc="-1" strike="noStrike">
                <a:solidFill>
                  <a:srgbClr val="e5e5ff"/>
                </a:solidFill>
                <a:latin typeface="Garamond"/>
              </a:rPr>
              <a:t>资产负债表中的“存货”项目直接根据（ 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  </a:t>
            </a:r>
            <a:r>
              <a:rPr b="1" lang="zh-CN" sz="3200" spc="-1" strike="noStrike">
                <a:solidFill>
                  <a:srgbClr val="e5e5ff"/>
                </a:solidFill>
                <a:latin typeface="Garamond"/>
              </a:rPr>
              <a:t>　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 </a:t>
            </a:r>
            <a:r>
              <a:rPr b="1" lang="zh-CN" sz="3200" spc="-1" strike="noStrike">
                <a:solidFill>
                  <a:srgbClr val="e5e5ff"/>
                </a:solidFill>
                <a:latin typeface="Garamond"/>
              </a:rPr>
              <a:t>）账户的期末余额合计数填列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A.</a:t>
            </a:r>
            <a:r>
              <a:rPr b="1" lang="zh-CN" sz="3200" spc="-1" strike="noStrike">
                <a:solidFill>
                  <a:srgbClr val="e5e5ff"/>
                </a:solidFill>
                <a:latin typeface="Garamond"/>
              </a:rPr>
              <a:t>材料采购　　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B.</a:t>
            </a:r>
            <a:r>
              <a:rPr b="1" lang="zh-CN" sz="3200" spc="-1" strike="noStrike">
                <a:solidFill>
                  <a:srgbClr val="e5e5ff"/>
                </a:solidFill>
                <a:latin typeface="Garamond"/>
              </a:rPr>
              <a:t>产成品　　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.</a:t>
            </a:r>
            <a:r>
              <a:rPr b="1" lang="zh-CN" sz="3200" spc="-1" strike="noStrike">
                <a:solidFill>
                  <a:srgbClr val="e5e5ff"/>
                </a:solidFill>
                <a:latin typeface="Garamond"/>
              </a:rPr>
              <a:t>材料　　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D.</a:t>
            </a:r>
            <a:r>
              <a:rPr b="1" lang="zh-CN" sz="3200" spc="-1" strike="noStrike">
                <a:solidFill>
                  <a:srgbClr val="e5e5ff"/>
                </a:solidFill>
                <a:latin typeface="Garamond"/>
              </a:rPr>
              <a:t>制造费用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7" name="文本框 1"/>
          <p:cNvSpPr/>
          <p:nvPr/>
        </p:nvSpPr>
        <p:spPr>
          <a:xfrm>
            <a:off x="2666880" y="17524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ABC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例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】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企业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12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年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月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1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日结账后的库存现金科目余额为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 000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元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银行存款科目余额为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 000 000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元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其他货币资金”科目余额为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 000 000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元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请问货币资金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？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9" name="AutoShape 3"/>
          <p:cNvSpPr/>
          <p:nvPr/>
        </p:nvSpPr>
        <p:spPr>
          <a:xfrm rot="10800000">
            <a:off x="609120" y="4343040"/>
            <a:ext cx="6705720" cy="1676520"/>
          </a:xfrm>
          <a:prstGeom prst="cloudCallout">
            <a:avLst>
              <a:gd name="adj1" fmla="val -9662"/>
              <a:gd name="adj2" fmla="val 7547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0" name="Text Box 4"/>
          <p:cNvSpPr/>
          <p:nvPr/>
        </p:nvSpPr>
        <p:spPr>
          <a:xfrm>
            <a:off x="1295280" y="4708440"/>
            <a:ext cx="6248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=10 000+4 000 000+1 000 00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=5 010 00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zh-CN" sz="5400" spc="-1" strike="noStrike">
                <a:solidFill>
                  <a:srgbClr val="e5e5ff"/>
                </a:solidFill>
                <a:latin typeface="Garamond"/>
                <a:ea typeface="微软雅黑"/>
              </a:rPr>
              <a:t>直接填列，看总账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除了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2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个特殊的以外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5e5ff"/>
                </a:solidFill>
                <a:latin typeface="Garamond"/>
                <a:ea typeface="微软雅黑"/>
              </a:rPr>
              <a:t>只看明细，有四个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应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收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账款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应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收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账款明细账</a:t>
            </a:r>
            <a:r>
              <a:rPr b="1" lang="zh-CN" sz="3200" spc="-1" strike="noStrike">
                <a:solidFill>
                  <a:srgbClr val="ffff00"/>
                </a:solidFill>
                <a:latin typeface="Garamond"/>
              </a:rPr>
              <a:t>借方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余额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预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收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账款明细账</a:t>
            </a:r>
            <a:r>
              <a:rPr b="1" lang="zh-CN" sz="3200" spc="-1" strike="noStrike">
                <a:solidFill>
                  <a:srgbClr val="ffff00"/>
                </a:solidFill>
                <a:latin typeface="Garamond"/>
              </a:rPr>
              <a:t>借方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余额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坏账准备的余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预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收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账款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预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收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账款明细账</a:t>
            </a:r>
            <a:r>
              <a:rPr b="1" lang="zh-CN" sz="3200" spc="-1" strike="noStrike">
                <a:solidFill>
                  <a:srgbClr val="ffff00"/>
                </a:solidFill>
                <a:latin typeface="Garamond"/>
              </a:rPr>
              <a:t>贷方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余额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应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收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账款明细账</a:t>
            </a:r>
            <a:r>
              <a:rPr b="1" lang="zh-CN" sz="3200" spc="-1" strike="noStrike">
                <a:solidFill>
                  <a:srgbClr val="ffff00"/>
                </a:solidFill>
                <a:latin typeface="Garamond"/>
              </a:rPr>
              <a:t>贷方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余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2"/>
          <p:cNvSpPr/>
          <p:nvPr/>
        </p:nvSpPr>
        <p:spPr>
          <a:xfrm>
            <a:off x="380880" y="68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5e5ff"/>
                </a:solidFill>
                <a:latin typeface="Garamond"/>
                <a:ea typeface="微软雅黑"/>
              </a:rPr>
              <a:t>只看明细，有四个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6" name="文本框 2"/>
          <p:cNvSpPr/>
          <p:nvPr/>
        </p:nvSpPr>
        <p:spPr>
          <a:xfrm>
            <a:off x="838080" y="167652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应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付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账款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应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付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账款明细账</a:t>
            </a:r>
            <a:r>
              <a:rPr b="1" lang="zh-CN" sz="3200" spc="-1" strike="noStrike">
                <a:solidFill>
                  <a:srgbClr val="ffff00"/>
                </a:solidFill>
                <a:latin typeface="Garamond"/>
              </a:rPr>
              <a:t>贷方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余额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预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付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账款明细账</a:t>
            </a:r>
            <a:r>
              <a:rPr b="1" lang="zh-CN" sz="3200" spc="-1" strike="noStrike">
                <a:solidFill>
                  <a:srgbClr val="ffff00"/>
                </a:solidFill>
                <a:latin typeface="Garamond"/>
              </a:rPr>
              <a:t>贷方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余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预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付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账款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预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付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账款明细账</a:t>
            </a:r>
            <a:r>
              <a:rPr b="1" lang="zh-CN" sz="3200" spc="-1" strike="noStrike">
                <a:solidFill>
                  <a:srgbClr val="ffff00"/>
                </a:solidFill>
                <a:latin typeface="Garamond"/>
              </a:rPr>
              <a:t>借方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余额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应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付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账款明细账</a:t>
            </a:r>
            <a:r>
              <a:rPr b="1" lang="zh-CN" sz="3200" spc="-1" strike="noStrike">
                <a:solidFill>
                  <a:srgbClr val="ffff00"/>
                </a:solidFill>
                <a:latin typeface="Garamond"/>
              </a:rPr>
              <a:t>借方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余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e5e5ff"/>
                </a:solidFill>
                <a:latin typeface="Garamond"/>
              </a:rPr>
              <a:t>【</a:t>
            </a:r>
            <a:r>
              <a:rPr b="0" lang="zh-CN" sz="3600" spc="-1" strike="noStrike">
                <a:solidFill>
                  <a:srgbClr val="e5e5ff"/>
                </a:solidFill>
                <a:latin typeface="Garamond"/>
              </a:rPr>
              <a:t>例</a:t>
            </a:r>
            <a:r>
              <a:rPr b="0" lang="en-US" sz="3600" spc="-1" strike="noStrike">
                <a:solidFill>
                  <a:srgbClr val="e5e5ff"/>
                </a:solidFill>
                <a:latin typeface="Garamond"/>
              </a:rPr>
              <a:t>4</a:t>
            </a:r>
            <a:r>
              <a:rPr b="0" lang="en-US" sz="3600" spc="-1" strike="noStrike">
                <a:solidFill>
                  <a:srgbClr val="e5e5ff"/>
                </a:solidFill>
                <a:latin typeface="Garamond"/>
              </a:rPr>
              <a:t>】</a:t>
            </a:r>
            <a:r>
              <a:rPr b="1" lang="zh-CN" sz="3200" spc="-1" strike="noStrike">
                <a:solidFill>
                  <a:srgbClr val="e5e5ff"/>
                </a:solidFill>
                <a:latin typeface="Garamond"/>
              </a:rPr>
              <a:t>应收账款总账科目余额为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350000</a:t>
            </a:r>
            <a:r>
              <a:rPr b="1" lang="zh-CN" sz="3200" spc="-1" strike="noStrike">
                <a:solidFill>
                  <a:srgbClr val="e5e5ff"/>
                </a:solidFill>
                <a:latin typeface="Garamond"/>
              </a:rPr>
              <a:t>元 但其明细账有贷方余额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10000</a:t>
            </a:r>
            <a:r>
              <a:rPr b="1" lang="zh-CN" sz="3200" spc="-1" strike="noStrike">
                <a:solidFill>
                  <a:srgbClr val="e5e5ff"/>
                </a:solidFill>
                <a:latin typeface="Garamond"/>
              </a:rPr>
              <a:t>元 预收账款明细账有借方余额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8000</a:t>
            </a:r>
            <a:r>
              <a:rPr b="1" lang="zh-CN" sz="3200" spc="-1" strike="noStrike">
                <a:solidFill>
                  <a:srgbClr val="e5e5ff"/>
                </a:solidFill>
                <a:latin typeface="Garamond"/>
              </a:rPr>
              <a:t>，则在资产负债表中，应收账款项目应列示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368 000</a:t>
            </a:r>
            <a:r>
              <a:rPr b="1" lang="zh-CN" sz="3200" spc="-1" strike="noStrike">
                <a:solidFill>
                  <a:srgbClr val="e5e5ff"/>
                </a:solidFill>
                <a:latin typeface="Garamond"/>
              </a:rPr>
              <a:t>元。（    ）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8" name="文本框 2"/>
          <p:cNvSpPr/>
          <p:nvPr/>
        </p:nvSpPr>
        <p:spPr>
          <a:xfrm>
            <a:off x="6858000" y="33526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√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微软雅黑"/>
              </a:rPr>
              <a:t>一、资产负债表的基本概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1320840" y="2036880"/>
            <a:ext cx="111744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概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9" name="副标题 2"/>
          <p:cNvSpPr/>
          <p:nvPr/>
        </p:nvSpPr>
        <p:spPr>
          <a:xfrm>
            <a:off x="1295280" y="4883040"/>
            <a:ext cx="64008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资产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负债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所有者权益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0" name="矩形 4"/>
          <p:cNvSpPr/>
          <p:nvPr/>
        </p:nvSpPr>
        <p:spPr>
          <a:xfrm>
            <a:off x="1314360" y="2705040"/>
            <a:ext cx="660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反映企业某一特定日期财务状况的会计报表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1" name="副标题 2"/>
          <p:cNvSpPr/>
          <p:nvPr/>
        </p:nvSpPr>
        <p:spPr>
          <a:xfrm>
            <a:off x="1314360" y="4049640"/>
            <a:ext cx="373392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编制原理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2" name="AutoShape 7"/>
          <p:cNvSpPr/>
          <p:nvPr/>
        </p:nvSpPr>
        <p:spPr>
          <a:xfrm>
            <a:off x="4724280" y="3657600"/>
            <a:ext cx="3733920" cy="114300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3" name="Text Box 8"/>
          <p:cNvSpPr/>
          <p:nvPr/>
        </p:nvSpPr>
        <p:spPr>
          <a:xfrm>
            <a:off x="4876920" y="3962520"/>
            <a:ext cx="342900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Garamond"/>
              </a:rPr>
              <a:t>报表的左边等于右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4" name="Picture 9" descr="奔跑 小朋友"/>
          <p:cNvPicPr/>
          <p:nvPr/>
        </p:nvPicPr>
        <p:blipFill>
          <a:blip r:embed="rId1"/>
          <a:stretch/>
        </p:blipFill>
        <p:spPr>
          <a:xfrm>
            <a:off x="0" y="6191280"/>
            <a:ext cx="2019240" cy="133344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0" descr="奔跑 小朋友"/>
          <p:cNvPicPr/>
          <p:nvPr/>
        </p:nvPicPr>
        <p:blipFill>
          <a:blip r:embed="rId2"/>
          <a:stretch/>
        </p:blipFill>
        <p:spPr>
          <a:xfrm>
            <a:off x="5943600" y="6191280"/>
            <a:ext cx="2019240" cy="133344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1" descr="奔跑 小朋友"/>
          <p:cNvPicPr/>
          <p:nvPr/>
        </p:nvPicPr>
        <p:blipFill>
          <a:blip r:embed="rId3"/>
          <a:stretch/>
        </p:blipFill>
        <p:spPr>
          <a:xfrm>
            <a:off x="3962520" y="6191280"/>
            <a:ext cx="2019240" cy="133344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12" descr="奔跑 小朋友"/>
          <p:cNvPicPr/>
          <p:nvPr/>
        </p:nvPicPr>
        <p:blipFill>
          <a:blip r:embed="rId4"/>
          <a:stretch/>
        </p:blipFill>
        <p:spPr>
          <a:xfrm>
            <a:off x="1981080" y="6191280"/>
            <a:ext cx="2019600" cy="133344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13" descr="奔跑 小朋友"/>
          <p:cNvPicPr/>
          <p:nvPr/>
        </p:nvPicPr>
        <p:blipFill>
          <a:blip r:embed="rId5"/>
          <a:stretch/>
        </p:blipFill>
        <p:spPr>
          <a:xfrm>
            <a:off x="7924680" y="6191280"/>
            <a:ext cx="201960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3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【</a:t>
            </a:r>
            <a:r>
              <a:rPr b="1" lang="zh-CN" sz="2400" spc="-1" strike="noStrike">
                <a:solidFill>
                  <a:srgbClr val="e5e5ff"/>
                </a:solidFill>
                <a:latin typeface="Garamond"/>
              </a:rPr>
              <a:t>例</a:t>
            </a: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5</a:t>
            </a: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】</a:t>
            </a:r>
            <a:r>
              <a:rPr b="1" lang="zh-CN" sz="2400" spc="-1" strike="noStrike">
                <a:solidFill>
                  <a:srgbClr val="e5e5ff"/>
                </a:solidFill>
                <a:latin typeface="Garamond"/>
              </a:rPr>
              <a:t>如果账户余额如下表：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850" name=""/>
          <p:cNvGraphicFramePr/>
          <p:nvPr/>
        </p:nvGraphicFramePr>
        <p:xfrm>
          <a:off x="1295280" y="1371600"/>
          <a:ext cx="6858000" cy="3086280"/>
        </p:xfrm>
        <a:graphic>
          <a:graphicData uri="http://schemas.openxmlformats.org/drawingml/2006/table">
            <a:tbl>
              <a:tblPr/>
              <a:tblGrid>
                <a:gridCol w="1716120"/>
                <a:gridCol w="1712880"/>
                <a:gridCol w="1676520"/>
                <a:gridCol w="1752480"/>
              </a:tblGrid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账　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借方明细账余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贷方明细账余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坏账准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应收账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预付账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应付账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预收账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1" name="Text Box 35"/>
          <p:cNvSpPr/>
          <p:nvPr/>
        </p:nvSpPr>
        <p:spPr>
          <a:xfrm>
            <a:off x="457200" y="466236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e5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e5e5ff"/>
                </a:solidFill>
                <a:latin typeface="宋体"/>
              </a:rPr>
              <a:t>请问资产负债表应收账款、预付账款、应付账款、预收账款应怎么填列？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5e5ff"/>
                </a:solidFill>
                <a:latin typeface="微软雅黑"/>
                <a:ea typeface="微软雅黑"/>
              </a:rPr>
              <a:t>看了总账，看明细</a:t>
            </a:r>
            <a:br>
              <a:rPr sz="4800"/>
            </a:br>
            <a:r>
              <a:rPr b="1" lang="zh-CN" sz="4800" spc="-1" strike="noStrike">
                <a:solidFill>
                  <a:srgbClr val="e5e5ff"/>
                </a:solidFill>
                <a:latin typeface="微软雅黑"/>
                <a:ea typeface="微软雅黑"/>
              </a:rPr>
              <a:t>就用自己，减自己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457200" y="243828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长期借款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长期借款总账余额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明细账中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年内到期的长期借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长期待摊费用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长期待摊费用总账余额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明细账中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年内的长期待摊费用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5e5ff"/>
                </a:solidFill>
                <a:latin typeface="Garamond"/>
                <a:ea typeface="微软雅黑"/>
              </a:rPr>
              <a:t>有备抵的，减备抵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533520" y="1905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存货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存货类账户总账余额之和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生产成本总账余额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存货跌价准备总账余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固定资产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固定资产总账余额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累计折旧总账余额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固定资产减值准备总账余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无形资产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无形资产总账余额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累计摊销总账余额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无形资产减值准备总账余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长期股权投资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长期股权投资总账余额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长期股权投资减值准备总账余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5e5ff"/>
                </a:solidFill>
                <a:latin typeface="Garamond"/>
                <a:ea typeface="微软雅黑"/>
              </a:rPr>
              <a:t>有备抵的，减备抵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文本框 1"/>
          <p:cNvSpPr/>
          <p:nvPr/>
        </p:nvSpPr>
        <p:spPr>
          <a:xfrm>
            <a:off x="457200" y="1676520"/>
            <a:ext cx="830592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【</a:t>
            </a:r>
            <a:r>
              <a:rPr b="1" lang="zh-CN" sz="3600" spc="-1" strike="noStrike">
                <a:solidFill>
                  <a:srgbClr val="e5e5ff"/>
                </a:solidFill>
                <a:latin typeface="Garamond"/>
              </a:rPr>
              <a:t>例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6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】 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（多选题）资产负债表下列各项目中，应根据有关科目余额减去备抵科目余额后的净额填列的有（           ）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　　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存货　　     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无形资产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　　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.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应收账款　　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长期股权投资</a:t>
            </a:r>
            <a:br>
              <a:rPr sz="18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9" name="文本框 2"/>
          <p:cNvSpPr/>
          <p:nvPr/>
        </p:nvSpPr>
        <p:spPr>
          <a:xfrm>
            <a:off x="6553080" y="31543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ABC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/>
          </p:nvPr>
        </p:nvSpPr>
        <p:spPr>
          <a:xfrm>
            <a:off x="228600" y="12193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　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例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】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原材料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 400 000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，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库存商品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为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 600 000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元，生产成本为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00 000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元，存货跌价准备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为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10 000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元（贷方） ，则存货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应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填列为多少？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1" name="AutoShape 3"/>
          <p:cNvSpPr/>
          <p:nvPr/>
        </p:nvSpPr>
        <p:spPr>
          <a:xfrm>
            <a:off x="685800" y="3581280"/>
            <a:ext cx="7238880" cy="1676520"/>
          </a:xfrm>
          <a:prstGeom prst="horizontalScroll">
            <a:avLst>
              <a:gd name="adj" fmla="val 125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2" name="Text Box 4"/>
          <p:cNvSpPr/>
          <p:nvPr/>
        </p:nvSpPr>
        <p:spPr>
          <a:xfrm>
            <a:off x="1219320" y="388620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存货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=2 400 000+1 600 000+600 000-210 00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=4 390 00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例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】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某企业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009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年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2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月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1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日“固定资产”科目余额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 000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万元，“累计折旧”科目余额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00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万元，“固定资产减值准备”科目余额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0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万元。该企业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009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年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2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月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1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日资产负债表“固定资产”的项目金额为（　）万元。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650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　　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700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　　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.950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　　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.1 00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4" name="Text Box 3"/>
          <p:cNvSpPr/>
          <p:nvPr/>
        </p:nvSpPr>
        <p:spPr>
          <a:xfrm>
            <a:off x="7010280" y="3154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微软雅黑"/>
              </a:rPr>
              <a:t>其他说明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一、未分配利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根据“本年利润”与“利润分配” 科目余额相加填列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负数用“一”号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关注借方与贷方余额。 借方表示负数，贷方表示正数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微软雅黑"/>
              </a:rPr>
              <a:t>练习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公司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12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年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2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月初有关账户余额如下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869" name=""/>
          <p:cNvGraphicFramePr/>
          <p:nvPr/>
        </p:nvGraphicFramePr>
        <p:xfrm>
          <a:off x="838080" y="2057400"/>
          <a:ext cx="7338960" cy="4525920"/>
        </p:xfrm>
        <a:graphic>
          <a:graphicData uri="http://schemas.openxmlformats.org/drawingml/2006/table">
            <a:tbl>
              <a:tblPr/>
              <a:tblGrid>
                <a:gridCol w="1847880"/>
                <a:gridCol w="1717560"/>
                <a:gridCol w="2055960"/>
                <a:gridCol w="1717560"/>
              </a:tblGrid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账户名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借方余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账户名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贷方余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库存现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累计折旧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银行存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应付账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应收账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8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应交税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库存商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8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短期借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固定资产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9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实收资本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0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长期股权投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7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未分配利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合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83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合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83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公司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2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月的业务如下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提取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00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块作备用金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采购商品一批。增值税专用发票上列示的价款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000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元，增值税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700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，货已入库，款未付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销售商品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00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件，每件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0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元，成本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0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元，增值税税率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7%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，款已收， 存入银行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从银行存款中归还短期借款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7000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元和本月借款利息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80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元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收到其他单位所欠货款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0000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元，存入银行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微软雅黑"/>
              </a:rPr>
              <a:t>一、资产负债表的基本概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流动资产包括哪些科目？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1" name="Rectangle 4"/>
          <p:cNvSpPr/>
          <p:nvPr/>
        </p:nvSpPr>
        <p:spPr>
          <a:xfrm>
            <a:off x="457200" y="29718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非流动资产包括哪些科目？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62" name="Picture 5" descr="思考2"/>
          <p:cNvPicPr/>
          <p:nvPr/>
        </p:nvPicPr>
        <p:blipFill>
          <a:blip r:embed="rId1"/>
          <a:stretch/>
        </p:blipFill>
        <p:spPr>
          <a:xfrm>
            <a:off x="5943600" y="1981080"/>
            <a:ext cx="3664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66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66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1000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6104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根据上述资料填列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公司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2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月末的资产负债表报表项目的余额：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货币资金（        ）元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9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应付账款（         ）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应收账款（        ）元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短期借款（         ）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存货（       ）元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1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应交税费（         ）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流动资产合计（      ）元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2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负债合计（          ）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固定资产（        ）元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3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未分配利润（           ）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6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长期股权（               ）元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4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所有者权益（           ）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7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非流动资产合计（    ）元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负债及所有合计（       ）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8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资产合计（             ）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/>
          </p:nvPr>
        </p:nvSpPr>
        <p:spPr>
          <a:xfrm>
            <a:off x="151920" y="-22320"/>
            <a:ext cx="8915400" cy="55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1 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货币资金（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200 820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）元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9 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应付账款（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91 700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）元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应收账款（ 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28 000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）元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10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短期借款（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10 000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）元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存货（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68 000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）元         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11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应交税费（ 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313 000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）元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流动资产合计（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296 820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）元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12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负债合计（ 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133 000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）元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5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固定资产（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416 000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）元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13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未分配利润（ 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66 820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）元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6 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长期股权（ 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87  000 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）元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14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所有者权益（ 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666 820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）元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7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非流动资产合计（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503 000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）元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15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负债及所有合计（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799 820 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）元  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8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资产合计（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799 820</a:t>
            </a:r>
            <a:r>
              <a:rPr b="0" lang="zh-CN" sz="2200" spc="-1" strike="noStrike">
                <a:solidFill>
                  <a:srgbClr val="ffffff"/>
                </a:solidFill>
                <a:latin typeface="Garamond"/>
              </a:rPr>
              <a:t>）元            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3" name=""/>
          <p:cNvSpPr/>
          <p:nvPr/>
        </p:nvSpPr>
        <p:spPr>
          <a:xfrm>
            <a:off x="6948360" y="6237360"/>
            <a:ext cx="2087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  <a:ea typeface="黑体"/>
              </a:rPr>
              <a:t> </a:t>
            </a:r>
            <a:r>
              <a:rPr b="1" lang="zh-CN" sz="1200" spc="-1" strike="noStrike">
                <a:solidFill>
                  <a:srgbClr val="ffffff"/>
                </a:solidFill>
                <a:latin typeface="Garamond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ffffff"/>
                </a:solidFill>
                <a:latin typeface="Garamond"/>
                <a:ea typeface="黑体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Garamond"/>
                <a:ea typeface="黑体"/>
              </a:rPr>
              <a:t>模板下载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i="1" lang="zh-CN" sz="1400" spc="-1" strike="noStrike">
                <a:solidFill>
                  <a:srgbClr val="ffffff"/>
                </a:solidFill>
                <a:latin typeface="Garamond"/>
              </a:rPr>
              <a:t>http://</a:t>
            </a:r>
            <a:r>
              <a:rPr b="1" lang="zh-CN" sz="14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875" name="Picture 3" descr="谢谢 动态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7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87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微软雅黑"/>
              </a:rPr>
              <a:t>流动资产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4" name="AutoShape 3"/>
          <p:cNvSpPr/>
          <p:nvPr/>
        </p:nvSpPr>
        <p:spPr>
          <a:xfrm rot="17973000">
            <a:off x="4777560" y="245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e5e5ff"/>
              </a:gs>
              <a:gs pos="100000">
                <a:srgbClr val="cccce3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5" name="AutoShape 4"/>
          <p:cNvSpPr/>
          <p:nvPr/>
        </p:nvSpPr>
        <p:spPr>
          <a:xfrm rot="3465600">
            <a:off x="4777200" y="46220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e5e5ff"/>
              </a:gs>
              <a:gs pos="100000">
                <a:srgbClr val="cccce3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6" name="AutoShape 5"/>
          <p:cNvSpPr/>
          <p:nvPr/>
        </p:nvSpPr>
        <p:spPr>
          <a:xfrm rot="14368800">
            <a:off x="3557880" y="25336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e5e5ff"/>
              </a:gs>
              <a:gs pos="100000">
                <a:srgbClr val="cccce3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7" name="AutoShape 6"/>
          <p:cNvSpPr/>
          <p:nvPr/>
        </p:nvSpPr>
        <p:spPr>
          <a:xfrm rot="7534800">
            <a:off x="3520080" y="45885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e5e5ff"/>
              </a:gs>
              <a:gs pos="100000">
                <a:srgbClr val="cccce3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8" name="AutoShape 7"/>
          <p:cNvSpPr/>
          <p:nvPr/>
        </p:nvSpPr>
        <p:spPr>
          <a:xfrm>
            <a:off x="5356080" y="35863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e5e5ff"/>
              </a:gs>
              <a:gs pos="100000">
                <a:srgbClr val="cccce3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9" name="AutoShape 8"/>
          <p:cNvSpPr/>
          <p:nvPr/>
        </p:nvSpPr>
        <p:spPr>
          <a:xfrm rot="10800000">
            <a:off x="2945880" y="35798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e5e5ff"/>
              </a:gs>
              <a:gs pos="100000">
                <a:srgbClr val="cccce3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0" name="Oval 9"/>
          <p:cNvSpPr/>
          <p:nvPr/>
        </p:nvSpPr>
        <p:spPr>
          <a:xfrm>
            <a:off x="2692440" y="181764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671" name="Group 10"/>
          <p:cNvGrpSpPr/>
          <p:nvPr/>
        </p:nvGrpSpPr>
        <p:grpSpPr>
          <a:xfrm>
            <a:off x="3429000" y="1876320"/>
            <a:ext cx="360360" cy="360360"/>
            <a:chOff x="3429000" y="1876320"/>
            <a:chExt cx="360360" cy="360360"/>
          </a:xfrm>
        </p:grpSpPr>
        <p:sp>
          <p:nvSpPr>
            <p:cNvPr id="672" name="Oval 11"/>
            <p:cNvSpPr/>
            <p:nvPr/>
          </p:nvSpPr>
          <p:spPr>
            <a:xfrm>
              <a:off x="3429000" y="187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3" name="Oval 12"/>
            <p:cNvSpPr/>
            <p:nvPr/>
          </p:nvSpPr>
          <p:spPr>
            <a:xfrm>
              <a:off x="3444840" y="190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674" name="Group 13"/>
          <p:cNvGrpSpPr/>
          <p:nvPr/>
        </p:nvGrpSpPr>
        <p:grpSpPr>
          <a:xfrm>
            <a:off x="2484360" y="3532320"/>
            <a:ext cx="360360" cy="360360"/>
            <a:chOff x="2484360" y="3532320"/>
            <a:chExt cx="360360" cy="360360"/>
          </a:xfrm>
        </p:grpSpPr>
        <p:sp>
          <p:nvSpPr>
            <p:cNvPr id="675" name="Oval 14"/>
            <p:cNvSpPr/>
            <p:nvPr/>
          </p:nvSpPr>
          <p:spPr>
            <a:xfrm>
              <a:off x="248436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6" name="Oval 15"/>
            <p:cNvSpPr/>
            <p:nvPr/>
          </p:nvSpPr>
          <p:spPr>
            <a:xfrm>
              <a:off x="250020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677" name="Group 16"/>
          <p:cNvGrpSpPr/>
          <p:nvPr/>
        </p:nvGrpSpPr>
        <p:grpSpPr>
          <a:xfrm>
            <a:off x="3348000" y="5075280"/>
            <a:ext cx="360360" cy="360360"/>
            <a:chOff x="3348000" y="5075280"/>
            <a:chExt cx="360360" cy="360360"/>
          </a:xfrm>
        </p:grpSpPr>
        <p:sp>
          <p:nvSpPr>
            <p:cNvPr id="678" name="Oval 17"/>
            <p:cNvSpPr/>
            <p:nvPr/>
          </p:nvSpPr>
          <p:spPr>
            <a:xfrm>
              <a:off x="3348000" y="507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9" name="Oval 18"/>
            <p:cNvSpPr/>
            <p:nvPr/>
          </p:nvSpPr>
          <p:spPr>
            <a:xfrm>
              <a:off x="3363840" y="510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680" name="Group 19"/>
          <p:cNvGrpSpPr/>
          <p:nvPr/>
        </p:nvGrpSpPr>
        <p:grpSpPr>
          <a:xfrm>
            <a:off x="5278320" y="1855800"/>
            <a:ext cx="360360" cy="360360"/>
            <a:chOff x="5278320" y="1855800"/>
            <a:chExt cx="360360" cy="360360"/>
          </a:xfrm>
        </p:grpSpPr>
        <p:sp>
          <p:nvSpPr>
            <p:cNvPr id="681" name="Oval 20"/>
            <p:cNvSpPr/>
            <p:nvPr/>
          </p:nvSpPr>
          <p:spPr>
            <a:xfrm>
              <a:off x="5278320" y="1855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2" name="Oval 21"/>
            <p:cNvSpPr/>
            <p:nvPr/>
          </p:nvSpPr>
          <p:spPr>
            <a:xfrm>
              <a:off x="5294160" y="1886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683" name="Group 22"/>
          <p:cNvGrpSpPr/>
          <p:nvPr/>
        </p:nvGrpSpPr>
        <p:grpSpPr>
          <a:xfrm>
            <a:off x="6227640" y="3532320"/>
            <a:ext cx="360360" cy="360360"/>
            <a:chOff x="6227640" y="3532320"/>
            <a:chExt cx="360360" cy="360360"/>
          </a:xfrm>
        </p:grpSpPr>
        <p:sp>
          <p:nvSpPr>
            <p:cNvPr id="684" name="Oval 23"/>
            <p:cNvSpPr/>
            <p:nvPr/>
          </p:nvSpPr>
          <p:spPr>
            <a:xfrm>
              <a:off x="622764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5" name="Oval 24"/>
            <p:cNvSpPr/>
            <p:nvPr/>
          </p:nvSpPr>
          <p:spPr>
            <a:xfrm>
              <a:off x="624348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686" name="Group 25"/>
          <p:cNvGrpSpPr/>
          <p:nvPr/>
        </p:nvGrpSpPr>
        <p:grpSpPr>
          <a:xfrm>
            <a:off x="5334120" y="5132520"/>
            <a:ext cx="360360" cy="360360"/>
            <a:chOff x="5334120" y="5132520"/>
            <a:chExt cx="360360" cy="360360"/>
          </a:xfrm>
        </p:grpSpPr>
        <p:sp>
          <p:nvSpPr>
            <p:cNvPr id="687" name="Oval 26"/>
            <p:cNvSpPr/>
            <p:nvPr/>
          </p:nvSpPr>
          <p:spPr>
            <a:xfrm>
              <a:off x="5334120" y="5132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8" name="Oval 27"/>
            <p:cNvSpPr/>
            <p:nvPr/>
          </p:nvSpPr>
          <p:spPr>
            <a:xfrm>
              <a:off x="5349960" y="5162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689" name="Oval 28"/>
          <p:cNvSpPr/>
          <p:nvPr/>
        </p:nvSpPr>
        <p:spPr>
          <a:xfrm>
            <a:off x="3581280" y="27734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0" name="Oval 29"/>
          <p:cNvSpPr/>
          <p:nvPr/>
        </p:nvSpPr>
        <p:spPr>
          <a:xfrm>
            <a:off x="3586320" y="2779560"/>
            <a:ext cx="1944360" cy="1944720"/>
          </a:xfrm>
          <a:prstGeom prst="ellipse">
            <a:avLst/>
          </a:prstGeom>
          <a:gradFill rotWithShape="0">
            <a:gsLst>
              <a:gs pos="0">
                <a:srgbClr val="765e00"/>
              </a:gs>
              <a:gs pos="100000">
                <a:srgbClr val="ffcc00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1" name="Oval 30"/>
          <p:cNvSpPr/>
          <p:nvPr/>
        </p:nvSpPr>
        <p:spPr>
          <a:xfrm>
            <a:off x="3708360" y="29005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8a6e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2" name="Oval 31"/>
          <p:cNvSpPr/>
          <p:nvPr/>
        </p:nvSpPr>
        <p:spPr>
          <a:xfrm>
            <a:off x="3691080" y="28735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ffcc00">
                  <a:alpha val="0"/>
                </a:srgbClr>
              </a:gs>
              <a:gs pos="100000">
                <a:srgbClr val="a282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693" name="Group 32"/>
          <p:cNvGrpSpPr/>
          <p:nvPr/>
        </p:nvGrpSpPr>
        <p:grpSpPr>
          <a:xfrm>
            <a:off x="3792600" y="2984400"/>
            <a:ext cx="1522440" cy="1522440"/>
            <a:chOff x="3792600" y="2984400"/>
            <a:chExt cx="1522440" cy="1522440"/>
          </a:xfrm>
        </p:grpSpPr>
        <p:sp>
          <p:nvSpPr>
            <p:cNvPr id="694" name="Oval 33"/>
            <p:cNvSpPr/>
            <p:nvPr/>
          </p:nvSpPr>
          <p:spPr>
            <a:xfrm>
              <a:off x="3792600" y="29844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5" name="Oval 34"/>
            <p:cNvSpPr/>
            <p:nvPr/>
          </p:nvSpPr>
          <p:spPr>
            <a:xfrm>
              <a:off x="3814920" y="300348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6" name="Oval 35"/>
            <p:cNvSpPr/>
            <p:nvPr/>
          </p:nvSpPr>
          <p:spPr>
            <a:xfrm>
              <a:off x="3832200" y="30128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7" name="Oval 36"/>
            <p:cNvSpPr/>
            <p:nvPr/>
          </p:nvSpPr>
          <p:spPr>
            <a:xfrm>
              <a:off x="3848040" y="30272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8" name="Oval 37"/>
            <p:cNvSpPr/>
            <p:nvPr/>
          </p:nvSpPr>
          <p:spPr>
            <a:xfrm>
              <a:off x="3929040" y="30636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699" name="Text Box 38"/>
          <p:cNvSpPr/>
          <p:nvPr/>
        </p:nvSpPr>
        <p:spPr>
          <a:xfrm>
            <a:off x="4092120" y="3505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514"/>
                </a:solidFill>
                <a:latin typeface="Garamond"/>
              </a:rPr>
              <a:t>流动资产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0" name="Text Box 39"/>
          <p:cNvSpPr/>
          <p:nvPr/>
        </p:nvSpPr>
        <p:spPr>
          <a:xfrm>
            <a:off x="5963760" y="1687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短期投资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1" name="Text Box 40"/>
          <p:cNvSpPr/>
          <p:nvPr/>
        </p:nvSpPr>
        <p:spPr>
          <a:xfrm>
            <a:off x="2236320" y="1687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货币资金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2" name="Text Box 41"/>
          <p:cNvSpPr/>
          <p:nvPr/>
        </p:nvSpPr>
        <p:spPr>
          <a:xfrm>
            <a:off x="7016040" y="2743200"/>
            <a:ext cx="109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应收票据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应收账款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应收利息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其他应收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坏账准备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3" name="Text Box 42"/>
          <p:cNvSpPr/>
          <p:nvPr/>
        </p:nvSpPr>
        <p:spPr>
          <a:xfrm>
            <a:off x="380880" y="3352680"/>
            <a:ext cx="216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一年内到期的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长期债券投资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4" name="Text Box 43"/>
          <p:cNvSpPr/>
          <p:nvPr/>
        </p:nvSpPr>
        <p:spPr>
          <a:xfrm>
            <a:off x="2236680" y="52768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存    货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5" name="Text Box 44"/>
          <p:cNvSpPr/>
          <p:nvPr/>
        </p:nvSpPr>
        <p:spPr>
          <a:xfrm>
            <a:off x="6197760" y="522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6" name="Text Box 45"/>
          <p:cNvSpPr/>
          <p:nvPr/>
        </p:nvSpPr>
        <p:spPr>
          <a:xfrm>
            <a:off x="5867280" y="5334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预付账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微软雅黑"/>
              </a:rPr>
              <a:t>非流动资产主要包括：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8" name="AutoShape 3"/>
          <p:cNvSpPr/>
          <p:nvPr/>
        </p:nvSpPr>
        <p:spPr>
          <a:xfrm rot="17973000">
            <a:off x="4777560" y="245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e5e5ff"/>
              </a:gs>
              <a:gs pos="100000">
                <a:srgbClr val="cccce3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9" name="AutoShape 4"/>
          <p:cNvSpPr/>
          <p:nvPr/>
        </p:nvSpPr>
        <p:spPr>
          <a:xfrm rot="3465600">
            <a:off x="4777200" y="46220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e5e5ff"/>
              </a:gs>
              <a:gs pos="100000">
                <a:srgbClr val="cccce3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0" name="AutoShape 5"/>
          <p:cNvSpPr/>
          <p:nvPr/>
        </p:nvSpPr>
        <p:spPr>
          <a:xfrm rot="14368800">
            <a:off x="3557880" y="25336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e5e5ff"/>
              </a:gs>
              <a:gs pos="100000">
                <a:srgbClr val="cccce3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1" name="AutoShape 6"/>
          <p:cNvSpPr/>
          <p:nvPr/>
        </p:nvSpPr>
        <p:spPr>
          <a:xfrm rot="7534800">
            <a:off x="3520080" y="45885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e5e5ff"/>
              </a:gs>
              <a:gs pos="100000">
                <a:srgbClr val="cccce3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2" name="AutoShape 7"/>
          <p:cNvSpPr/>
          <p:nvPr/>
        </p:nvSpPr>
        <p:spPr>
          <a:xfrm>
            <a:off x="5356080" y="35863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e5e5ff"/>
              </a:gs>
              <a:gs pos="100000">
                <a:srgbClr val="cccce3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3" name="AutoShape 8"/>
          <p:cNvSpPr/>
          <p:nvPr/>
        </p:nvSpPr>
        <p:spPr>
          <a:xfrm rot="10800000">
            <a:off x="2945880" y="35798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e5e5ff"/>
              </a:gs>
              <a:gs pos="100000">
                <a:srgbClr val="cccce3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4" name="Oval 9"/>
          <p:cNvSpPr/>
          <p:nvPr/>
        </p:nvSpPr>
        <p:spPr>
          <a:xfrm>
            <a:off x="2692440" y="181764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715" name="Group 10"/>
          <p:cNvGrpSpPr/>
          <p:nvPr/>
        </p:nvGrpSpPr>
        <p:grpSpPr>
          <a:xfrm>
            <a:off x="3429000" y="1876320"/>
            <a:ext cx="360360" cy="360360"/>
            <a:chOff x="3429000" y="1876320"/>
            <a:chExt cx="360360" cy="360360"/>
          </a:xfrm>
        </p:grpSpPr>
        <p:sp>
          <p:nvSpPr>
            <p:cNvPr id="716" name="Oval 11"/>
            <p:cNvSpPr/>
            <p:nvPr/>
          </p:nvSpPr>
          <p:spPr>
            <a:xfrm>
              <a:off x="3429000" y="187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7" name="Oval 12"/>
            <p:cNvSpPr/>
            <p:nvPr/>
          </p:nvSpPr>
          <p:spPr>
            <a:xfrm>
              <a:off x="3444840" y="190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718" name="Group 13"/>
          <p:cNvGrpSpPr/>
          <p:nvPr/>
        </p:nvGrpSpPr>
        <p:grpSpPr>
          <a:xfrm>
            <a:off x="2484360" y="3532320"/>
            <a:ext cx="360360" cy="360360"/>
            <a:chOff x="2484360" y="3532320"/>
            <a:chExt cx="360360" cy="360360"/>
          </a:xfrm>
        </p:grpSpPr>
        <p:sp>
          <p:nvSpPr>
            <p:cNvPr id="719" name="Oval 14"/>
            <p:cNvSpPr/>
            <p:nvPr/>
          </p:nvSpPr>
          <p:spPr>
            <a:xfrm>
              <a:off x="248436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0" name="Oval 15"/>
            <p:cNvSpPr/>
            <p:nvPr/>
          </p:nvSpPr>
          <p:spPr>
            <a:xfrm>
              <a:off x="250020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721" name="Group 16"/>
          <p:cNvGrpSpPr/>
          <p:nvPr/>
        </p:nvGrpSpPr>
        <p:grpSpPr>
          <a:xfrm>
            <a:off x="3348000" y="5075280"/>
            <a:ext cx="360360" cy="360360"/>
            <a:chOff x="3348000" y="5075280"/>
            <a:chExt cx="360360" cy="360360"/>
          </a:xfrm>
        </p:grpSpPr>
        <p:sp>
          <p:nvSpPr>
            <p:cNvPr id="722" name="Oval 17"/>
            <p:cNvSpPr/>
            <p:nvPr/>
          </p:nvSpPr>
          <p:spPr>
            <a:xfrm>
              <a:off x="3348000" y="507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3" name="Oval 18"/>
            <p:cNvSpPr/>
            <p:nvPr/>
          </p:nvSpPr>
          <p:spPr>
            <a:xfrm>
              <a:off x="3363840" y="510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724" name="Group 19"/>
          <p:cNvGrpSpPr/>
          <p:nvPr/>
        </p:nvGrpSpPr>
        <p:grpSpPr>
          <a:xfrm>
            <a:off x="5278320" y="1855800"/>
            <a:ext cx="360360" cy="360360"/>
            <a:chOff x="5278320" y="1855800"/>
            <a:chExt cx="360360" cy="360360"/>
          </a:xfrm>
        </p:grpSpPr>
        <p:sp>
          <p:nvSpPr>
            <p:cNvPr id="725" name="Oval 20"/>
            <p:cNvSpPr/>
            <p:nvPr/>
          </p:nvSpPr>
          <p:spPr>
            <a:xfrm>
              <a:off x="5278320" y="1855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6" name="Oval 21"/>
            <p:cNvSpPr/>
            <p:nvPr/>
          </p:nvSpPr>
          <p:spPr>
            <a:xfrm>
              <a:off x="5294160" y="1886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727" name="Group 22"/>
          <p:cNvGrpSpPr/>
          <p:nvPr/>
        </p:nvGrpSpPr>
        <p:grpSpPr>
          <a:xfrm>
            <a:off x="6227640" y="3532320"/>
            <a:ext cx="360360" cy="360360"/>
            <a:chOff x="6227640" y="3532320"/>
            <a:chExt cx="360360" cy="360360"/>
          </a:xfrm>
        </p:grpSpPr>
        <p:sp>
          <p:nvSpPr>
            <p:cNvPr id="728" name="Oval 23"/>
            <p:cNvSpPr/>
            <p:nvPr/>
          </p:nvSpPr>
          <p:spPr>
            <a:xfrm>
              <a:off x="622764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9" name="Oval 24"/>
            <p:cNvSpPr/>
            <p:nvPr/>
          </p:nvSpPr>
          <p:spPr>
            <a:xfrm>
              <a:off x="624348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730" name="Group 25"/>
          <p:cNvGrpSpPr/>
          <p:nvPr/>
        </p:nvGrpSpPr>
        <p:grpSpPr>
          <a:xfrm>
            <a:off x="5334120" y="5132520"/>
            <a:ext cx="360360" cy="360360"/>
            <a:chOff x="5334120" y="5132520"/>
            <a:chExt cx="360360" cy="360360"/>
          </a:xfrm>
        </p:grpSpPr>
        <p:sp>
          <p:nvSpPr>
            <p:cNvPr id="731" name="Oval 26"/>
            <p:cNvSpPr/>
            <p:nvPr/>
          </p:nvSpPr>
          <p:spPr>
            <a:xfrm>
              <a:off x="5334120" y="5132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32" name="Oval 27"/>
            <p:cNvSpPr/>
            <p:nvPr/>
          </p:nvSpPr>
          <p:spPr>
            <a:xfrm>
              <a:off x="5349960" y="5162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3" name="Oval 28"/>
          <p:cNvSpPr/>
          <p:nvPr/>
        </p:nvSpPr>
        <p:spPr>
          <a:xfrm>
            <a:off x="3581280" y="27734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4" name="Oval 29"/>
          <p:cNvSpPr/>
          <p:nvPr/>
        </p:nvSpPr>
        <p:spPr>
          <a:xfrm>
            <a:off x="3586320" y="2779560"/>
            <a:ext cx="1944360" cy="1944720"/>
          </a:xfrm>
          <a:prstGeom prst="ellipse">
            <a:avLst/>
          </a:prstGeom>
          <a:gradFill rotWithShape="0">
            <a:gsLst>
              <a:gs pos="0">
                <a:srgbClr val="765e00"/>
              </a:gs>
              <a:gs pos="100000">
                <a:srgbClr val="ffcc00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5" name="Oval 30"/>
          <p:cNvSpPr/>
          <p:nvPr/>
        </p:nvSpPr>
        <p:spPr>
          <a:xfrm>
            <a:off x="3708360" y="29005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8a6e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6" name="Oval 31"/>
          <p:cNvSpPr/>
          <p:nvPr/>
        </p:nvSpPr>
        <p:spPr>
          <a:xfrm>
            <a:off x="3691080" y="28735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ffcc00">
                  <a:alpha val="0"/>
                </a:srgbClr>
              </a:gs>
              <a:gs pos="100000">
                <a:srgbClr val="a282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737" name="Group 32"/>
          <p:cNvGrpSpPr/>
          <p:nvPr/>
        </p:nvGrpSpPr>
        <p:grpSpPr>
          <a:xfrm>
            <a:off x="3792600" y="2984400"/>
            <a:ext cx="1522440" cy="1522440"/>
            <a:chOff x="3792600" y="2984400"/>
            <a:chExt cx="1522440" cy="1522440"/>
          </a:xfrm>
        </p:grpSpPr>
        <p:sp>
          <p:nvSpPr>
            <p:cNvPr id="738" name="Oval 33"/>
            <p:cNvSpPr/>
            <p:nvPr/>
          </p:nvSpPr>
          <p:spPr>
            <a:xfrm>
              <a:off x="3792600" y="29844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39" name="Oval 34"/>
            <p:cNvSpPr/>
            <p:nvPr/>
          </p:nvSpPr>
          <p:spPr>
            <a:xfrm>
              <a:off x="3814920" y="300348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40" name="Oval 35"/>
            <p:cNvSpPr/>
            <p:nvPr/>
          </p:nvSpPr>
          <p:spPr>
            <a:xfrm>
              <a:off x="3832200" y="30128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41" name="Oval 36"/>
            <p:cNvSpPr/>
            <p:nvPr/>
          </p:nvSpPr>
          <p:spPr>
            <a:xfrm>
              <a:off x="3848040" y="30272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42" name="Oval 37"/>
            <p:cNvSpPr/>
            <p:nvPr/>
          </p:nvSpPr>
          <p:spPr>
            <a:xfrm>
              <a:off x="3929040" y="30636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43" name="Text Box 38"/>
          <p:cNvSpPr/>
          <p:nvPr/>
        </p:nvSpPr>
        <p:spPr>
          <a:xfrm>
            <a:off x="4001400" y="3505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514"/>
                </a:solidFill>
                <a:latin typeface="Garamond"/>
              </a:rPr>
              <a:t>非流动资产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4" name="Text Box 39"/>
          <p:cNvSpPr/>
          <p:nvPr/>
        </p:nvSpPr>
        <p:spPr>
          <a:xfrm>
            <a:off x="5963760" y="16876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固定资产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累计折旧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5" name="Text Box 40"/>
          <p:cNvSpPr/>
          <p:nvPr/>
        </p:nvSpPr>
        <p:spPr>
          <a:xfrm>
            <a:off x="1991520" y="1687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长期应收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6" name="Text Box 41"/>
          <p:cNvSpPr/>
          <p:nvPr/>
        </p:nvSpPr>
        <p:spPr>
          <a:xfrm>
            <a:off x="7106760" y="3505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在建工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7" name="Text Box 42"/>
          <p:cNvSpPr/>
          <p:nvPr/>
        </p:nvSpPr>
        <p:spPr>
          <a:xfrm>
            <a:off x="-297000" y="3352680"/>
            <a:ext cx="28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持有到期投资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8" name="Text Box 43"/>
          <p:cNvSpPr/>
          <p:nvPr/>
        </p:nvSpPr>
        <p:spPr>
          <a:xfrm>
            <a:off x="1585080" y="5257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长期待摊费用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9" name="Text Box 44"/>
          <p:cNvSpPr/>
          <p:nvPr/>
        </p:nvSpPr>
        <p:spPr>
          <a:xfrm>
            <a:off x="6197760" y="522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0" name="Text Box 45"/>
          <p:cNvSpPr/>
          <p:nvPr/>
        </p:nvSpPr>
        <p:spPr>
          <a:xfrm>
            <a:off x="5867280" y="5334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无形资产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5e5ff"/>
                </a:solidFill>
                <a:latin typeface="Garamond"/>
                <a:ea typeface="微软雅黑"/>
              </a:rPr>
              <a:t>一、资产负债表的概念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流动负债究竟包括哪些科目？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非流动负债包括哪些科目？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微软雅黑"/>
              </a:rPr>
              <a:t>流动负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4" name="AutoShape 3"/>
          <p:cNvSpPr/>
          <p:nvPr/>
        </p:nvSpPr>
        <p:spPr>
          <a:xfrm rot="17973000">
            <a:off x="4777560" y="245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e5e5ff"/>
              </a:gs>
              <a:gs pos="100000">
                <a:srgbClr val="cccce3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5" name="AutoShape 4"/>
          <p:cNvSpPr/>
          <p:nvPr/>
        </p:nvSpPr>
        <p:spPr>
          <a:xfrm rot="3465600">
            <a:off x="4777200" y="46220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e5e5ff"/>
              </a:gs>
              <a:gs pos="100000">
                <a:srgbClr val="cccce3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6" name="AutoShape 5"/>
          <p:cNvSpPr/>
          <p:nvPr/>
        </p:nvSpPr>
        <p:spPr>
          <a:xfrm rot="14368800">
            <a:off x="3557880" y="25336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e5e5ff"/>
              </a:gs>
              <a:gs pos="100000">
                <a:srgbClr val="cccce3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7" name="AutoShape 6"/>
          <p:cNvSpPr/>
          <p:nvPr/>
        </p:nvSpPr>
        <p:spPr>
          <a:xfrm rot="7534800">
            <a:off x="3520080" y="45885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e5e5ff"/>
              </a:gs>
              <a:gs pos="100000">
                <a:srgbClr val="cccce3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8" name="AutoShape 7"/>
          <p:cNvSpPr/>
          <p:nvPr/>
        </p:nvSpPr>
        <p:spPr>
          <a:xfrm>
            <a:off x="5356080" y="35863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e5e5ff"/>
              </a:gs>
              <a:gs pos="100000">
                <a:srgbClr val="cccce3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9" name="AutoShape 8"/>
          <p:cNvSpPr/>
          <p:nvPr/>
        </p:nvSpPr>
        <p:spPr>
          <a:xfrm rot="10800000">
            <a:off x="2945880" y="35798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e5e5ff"/>
              </a:gs>
              <a:gs pos="100000">
                <a:srgbClr val="cccce3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Oval 9"/>
          <p:cNvSpPr/>
          <p:nvPr/>
        </p:nvSpPr>
        <p:spPr>
          <a:xfrm>
            <a:off x="2692440" y="181764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761" name="Group 10"/>
          <p:cNvGrpSpPr/>
          <p:nvPr/>
        </p:nvGrpSpPr>
        <p:grpSpPr>
          <a:xfrm>
            <a:off x="3429000" y="1876320"/>
            <a:ext cx="360360" cy="360360"/>
            <a:chOff x="3429000" y="1876320"/>
            <a:chExt cx="360360" cy="360360"/>
          </a:xfrm>
        </p:grpSpPr>
        <p:sp>
          <p:nvSpPr>
            <p:cNvPr id="762" name="Oval 11"/>
            <p:cNvSpPr/>
            <p:nvPr/>
          </p:nvSpPr>
          <p:spPr>
            <a:xfrm>
              <a:off x="3429000" y="187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3" name="Oval 12"/>
            <p:cNvSpPr/>
            <p:nvPr/>
          </p:nvSpPr>
          <p:spPr>
            <a:xfrm>
              <a:off x="3444840" y="190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764" name="Group 13"/>
          <p:cNvGrpSpPr/>
          <p:nvPr/>
        </p:nvGrpSpPr>
        <p:grpSpPr>
          <a:xfrm>
            <a:off x="2484360" y="3532320"/>
            <a:ext cx="360360" cy="360360"/>
            <a:chOff x="2484360" y="3532320"/>
            <a:chExt cx="360360" cy="360360"/>
          </a:xfrm>
        </p:grpSpPr>
        <p:sp>
          <p:nvSpPr>
            <p:cNvPr id="765" name="Oval 14"/>
            <p:cNvSpPr/>
            <p:nvPr/>
          </p:nvSpPr>
          <p:spPr>
            <a:xfrm>
              <a:off x="248436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6" name="Oval 15"/>
            <p:cNvSpPr/>
            <p:nvPr/>
          </p:nvSpPr>
          <p:spPr>
            <a:xfrm>
              <a:off x="250020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767" name="Group 16"/>
          <p:cNvGrpSpPr/>
          <p:nvPr/>
        </p:nvGrpSpPr>
        <p:grpSpPr>
          <a:xfrm>
            <a:off x="3348000" y="5075280"/>
            <a:ext cx="360360" cy="360360"/>
            <a:chOff x="3348000" y="5075280"/>
            <a:chExt cx="360360" cy="360360"/>
          </a:xfrm>
        </p:grpSpPr>
        <p:sp>
          <p:nvSpPr>
            <p:cNvPr id="768" name="Oval 17"/>
            <p:cNvSpPr/>
            <p:nvPr/>
          </p:nvSpPr>
          <p:spPr>
            <a:xfrm>
              <a:off x="3348000" y="507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9" name="Oval 18"/>
            <p:cNvSpPr/>
            <p:nvPr/>
          </p:nvSpPr>
          <p:spPr>
            <a:xfrm>
              <a:off x="3363840" y="510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770" name="Group 19"/>
          <p:cNvGrpSpPr/>
          <p:nvPr/>
        </p:nvGrpSpPr>
        <p:grpSpPr>
          <a:xfrm>
            <a:off x="5278320" y="1855800"/>
            <a:ext cx="360360" cy="360360"/>
            <a:chOff x="5278320" y="1855800"/>
            <a:chExt cx="360360" cy="360360"/>
          </a:xfrm>
        </p:grpSpPr>
        <p:sp>
          <p:nvSpPr>
            <p:cNvPr id="771" name="Oval 20"/>
            <p:cNvSpPr/>
            <p:nvPr/>
          </p:nvSpPr>
          <p:spPr>
            <a:xfrm>
              <a:off x="5278320" y="1855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2" name="Oval 21"/>
            <p:cNvSpPr/>
            <p:nvPr/>
          </p:nvSpPr>
          <p:spPr>
            <a:xfrm>
              <a:off x="5294160" y="1886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773" name="Group 22"/>
          <p:cNvGrpSpPr/>
          <p:nvPr/>
        </p:nvGrpSpPr>
        <p:grpSpPr>
          <a:xfrm>
            <a:off x="6227640" y="3532320"/>
            <a:ext cx="360360" cy="360360"/>
            <a:chOff x="6227640" y="3532320"/>
            <a:chExt cx="360360" cy="360360"/>
          </a:xfrm>
        </p:grpSpPr>
        <p:sp>
          <p:nvSpPr>
            <p:cNvPr id="774" name="Oval 23"/>
            <p:cNvSpPr/>
            <p:nvPr/>
          </p:nvSpPr>
          <p:spPr>
            <a:xfrm>
              <a:off x="622764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5" name="Oval 24"/>
            <p:cNvSpPr/>
            <p:nvPr/>
          </p:nvSpPr>
          <p:spPr>
            <a:xfrm>
              <a:off x="624348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776" name="Group 25"/>
          <p:cNvGrpSpPr/>
          <p:nvPr/>
        </p:nvGrpSpPr>
        <p:grpSpPr>
          <a:xfrm>
            <a:off x="5334120" y="5132520"/>
            <a:ext cx="360360" cy="360360"/>
            <a:chOff x="5334120" y="5132520"/>
            <a:chExt cx="360360" cy="360360"/>
          </a:xfrm>
        </p:grpSpPr>
        <p:sp>
          <p:nvSpPr>
            <p:cNvPr id="777" name="Oval 26"/>
            <p:cNvSpPr/>
            <p:nvPr/>
          </p:nvSpPr>
          <p:spPr>
            <a:xfrm>
              <a:off x="5334120" y="5132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8" name="Oval 27"/>
            <p:cNvSpPr/>
            <p:nvPr/>
          </p:nvSpPr>
          <p:spPr>
            <a:xfrm>
              <a:off x="5349960" y="5162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79" name="Oval 28"/>
          <p:cNvSpPr/>
          <p:nvPr/>
        </p:nvSpPr>
        <p:spPr>
          <a:xfrm>
            <a:off x="3581280" y="27734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0" name="Oval 29"/>
          <p:cNvSpPr/>
          <p:nvPr/>
        </p:nvSpPr>
        <p:spPr>
          <a:xfrm>
            <a:off x="3586320" y="2779560"/>
            <a:ext cx="1944360" cy="1944720"/>
          </a:xfrm>
          <a:prstGeom prst="ellipse">
            <a:avLst/>
          </a:prstGeom>
          <a:gradFill rotWithShape="0">
            <a:gsLst>
              <a:gs pos="0">
                <a:srgbClr val="765e00"/>
              </a:gs>
              <a:gs pos="100000">
                <a:srgbClr val="ffcc00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1" name="Oval 30"/>
          <p:cNvSpPr/>
          <p:nvPr/>
        </p:nvSpPr>
        <p:spPr>
          <a:xfrm>
            <a:off x="3708360" y="29005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8a6e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2" name="Oval 31"/>
          <p:cNvSpPr/>
          <p:nvPr/>
        </p:nvSpPr>
        <p:spPr>
          <a:xfrm>
            <a:off x="3691080" y="28735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ffcc00">
                  <a:alpha val="0"/>
                </a:srgbClr>
              </a:gs>
              <a:gs pos="100000">
                <a:srgbClr val="a282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783" name="Group 32"/>
          <p:cNvGrpSpPr/>
          <p:nvPr/>
        </p:nvGrpSpPr>
        <p:grpSpPr>
          <a:xfrm>
            <a:off x="3792600" y="2984400"/>
            <a:ext cx="1522440" cy="1522440"/>
            <a:chOff x="3792600" y="2984400"/>
            <a:chExt cx="1522440" cy="1522440"/>
          </a:xfrm>
        </p:grpSpPr>
        <p:sp>
          <p:nvSpPr>
            <p:cNvPr id="784" name="Oval 33"/>
            <p:cNvSpPr/>
            <p:nvPr/>
          </p:nvSpPr>
          <p:spPr>
            <a:xfrm>
              <a:off x="3792600" y="29844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85" name="Oval 34"/>
            <p:cNvSpPr/>
            <p:nvPr/>
          </p:nvSpPr>
          <p:spPr>
            <a:xfrm>
              <a:off x="3814920" y="300348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86" name="Oval 35"/>
            <p:cNvSpPr/>
            <p:nvPr/>
          </p:nvSpPr>
          <p:spPr>
            <a:xfrm>
              <a:off x="3832200" y="30128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87" name="Oval 36"/>
            <p:cNvSpPr/>
            <p:nvPr/>
          </p:nvSpPr>
          <p:spPr>
            <a:xfrm>
              <a:off x="3848040" y="30272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88" name="Oval 37"/>
            <p:cNvSpPr/>
            <p:nvPr/>
          </p:nvSpPr>
          <p:spPr>
            <a:xfrm>
              <a:off x="3929040" y="30636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89" name="Text Box 38"/>
          <p:cNvSpPr/>
          <p:nvPr/>
        </p:nvSpPr>
        <p:spPr>
          <a:xfrm>
            <a:off x="4090320" y="3505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514"/>
                </a:solidFill>
                <a:latin typeface="Garamond"/>
              </a:rPr>
              <a:t>流动负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0" name="Text Box 39"/>
          <p:cNvSpPr/>
          <p:nvPr/>
        </p:nvSpPr>
        <p:spPr>
          <a:xfrm>
            <a:off x="6268680" y="1371600"/>
            <a:ext cx="91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应付票据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应付账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预收账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1" name="Text Box 40"/>
          <p:cNvSpPr/>
          <p:nvPr/>
        </p:nvSpPr>
        <p:spPr>
          <a:xfrm>
            <a:off x="2236320" y="1687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短期借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2" name="Text Box 41"/>
          <p:cNvSpPr/>
          <p:nvPr/>
        </p:nvSpPr>
        <p:spPr>
          <a:xfrm>
            <a:off x="380880" y="3352680"/>
            <a:ext cx="216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一年内到期的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非流动负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3" name="Text Box 42"/>
          <p:cNvSpPr/>
          <p:nvPr/>
        </p:nvSpPr>
        <p:spPr>
          <a:xfrm>
            <a:off x="1829520" y="525780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应交税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其他应付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4" name="Text Box 43"/>
          <p:cNvSpPr/>
          <p:nvPr/>
        </p:nvSpPr>
        <p:spPr>
          <a:xfrm>
            <a:off x="6197760" y="522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5" name="Text Box 44"/>
          <p:cNvSpPr/>
          <p:nvPr/>
        </p:nvSpPr>
        <p:spPr>
          <a:xfrm>
            <a:off x="5562720" y="56386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应付职工薪酬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6" name="Text Box 45"/>
          <p:cNvSpPr/>
          <p:nvPr/>
        </p:nvSpPr>
        <p:spPr>
          <a:xfrm>
            <a:off x="6705720" y="335268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应付利息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应付股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  <a:ea typeface="微软雅黑"/>
              </a:rPr>
              <a:t>非流动负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8" name="AutoShape 3"/>
          <p:cNvSpPr/>
          <p:nvPr/>
        </p:nvSpPr>
        <p:spPr>
          <a:xfrm rot="17973000">
            <a:off x="4777560" y="245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e5e5ff"/>
              </a:gs>
              <a:gs pos="100000">
                <a:srgbClr val="cccce3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9" name="AutoShape 4"/>
          <p:cNvSpPr/>
          <p:nvPr/>
        </p:nvSpPr>
        <p:spPr>
          <a:xfrm rot="3465600">
            <a:off x="4777200" y="46220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e5e5ff"/>
              </a:gs>
              <a:gs pos="100000">
                <a:srgbClr val="cccce3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0" name="AutoShape 5"/>
          <p:cNvSpPr/>
          <p:nvPr/>
        </p:nvSpPr>
        <p:spPr>
          <a:xfrm rot="10800000">
            <a:off x="2945880" y="35798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e5e5ff"/>
              </a:gs>
              <a:gs pos="100000">
                <a:srgbClr val="cccce3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1" name="Oval 6"/>
          <p:cNvSpPr/>
          <p:nvPr/>
        </p:nvSpPr>
        <p:spPr>
          <a:xfrm>
            <a:off x="2692440" y="181764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802" name="Group 7"/>
          <p:cNvGrpSpPr/>
          <p:nvPr/>
        </p:nvGrpSpPr>
        <p:grpSpPr>
          <a:xfrm>
            <a:off x="2484360" y="3532320"/>
            <a:ext cx="360360" cy="360360"/>
            <a:chOff x="2484360" y="3532320"/>
            <a:chExt cx="360360" cy="360360"/>
          </a:xfrm>
        </p:grpSpPr>
        <p:sp>
          <p:nvSpPr>
            <p:cNvPr id="803" name="Oval 8"/>
            <p:cNvSpPr/>
            <p:nvPr/>
          </p:nvSpPr>
          <p:spPr>
            <a:xfrm>
              <a:off x="248436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4" name="Oval 9"/>
            <p:cNvSpPr/>
            <p:nvPr/>
          </p:nvSpPr>
          <p:spPr>
            <a:xfrm>
              <a:off x="250020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805" name="Group 10"/>
          <p:cNvGrpSpPr/>
          <p:nvPr/>
        </p:nvGrpSpPr>
        <p:grpSpPr>
          <a:xfrm>
            <a:off x="5278320" y="1855800"/>
            <a:ext cx="360360" cy="360360"/>
            <a:chOff x="5278320" y="1855800"/>
            <a:chExt cx="360360" cy="360360"/>
          </a:xfrm>
        </p:grpSpPr>
        <p:sp>
          <p:nvSpPr>
            <p:cNvPr id="806" name="Oval 11"/>
            <p:cNvSpPr/>
            <p:nvPr/>
          </p:nvSpPr>
          <p:spPr>
            <a:xfrm>
              <a:off x="5278320" y="1855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7" name="Oval 12"/>
            <p:cNvSpPr/>
            <p:nvPr/>
          </p:nvSpPr>
          <p:spPr>
            <a:xfrm>
              <a:off x="5294160" y="1886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808" name="Group 13"/>
          <p:cNvGrpSpPr/>
          <p:nvPr/>
        </p:nvGrpSpPr>
        <p:grpSpPr>
          <a:xfrm>
            <a:off x="5334120" y="5132520"/>
            <a:ext cx="360360" cy="360360"/>
            <a:chOff x="5334120" y="5132520"/>
            <a:chExt cx="360360" cy="360360"/>
          </a:xfrm>
        </p:grpSpPr>
        <p:sp>
          <p:nvSpPr>
            <p:cNvPr id="809" name="Oval 14"/>
            <p:cNvSpPr/>
            <p:nvPr/>
          </p:nvSpPr>
          <p:spPr>
            <a:xfrm>
              <a:off x="5334120" y="5132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0" name="Oval 15"/>
            <p:cNvSpPr/>
            <p:nvPr/>
          </p:nvSpPr>
          <p:spPr>
            <a:xfrm>
              <a:off x="5349960" y="5162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ddee"/>
                </a:gs>
                <a:gs pos="100000">
                  <a:srgbClr val="0099c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811" name="Oval 16"/>
          <p:cNvSpPr/>
          <p:nvPr/>
        </p:nvSpPr>
        <p:spPr>
          <a:xfrm>
            <a:off x="3581280" y="27734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2" name="Oval 17"/>
          <p:cNvSpPr/>
          <p:nvPr/>
        </p:nvSpPr>
        <p:spPr>
          <a:xfrm>
            <a:off x="3586320" y="2779560"/>
            <a:ext cx="1944360" cy="1944720"/>
          </a:xfrm>
          <a:prstGeom prst="ellipse">
            <a:avLst/>
          </a:prstGeom>
          <a:gradFill rotWithShape="0">
            <a:gsLst>
              <a:gs pos="0">
                <a:srgbClr val="765e00"/>
              </a:gs>
              <a:gs pos="100000">
                <a:srgbClr val="ffcc00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3" name="Oval 18"/>
          <p:cNvSpPr/>
          <p:nvPr/>
        </p:nvSpPr>
        <p:spPr>
          <a:xfrm>
            <a:off x="3708360" y="29005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8a6e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4" name="Oval 19"/>
          <p:cNvSpPr/>
          <p:nvPr/>
        </p:nvSpPr>
        <p:spPr>
          <a:xfrm>
            <a:off x="3691080" y="28735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ffcc00">
                  <a:alpha val="0"/>
                </a:srgbClr>
              </a:gs>
              <a:gs pos="100000">
                <a:srgbClr val="a282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815" name="Group 20"/>
          <p:cNvGrpSpPr/>
          <p:nvPr/>
        </p:nvGrpSpPr>
        <p:grpSpPr>
          <a:xfrm>
            <a:off x="3792600" y="2984400"/>
            <a:ext cx="1522440" cy="1522440"/>
            <a:chOff x="3792600" y="2984400"/>
            <a:chExt cx="1522440" cy="1522440"/>
          </a:xfrm>
        </p:grpSpPr>
        <p:sp>
          <p:nvSpPr>
            <p:cNvPr id="816" name="Oval 21"/>
            <p:cNvSpPr/>
            <p:nvPr/>
          </p:nvSpPr>
          <p:spPr>
            <a:xfrm>
              <a:off x="3792600" y="29844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7" name="Oval 22"/>
            <p:cNvSpPr/>
            <p:nvPr/>
          </p:nvSpPr>
          <p:spPr>
            <a:xfrm>
              <a:off x="3814920" y="300348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8" name="Oval 23"/>
            <p:cNvSpPr/>
            <p:nvPr/>
          </p:nvSpPr>
          <p:spPr>
            <a:xfrm>
              <a:off x="3832200" y="30128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9" name="Oval 24"/>
            <p:cNvSpPr/>
            <p:nvPr/>
          </p:nvSpPr>
          <p:spPr>
            <a:xfrm>
              <a:off x="3848040" y="30272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0" name="Oval 25"/>
            <p:cNvSpPr/>
            <p:nvPr/>
          </p:nvSpPr>
          <p:spPr>
            <a:xfrm>
              <a:off x="3929040" y="30636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821" name="Text Box 26"/>
          <p:cNvSpPr/>
          <p:nvPr/>
        </p:nvSpPr>
        <p:spPr>
          <a:xfrm>
            <a:off x="3999600" y="3505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514"/>
                </a:solidFill>
                <a:latin typeface="Garamond"/>
              </a:rPr>
              <a:t>非流动负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2" name="Text Box 27"/>
          <p:cNvSpPr/>
          <p:nvPr/>
        </p:nvSpPr>
        <p:spPr>
          <a:xfrm>
            <a:off x="6040080" y="1523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长期借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3" name="Text Box 28"/>
          <p:cNvSpPr/>
          <p:nvPr/>
        </p:nvSpPr>
        <p:spPr>
          <a:xfrm>
            <a:off x="380880" y="3352680"/>
            <a:ext cx="21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长期应付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4" name="Text Box 29"/>
          <p:cNvSpPr/>
          <p:nvPr/>
        </p:nvSpPr>
        <p:spPr>
          <a:xfrm>
            <a:off x="6197760" y="522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5" name="Text Box 30"/>
          <p:cNvSpPr/>
          <p:nvPr/>
        </p:nvSpPr>
        <p:spPr>
          <a:xfrm>
            <a:off x="5867280" y="51055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应付债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【</a:t>
            </a:r>
            <a:r>
              <a:rPr b="1" lang="zh-CN" sz="3200" spc="-1" strike="noStrike">
                <a:solidFill>
                  <a:srgbClr val="e5e5ff"/>
                </a:solidFill>
                <a:latin typeface="Garamond"/>
              </a:rPr>
              <a:t>例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】</a:t>
            </a:r>
            <a:r>
              <a:rPr b="1" lang="zh-CN" sz="3200" spc="-1" strike="noStrike">
                <a:solidFill>
                  <a:srgbClr val="e5e5ff"/>
                </a:solidFill>
                <a:latin typeface="Garamond"/>
              </a:rPr>
              <a:t>以下报表中反映企业某一特定日期财务状况的是（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  </a:t>
            </a:r>
            <a:r>
              <a:rPr b="1" lang="zh-CN" sz="3200" spc="-1" strike="noStrike">
                <a:solidFill>
                  <a:srgbClr val="e5e5ff"/>
                </a:solidFill>
                <a:latin typeface="Garamond"/>
              </a:rPr>
              <a:t>）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zh-CN" sz="3200" spc="-1" strike="noStrike">
                <a:solidFill>
                  <a:srgbClr val="e5e5ff"/>
                </a:solidFill>
                <a:latin typeface="Garamond"/>
              </a:rPr>
              <a:t>、资产负债表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B</a:t>
            </a:r>
            <a:r>
              <a:rPr b="1" lang="zh-CN" sz="3200" spc="-1" strike="noStrike">
                <a:solidFill>
                  <a:srgbClr val="e5e5ff"/>
                </a:solidFill>
                <a:latin typeface="Garamond"/>
              </a:rPr>
              <a:t>、利润表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     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</a:t>
            </a:r>
            <a:r>
              <a:rPr b="1" lang="zh-CN" sz="3200" spc="-1" strike="noStrike">
                <a:solidFill>
                  <a:srgbClr val="e5e5ff"/>
                </a:solidFill>
                <a:latin typeface="Garamond"/>
              </a:rPr>
              <a:t>、现金流量表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D</a:t>
            </a:r>
            <a:r>
              <a:rPr b="1" lang="zh-CN" sz="3200" spc="-1" strike="noStrike">
                <a:solidFill>
                  <a:srgbClr val="e5e5ff"/>
                </a:solidFill>
                <a:latin typeface="Garamond"/>
              </a:rPr>
              <a:t>、利润分配表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7" name="文本框 2"/>
          <p:cNvSpPr/>
          <p:nvPr/>
        </p:nvSpPr>
        <p:spPr>
          <a:xfrm>
            <a:off x="297180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1T11:05:26Z</dcterms:created>
  <dc:creator/>
  <dc:description/>
  <dc:language>en-US</dc:language>
  <cp:lastModifiedBy>a</cp:lastModifiedBy>
  <dcterms:modified xsi:type="dcterms:W3CDTF">2015-01-14T05:57:27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