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65B-6B46-4CB0-A6E4-BC66F9E7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362-AD49-4EB5-8E91-4681D120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289FE-1F4C-4702-9FA7-5DF33149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B7E67-791C-4744-94EE-4C1C14ED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BD86C-C6F0-4A56-902F-B08597E0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DF464-C59D-44D0-A814-CD8E231A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CACE5-6B4F-46FC-98D9-F3FEC9A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698CB-17FE-4CF4-9B2C-AFBEA5C0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B063F-2FD0-428F-B412-FDAECF5B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7B6A1-F559-4C28-B259-3897F224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32141-DD47-4CCF-BEC0-036A1418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D92F7-EB6B-4388-B72C-3F9EBADA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B42-C000-472E-9409-7653C255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2344F-0279-4FA2-BA2F-2946EE92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DD789-9C1A-4B52-9237-3B1AE07C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167A4-521E-4354-9513-5440B115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C76F-6E1B-4633-B289-FBE2DBF9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60BF4-2495-4907-AE98-A3BBF522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4C413-3F6A-4BF0-8DB0-A1F68356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C6E8E-5BCC-4BA9-B145-72053F8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3B50B-8BC8-40AE-A7C3-B592F74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A27C7-1BCC-4CA5-A398-B3F7B947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74063-1097-48D3-9E07-DA0C866A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B36-F5A5-4145-BC68-ECC944F2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ED7F6-62EA-414A-BB27-5684C231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BBD78-7C88-4F6D-B8EF-94506E4C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EBCB3-66B3-4EE6-86D1-984D6E0E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4E88C-F8D4-4911-9886-E56F006B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CB980-F932-49D6-8AC4-5AA327A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10C06-2823-45D3-BF25-37EADBC2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8C8EE-F39E-485C-AF58-2A8FEE5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EA085-1893-4E84-A34E-CDB65B39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1F2A0-E7C4-477A-AA94-873B5F09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009B8-A06C-4715-8888-250F6E6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6613-8B81-4786-8244-64F8FD8A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C3109-9690-4F21-B7AA-883EC676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9D477-F307-45AA-A4DB-7C5E1E66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5DDFF-53E6-43FF-8ECF-6C1AAB45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BD701-1E45-49B0-9F14-B7D6F467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C29B2-1131-4017-AC67-C4226AD9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DD30E-62ED-438D-975A-F5470E6D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EAFB7-93C2-4ECA-9430-7AD51E27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CAE78-9880-499F-8F25-F5241B4B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79DFB-356D-42EC-AD00-433B887B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DACBF-96C3-4974-AA43-73C647B6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C6EF-D52D-48C1-9C8A-AE0A5D59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A86C2-79A7-46B8-8752-34E6BE7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E80E1-1077-4AEC-9FF7-F184CD43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44523-509F-4F1A-89F3-E08B1D6D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92E5C-5149-4B45-AE6E-BAB0A3D1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FBDDF-CEDC-46DA-B24B-2B4EFB33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6F9C4-2C46-4C37-A3F9-982DEC76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45299-FC8B-4F48-8DDD-FB3DE61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D0180-376E-4E63-8B59-FFDB71E6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7152A-B7F8-4B5E-A368-1D88DF9D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5240B-8F5D-4D0A-997D-A3BA74D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D654-4668-49B5-B3DA-5892B660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D3479-71F8-4915-A055-5B5D8EDD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5BBAA-BFEE-49C4-A9C8-3CD5A7F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619198-BDA0-44B7-A94A-E248DB03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DE732-E64B-422A-976D-BB06414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E7A51-6230-4458-9AF0-C2887CA5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C7C82-8AD8-4633-AB2E-4F427E74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61D54-CA6A-4CF0-9309-A74FF8D4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79B2-5EE7-456D-B598-ACB1DC79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FACF-8B64-486F-AAC0-B8EA6632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3B07-A79C-4F39-8D0B-0111DAAD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C0D7-5BEF-4223-BD5E-6EB18D0F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BC1-AFB8-48CF-8E42-A98FFB8E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CF22-5A59-435D-815F-A6689949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6059-337F-49FB-91F3-C4E4FEC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337-28AF-4DC0-83BA-C1B3C9FA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261B-0C8C-46BA-89C9-DE0F25A1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0CE8-97CB-44D3-AEA9-155C640E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25A6-F0EF-44EE-8387-1E6CEBE3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B3BC-E3CF-4022-A500-A2A1CA31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8A6F-A25A-4A82-BBC9-C20A21AA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771C-8DC8-44DC-B0A9-190E34A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EB39-21AB-4570-AE46-4A20048D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7BB-0AA6-48D1-81A4-29162FC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48E9-A5C8-4C83-B809-0D984F13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7655-7B4A-41AF-B7A9-BE24570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60F4-D7AB-4847-8610-A3263C83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A860-A7A1-41A5-AE63-0C3BF8A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716B-D9BC-4BA8-AB19-D4D469C6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1CCC-5F51-4A9B-A983-2CC00C3A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7D10-E922-471B-BBB1-DB02CC5A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0681-1FEE-4898-87FA-54C063E4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C42C-BCC4-47D2-ACCC-8B92A194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BEED-C900-43B3-8FB8-5F694D9A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90D-78D7-459A-8F27-253D582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FB45-E473-4C6C-95FB-073725AB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521E-B4FB-4B94-97AC-C84F7854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8B05-87CD-4558-979C-89AD2E52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22EC-BBE2-41EA-A7EB-B19E17F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F2F0-C353-4124-BBAD-C6708CC7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9585-956E-493D-A397-75254534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F2AA1-25CF-44BD-964E-DFFFA55C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6369-245E-4592-B93C-4126DCD0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C48D-12E1-4A43-9630-E509CB5F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5A2F8-F918-43AE-A20D-BCD9E341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936-404F-4CB0-9F27-893ED550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F765-6908-472C-B380-A754CE7B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E15E-27BD-4209-931A-3873501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8633B-075E-470B-AC14-33F5BDB9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C232-D834-4CC0-A09D-A7893B21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96FB-ACC3-4F1F-ACC6-341D2E26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35DCF-E8CB-4C00-AF45-8468E5D5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23CE9-C3FF-4548-AA84-DE90884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3F03-DAFE-4FF6-8D19-24A03ECC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E252-5962-4B99-B7B2-D6F18B93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ADF60-EC47-4FEE-BA6F-BD57F3E6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E7E-C77C-4124-9C70-96182BFE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099F6-5E92-490A-ACD1-1B2FD7D1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07C8C-6611-4D27-B057-FFE3BD09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3932A-8ECA-44C5-B259-ECE83754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2A51-9748-405E-BA80-F45606FA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247DE-50B8-41AE-B163-FE5B35E1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F263-1BDB-4B2B-B1BD-26B8178E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D6110-EF82-4DF7-8CD6-BFC6DB7C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21D17-FAEA-4D7D-A879-376E8E3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EC0B1-2054-4C0E-8D69-8EFE47B9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1509-281A-49CF-8CD6-C6C75E0A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0B9-D23D-46DF-A343-40B32CB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9225-2BE7-4BCD-A89F-6DC0D10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4915E-8E0F-4A36-9346-BE7BFCE8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CC89-C4C9-4829-9980-6FEFD02D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A4D97-492C-46BC-847F-6A512430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27D5C-2853-4621-81C6-89A4BE02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43A2A-511B-4368-94ED-B7A82B07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78850-AAC2-4905-AB95-A81FB274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E057-7632-413E-A008-2430786B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F20A-3C04-4E04-98C7-13933E97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3803B-FEC9-4251-B98B-58397B22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956-88B7-4692-8D1A-4C740B4E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F905-72A5-4F7D-8B98-D4541EF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C6413-A607-4ED9-8734-77E1A3D6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A9DE4-828A-498C-9C2B-4BF218A5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6A98-80CC-4CC5-AB51-61A99BCD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ECB5-5114-4B2B-B276-37C880F7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0BB82-CDB1-4FD9-B12C-641E63BF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45071-A3B3-4E40-A7F5-FA4FA7ED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8EFF-356D-4937-A321-9177E592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42736-5AFC-42DB-BA27-DA6615BF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15DDD-37A7-4D57-8622-87F94FEE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192-BB4F-4DA9-8A90-3D04776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49DBD-1052-472A-AA6A-94583BD5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0246A-5A74-4BF5-9F13-6EC0BDB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856D1-371A-4532-A445-F5744BF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14541-4683-4C5B-BFD5-7DF6FFA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D85FA-DD3B-4388-834C-67DEFB7B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A84DE-EF53-491A-A95A-19681888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3E888-81BF-45F2-8CA5-E0C4AB43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BE686-1723-452C-BB23-896C7F59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525B4-A424-41A3-AA55-970FA9D7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7D025-288D-4539-8E20-3EA018F9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769-B666-4647-9578-68E2C5A4A4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DD63-A9BC-4EFE-959F-85D4420AA862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406B-BABE-400C-A8C2-1340641FD516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0528-2652-4F92-8770-6C132DA35D9A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D7F-2472-4C0C-8B9B-42B66D271BEE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8631-6128-4E5E-8647-F6EFF974A1B8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6677-787F-479B-AA26-0F636FD0D7E8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EE36-963E-4267-A2F7-D47F8E8F770F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0F14-ED7E-4369-9DE7-440E6ADF3057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75F0-4639-41F0-B22B-734D09693D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4C83-8B61-4511-9069-46BC5B435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09D-A197-453D-B326-EA8B3FA4B847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C339-AE7A-4C1C-9D9E-449A80BD0D23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85AC-CC38-4F1A-B450-0BED4E5FE5AA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8A03-FB02-47CC-B6CB-F39C959FEC4A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1D75-A1C1-4DEA-B98F-5E35DE147E8B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F3A5-4365-4FA3-B186-7DF325BACE4D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DBC6-8A45-430F-8E2F-79CB1ED30D7C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F545-0110-493B-9AE7-37471EF23241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5C99-EED0-49EC-BB0E-D036602371F3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7A5-7AE0-4030-9426-A98ADB0EF1B9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58C7-0B12-4985-96B3-AC647569FFB6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1FCA-AB66-40A9-BBC6-4C6257E21F16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2104-5583-4349-ADC4-C9F701692807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D9F6-690A-4A93-8B57-8CB31677F6B6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-182520" y="-108000"/>
            <a:ext cx="12519000" cy="729144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5041800" y="2374920"/>
            <a:ext cx="7918560" cy="5238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017040" y="1873080"/>
            <a:ext cx="231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花 季</a:t>
            </a:r>
            <a:r>
              <a:rPr b="1" lang="zh-CN" sz="40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·</a:t>
            </a:r>
            <a:r>
              <a:rPr b="1" lang="zh-CN" sz="40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雨 季 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6498720" y="2479680"/>
            <a:ext cx="47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Luna Bar"/>
              </a:rPr>
              <a:t>b e   i n   f u l l   b l o s s o m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9139320" y="2117880"/>
            <a:ext cx="20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献 给 我 们 终 将 逝 去 的 青 春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5386320" y="2971800"/>
            <a:ext cx="7421760" cy="149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8" descr="玫瑰花"/>
          <p:cNvPicPr/>
          <p:nvPr/>
        </p:nvPicPr>
        <p:blipFill>
          <a:blip r:embed="rId1"/>
          <a:stretch/>
        </p:blipFill>
        <p:spPr>
          <a:xfrm>
            <a:off x="4098960" y="1511280"/>
            <a:ext cx="1841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-17640" y="-23760"/>
            <a:ext cx="12238200" cy="706896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-122400" y="946080"/>
            <a:ext cx="6221520" cy="7444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-81000" y="1741320"/>
            <a:ext cx="6159600" cy="1144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2790720" y="1062000"/>
            <a:ext cx="278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Luna Bar"/>
              </a:rPr>
              <a:t>content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目录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6" descr="meigui2"/>
          <p:cNvPicPr/>
          <p:nvPr/>
        </p:nvPicPr>
        <p:blipFill>
          <a:blip r:embed="rId1"/>
          <a:stretch/>
        </p:blipFill>
        <p:spPr>
          <a:xfrm>
            <a:off x="4761000" y="947880"/>
            <a:ext cx="2036520" cy="16984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6465960" y="2679840"/>
            <a:ext cx="16398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5050"/>
                </a:solidFill>
                <a:latin typeface="Luna Bar"/>
              </a:rPr>
              <a:t>Simple</a:t>
            </a: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5050"/>
                </a:solidFill>
                <a:latin typeface="Luna Bar"/>
              </a:rPr>
              <a:t>powerful</a:t>
            </a: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5050"/>
                </a:solidFill>
                <a:latin typeface="Luna Bar"/>
              </a:rPr>
              <a:t> </a:t>
            </a:r>
            <a:r>
              <a:rPr b="0" lang="zh-CN" sz="3100" spc="-1" strike="noStrike">
                <a:solidFill>
                  <a:srgbClr val="ff5050"/>
                </a:solidFill>
                <a:latin typeface="Luna Bar"/>
              </a:rPr>
              <a:t>free</a:t>
            </a: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8305920" y="2643120"/>
            <a:ext cx="4111560" cy="25970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8271000" y="2779560"/>
            <a:ext cx="176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迷你简幼线"/>
              </a:rPr>
              <a:t>简  单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迷你简幼线"/>
              </a:rPr>
              <a:t>充  满  力  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迷你简幼线"/>
              </a:rPr>
              <a:t>自  由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8177040" y="2641680"/>
            <a:ext cx="76320" cy="260496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11"/>
          <p:cNvSpPr/>
          <p:nvPr/>
        </p:nvSpPr>
        <p:spPr>
          <a:xfrm>
            <a:off x="3092400" y="2662200"/>
            <a:ext cx="536760" cy="55872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3360600" y="3219480"/>
            <a:ext cx="0" cy="68724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13"/>
          <p:cNvSpPr/>
          <p:nvPr/>
        </p:nvSpPr>
        <p:spPr>
          <a:xfrm flipH="1">
            <a:off x="3033720" y="3884760"/>
            <a:ext cx="326880" cy="5349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3370320" y="3908520"/>
            <a:ext cx="326880" cy="5349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5"/>
          <p:cNvSpPr/>
          <p:nvPr/>
        </p:nvSpPr>
        <p:spPr>
          <a:xfrm>
            <a:off x="3644640" y="2589120"/>
            <a:ext cx="104328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5050"/>
                </a:solidFill>
                <a:latin typeface="Calibri"/>
              </a:rPr>
              <a:t>♀</a:t>
            </a:r>
            <a:endParaRPr b="1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Line 16"/>
          <p:cNvSpPr/>
          <p:nvPr/>
        </p:nvSpPr>
        <p:spPr>
          <a:xfrm flipH="1">
            <a:off x="2987640" y="3197160"/>
            <a:ext cx="372960" cy="77940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3382920" y="3232080"/>
            <a:ext cx="370080" cy="8035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2779560" y="4443480"/>
            <a:ext cx="1967040" cy="144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3155040" y="4429080"/>
            <a:ext cx="1211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青春</a:t>
            </a:r>
            <a:r>
              <a:rPr b="1" lang="zh-CN" sz="18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=1+1=2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青春有可能是两个人走过的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-57240" y="-47520"/>
            <a:ext cx="12385800" cy="706896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5076720" y="2322360"/>
            <a:ext cx="1152720" cy="5828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6229440" y="2333520"/>
            <a:ext cx="1152360" cy="5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5397840" y="2292480"/>
            <a:ext cx="16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迷你简幼线"/>
              </a:rPr>
              <a:t>简 单 </a:t>
            </a:r>
            <a:r>
              <a:rPr b="1" lang="zh-CN" sz="3600" spc="-1" strike="noStrike">
                <a:solidFill>
                  <a:srgbClr val="ff5050"/>
                </a:solidFill>
                <a:latin typeface="Calibri"/>
                <a:ea typeface="迷你简幼线"/>
              </a:rPr>
              <a:t>青 春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4348440" y="29462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Luna Bar"/>
              </a:rPr>
              <a:t>l i f e   i s   s o   s i m p l e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-235080" y="-14400"/>
            <a:ext cx="12439800" cy="621036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-266760" y="6086520"/>
            <a:ext cx="12739680" cy="1184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4" descr="玫瑰花"/>
          <p:cNvPicPr/>
          <p:nvPr/>
        </p:nvPicPr>
        <p:blipFill>
          <a:blip r:embed="rId1"/>
          <a:stretch/>
        </p:blipFill>
        <p:spPr>
          <a:xfrm>
            <a:off x="3328920" y="1805040"/>
            <a:ext cx="1841400" cy="25304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4622760" y="1920960"/>
            <a:ext cx="549360" cy="20858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4702680" y="1835280"/>
            <a:ext cx="3924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简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单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青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春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6128280" y="1978200"/>
            <a:ext cx="2527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■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家和学校两点一线的生活以外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,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和朋友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KTV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、出游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打桌球、看电影，做一切自己想做的事。偶尔也会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安静的约人在图书馆看书。为某一新闻或小说而吵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得不可开交。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Calibri"/>
              </a:rPr>
              <a:t>■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最容易冲动、也会冷静下来开始故作清高的理智。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■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简单肆意、尽情嬉闹、这是青春给我们的最大权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利。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8132760" y="6134040"/>
            <a:ext cx="2312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Luna Bar"/>
              </a:rPr>
              <a:t>b e   i n   f u l l   b l o s s o m 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9" descr="meigui2"/>
          <p:cNvPicPr/>
          <p:nvPr/>
        </p:nvPicPr>
        <p:blipFill>
          <a:blip r:embed="rId2"/>
          <a:stretch/>
        </p:blipFill>
        <p:spPr>
          <a:xfrm>
            <a:off x="10574280" y="5197320"/>
            <a:ext cx="20368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4992840" y="2322360"/>
            <a:ext cx="1152360" cy="5828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143760" y="2320920"/>
            <a:ext cx="1153800" cy="58248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5313600" y="2292480"/>
            <a:ext cx="16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迷你简幼线"/>
              </a:rPr>
              <a:t>谢 谢 </a:t>
            </a:r>
            <a:r>
              <a:rPr b="1" lang="zh-CN" sz="3600" spc="-1" strike="noStrike">
                <a:solidFill>
                  <a:srgbClr val="ff5050"/>
                </a:solidFill>
                <a:latin typeface="Calibri"/>
                <a:ea typeface="迷你简幼线"/>
              </a:rPr>
              <a:t>观 赏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4641840" y="294336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050"/>
                </a:solidFill>
                <a:latin typeface="Luna Bar"/>
                <a:ea typeface="迷你简幼线"/>
              </a:rPr>
              <a:t>b e   i n   f u l l   b l o s s o m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6"/>
          <p:cNvSpPr/>
          <p:nvPr/>
        </p:nvSpPr>
        <p:spPr>
          <a:xfrm flipV="1">
            <a:off x="-293400" y="3420720"/>
            <a:ext cx="12573000" cy="348120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8T04:47:33Z</dcterms:modified>
  <cp:revision>1</cp:revision>
  <dc:subject/>
  <dc:title>PowerPoint 演示文稿</dc:title>
</cp:coreProperties>
</file>